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E176-1E17-49D5-A43C-923AA1DD9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AA45-BD8E-46AC-8AC4-F45F1064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5FDF-8531-4D64-8D0B-6A2A6B464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03E5-58FB-4636-8C5C-511D4B696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A38F-F821-4155-9A1F-E768B170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9BB9-8FC3-40A3-9BE4-3B9D1326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49EC-93C1-42EA-A06B-6AC01C9D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57E4-DF85-4601-8630-4A940BF1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B144-E90F-4C89-952A-3055C292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B677-0D0E-4C85-B482-9C38E02E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6EC8-EF04-4068-AFC8-063D35B6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49A8-0DD7-4B08-9F61-E1CEA40D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EFF3-3276-4EEE-B528-F91B4B95ACF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Top-Down Pars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2743200" y="30481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876920" y="38098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09880" y="30481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09680" y="28195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114800" y="6019920"/>
            <a:ext cx="990720" cy="685800"/>
            <a:chOff x="4114800" y="6019920"/>
            <a:chExt cx="990720" cy="685800"/>
          </a:xfrm>
        </p:grpSpPr>
        <p:sp>
          <p:nvSpPr>
            <p:cNvPr id="418" name=""/>
            <p:cNvSpPr/>
            <p:nvPr/>
          </p:nvSpPr>
          <p:spPr>
            <a:xfrm>
              <a:off x="4114800" y="6019920"/>
              <a:ext cx="99072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beg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91120" y="6400800"/>
              <a:ext cx="838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5257800" y="6019920"/>
            <a:ext cx="914400" cy="685800"/>
            <a:chOff x="5257800" y="6019920"/>
            <a:chExt cx="914400" cy="685800"/>
          </a:xfrm>
        </p:grpSpPr>
        <p:sp>
          <p:nvSpPr>
            <p:cNvPr id="421" name=""/>
            <p:cNvSpPr/>
            <p:nvPr/>
          </p:nvSpPr>
          <p:spPr>
            <a:xfrm>
              <a:off x="5257800" y="6019920"/>
              <a:ext cx="9144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34120" y="640080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324480" y="6019920"/>
            <a:ext cx="685800" cy="685800"/>
            <a:chOff x="6324480" y="6019920"/>
            <a:chExt cx="685800" cy="685800"/>
          </a:xfrm>
        </p:grpSpPr>
        <p:sp>
          <p:nvSpPr>
            <p:cNvPr id="424" name=""/>
            <p:cNvSpPr/>
            <p:nvPr/>
          </p:nvSpPr>
          <p:spPr>
            <a:xfrm>
              <a:off x="6324480" y="6019920"/>
              <a:ext cx="6858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400800" y="640080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7162920" y="6019920"/>
            <a:ext cx="304560" cy="685800"/>
            <a:chOff x="7162920" y="6019920"/>
            <a:chExt cx="304560" cy="685800"/>
          </a:xfrm>
        </p:grpSpPr>
        <p:sp>
          <p:nvSpPr>
            <p:cNvPr id="427" name=""/>
            <p:cNvSpPr/>
            <p:nvPr/>
          </p:nvSpPr>
          <p:spPr>
            <a:xfrm>
              <a:off x="7162920" y="6019920"/>
              <a:ext cx="30456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238880" y="6400800"/>
              <a:ext cx="1526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7620120" y="6019920"/>
            <a:ext cx="838080" cy="685800"/>
            <a:chOff x="7620120" y="6019920"/>
            <a:chExt cx="838080" cy="685800"/>
          </a:xfrm>
        </p:grpSpPr>
        <p:sp>
          <p:nvSpPr>
            <p:cNvPr id="430" name=""/>
            <p:cNvSpPr/>
            <p:nvPr/>
          </p:nvSpPr>
          <p:spPr>
            <a:xfrm>
              <a:off x="7620120" y="6019920"/>
              <a:ext cx="83808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6080" y="640080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0" y="5181480"/>
            <a:ext cx="33526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sing Based on LL Table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4920" y="1143000"/>
            <a:ext cx="45720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&lt;prog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2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3: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5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34120" y="4191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962520" y="1143000"/>
            <a:ext cx="472428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6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7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9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0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4114800" y="4495680"/>
            <a:ext cx="3581280" cy="1602720"/>
            <a:chOff x="4114800" y="4495680"/>
            <a:chExt cx="3581280" cy="1602720"/>
          </a:xfrm>
        </p:grpSpPr>
        <p:sp>
          <p:nvSpPr>
            <p:cNvPr id="438" name=""/>
            <p:cNvSpPr/>
            <p:nvPr/>
          </p:nvSpPr>
          <p:spPr>
            <a:xfrm>
              <a:off x="6095880" y="4572000"/>
              <a:ext cx="381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172200" y="45720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14800" y="56386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beg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4571640" y="4572000"/>
              <a:ext cx="152388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57800" y="4495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334120" y="4952880"/>
            <a:ext cx="3504960" cy="1145520"/>
            <a:chOff x="5334120" y="4952880"/>
            <a:chExt cx="3504960" cy="1145520"/>
          </a:xfrm>
        </p:grpSpPr>
        <p:sp>
          <p:nvSpPr>
            <p:cNvPr id="444" name=""/>
            <p:cNvSpPr/>
            <p:nvPr/>
          </p:nvSpPr>
          <p:spPr>
            <a:xfrm>
              <a:off x="6934320" y="5638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34120" y="49528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a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315200" y="52578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477120" y="49528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58000" y="49528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6857640" y="4952880"/>
              <a:ext cx="762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77120" y="4952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6248520" y="5486400"/>
            <a:ext cx="990360" cy="612000"/>
            <a:chOff x="6248520" y="5486400"/>
            <a:chExt cx="990360" cy="612000"/>
          </a:xfrm>
        </p:grpSpPr>
        <p:sp>
          <p:nvSpPr>
            <p:cNvPr id="452" name=""/>
            <p:cNvSpPr/>
            <p:nvPr/>
          </p:nvSpPr>
          <p:spPr>
            <a:xfrm>
              <a:off x="6248520" y="5638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2940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53080" y="5486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7696080" y="5486400"/>
            <a:ext cx="1067040" cy="612000"/>
            <a:chOff x="7696080" y="5486400"/>
            <a:chExt cx="1067040" cy="612000"/>
          </a:xfrm>
        </p:grpSpPr>
        <p:sp>
          <p:nvSpPr>
            <p:cNvPr id="456" name=""/>
            <p:cNvSpPr/>
            <p:nvPr/>
          </p:nvSpPr>
          <p:spPr>
            <a:xfrm>
              <a:off x="7696080" y="5638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7732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077320" y="5486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181480" y="5257800"/>
            <a:ext cx="2210040" cy="840600"/>
            <a:chOff x="5181480" y="5257800"/>
            <a:chExt cx="2210040" cy="840600"/>
          </a:xfrm>
        </p:grpSpPr>
        <p:sp>
          <p:nvSpPr>
            <p:cNvPr id="460" name=""/>
            <p:cNvSpPr/>
            <p:nvPr/>
          </p:nvSpPr>
          <p:spPr>
            <a:xfrm>
              <a:off x="6019920" y="5334120"/>
              <a:ext cx="2286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67280" y="52578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item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181480" y="56386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5714640" y="53341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7150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609480" y="42670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urce prog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33520" y="47242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gin write 25;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5486400"/>
            <a:ext cx="259056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600200" y="5105520"/>
            <a:ext cx="9144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800600" y="37339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733920" y="29718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0988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733920" y="32767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666880" y="29718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33720" y="27432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2514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2120" y="2743200"/>
            <a:ext cx="1447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685800" y="2514600"/>
            <a:ext cx="7772400" cy="1600200"/>
            <a:chOff x="685800" y="2514600"/>
            <a:chExt cx="7772400" cy="1600200"/>
          </a:xfrm>
        </p:grpSpPr>
        <p:sp>
          <p:nvSpPr>
            <p:cNvPr id="479" name=""/>
            <p:cNvSpPr/>
            <p:nvPr/>
          </p:nvSpPr>
          <p:spPr>
            <a:xfrm>
              <a:off x="20574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5909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240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6576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911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7242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578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913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244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8580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3915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9246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4582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685800" y="2819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5800" y="4114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057400" y="27432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24080" y="327672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24080" y="297180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657600" y="32767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65760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91120" y="32767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9112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91120" y="37339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724280" y="373392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48520" y="35053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35053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81080" y="243828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beg  end   rd   wr    id   int     ,      (       )      ;     :=   ad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L Grammars: Useful Transformat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ly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FG are stronger that LL gramm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19520" y="1752480"/>
            <a:ext cx="4190760" cy="14479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181480" y="3276720"/>
            <a:ext cx="34290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mily of languages generated b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F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29400" y="2895480"/>
            <a:ext cx="15228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971800" y="1981080"/>
            <a:ext cx="22860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3276720"/>
            <a:ext cx="38862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mily of languages generated b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L gramm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3123720" y="281952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1600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41911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om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FGs can be converted to equivalent LL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480" y="4572000"/>
            <a:ext cx="7925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asic conversio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ctor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ft recursion re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3124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5972040"/>
            <a:ext cx="853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A ru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the form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called a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eft recursive rul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6019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or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1440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837720" y="388620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143000" y="38862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9480" y="3962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86200" y="35812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219320" y="3962520"/>
            <a:ext cx="533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66688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2590920" y="388620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895480" y="38862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362320" y="3962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971800" y="396252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523880" y="38098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86400" y="3048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5409720" y="350532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15000" y="35053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181480" y="3581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15000" y="403848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9343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467480" y="403848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172200" y="34290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15000" y="3581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467480" y="3581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69608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94360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33520" y="4572000"/>
            <a:ext cx="3429000" cy="1547280"/>
            <a:chOff x="533520" y="4572000"/>
            <a:chExt cx="3429000" cy="1547280"/>
          </a:xfrm>
        </p:grpSpPr>
        <p:sp>
          <p:nvSpPr>
            <p:cNvPr id="553" name=""/>
            <p:cNvSpPr/>
            <p:nvPr/>
          </p:nvSpPr>
          <p:spPr>
            <a:xfrm>
              <a:off x="533520" y="45720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520" y="5257800"/>
              <a:ext cx="342900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9480" y="30481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85800" y="1143000"/>
            <a:ext cx="784872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dea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place ru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2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2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new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238880" y="3048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7162920" y="350532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467480" y="35053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3886200" y="5105520"/>
            <a:ext cx="5257800" cy="1245240"/>
            <a:chOff x="3886200" y="5105520"/>
            <a:chExt cx="5257800" cy="1245240"/>
          </a:xfrm>
        </p:grpSpPr>
        <p:sp>
          <p:nvSpPr>
            <p:cNvPr id="562" name=""/>
            <p:cNvSpPr/>
            <p:nvPr/>
          </p:nvSpPr>
          <p:spPr>
            <a:xfrm>
              <a:off x="3886200" y="5257800"/>
              <a:ext cx="1143000" cy="838080"/>
            </a:xfrm>
            <a:prstGeom prst="rightArrow">
              <a:avLst>
                <a:gd name="adj1" fmla="val 50000"/>
                <a:gd name="adj2" fmla="val 34096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52880" y="5105520"/>
              <a:ext cx="4191120" cy="12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685800" y="12193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 Recursion Repla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04812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905120" y="3809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91120" y="31240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981080" y="3124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047760" y="3048120"/>
            <a:ext cx="15228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200400" y="3048120"/>
            <a:ext cx="4572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6002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86000" y="3048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9480" y="2590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85800" y="11430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dea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place ru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y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GB" sz="3000" spc="-1" strike="noStrike">
                <a:solidFill>
                  <a:srgbClr val="ff9933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new nontermina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533520" y="4191120"/>
            <a:ext cx="2133360" cy="2664000"/>
            <a:chOff x="533520" y="4191120"/>
            <a:chExt cx="2133360" cy="2664000"/>
          </a:xfrm>
        </p:grpSpPr>
        <p:sp>
          <p:nvSpPr>
            <p:cNvPr id="581" name=""/>
            <p:cNvSpPr/>
            <p:nvPr/>
          </p:nvSpPr>
          <p:spPr>
            <a:xfrm>
              <a:off x="533520" y="419112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480" y="4622760"/>
              <a:ext cx="2057400" cy="22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+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*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2133720" y="3581280"/>
            <a:ext cx="15228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574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1981080" y="35812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676520" y="3352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74320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95480" y="327672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9718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2742840" y="3276720"/>
            <a:ext cx="15228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1460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5790960" y="3048120"/>
            <a:ext cx="7596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943600" y="2819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162920" y="3733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864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324480" y="2895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6095880" y="3276720"/>
            <a:ext cx="763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8672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 flipV="1">
            <a:off x="5867280" y="3047760"/>
            <a:ext cx="1526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638680" y="2590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816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24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0" y="2971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010280" y="3429000"/>
            <a:ext cx="763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238880" y="32004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7391160" y="3657600"/>
            <a:ext cx="759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flipV="1">
            <a:off x="7086240" y="3429000"/>
            <a:ext cx="2286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20120" y="3429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 flipV="1">
            <a:off x="7467120" y="3657600"/>
            <a:ext cx="2286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622640" y="3733920"/>
            <a:ext cx="34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9933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7797960" y="3809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133720" y="4724280"/>
            <a:ext cx="6629400" cy="2134080"/>
            <a:chOff x="2133720" y="4724280"/>
            <a:chExt cx="6629400" cy="2134080"/>
          </a:xfrm>
        </p:grpSpPr>
        <p:sp>
          <p:nvSpPr>
            <p:cNvPr id="613" name=""/>
            <p:cNvSpPr/>
            <p:nvPr/>
          </p:nvSpPr>
          <p:spPr>
            <a:xfrm>
              <a:off x="2133720" y="4724280"/>
              <a:ext cx="228600" cy="6098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133720" y="5410080"/>
              <a:ext cx="228600" cy="6098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67080" y="4800600"/>
              <a:ext cx="4496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+T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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267080" y="5486400"/>
              <a:ext cx="4267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*F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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819520" y="4800600"/>
              <a:ext cx="990360" cy="457200"/>
            </a:xfrm>
            <a:prstGeom prst="rightArrow">
              <a:avLst>
                <a:gd name="adj1" fmla="val 50000"/>
                <a:gd name="adj2" fmla="val 5415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819520" y="5486400"/>
              <a:ext cx="990360" cy="457200"/>
            </a:xfrm>
            <a:prstGeom prst="rightArrow">
              <a:avLst>
                <a:gd name="adj1" fmla="val 50000"/>
                <a:gd name="adj2" fmla="val 5415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267080" y="6051600"/>
              <a:ext cx="175284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37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: Introduc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480" y="2133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mplification of this pa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33412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4360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095880" y="41148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5880" y="4114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257800" y="47242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867280" y="472428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629400" y="47242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5562720" y="4572000"/>
            <a:ext cx="7617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6171840" y="457200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324480" y="457200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3244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86000" y="3809880"/>
            <a:ext cx="32004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952880" y="571500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809880" y="5715000"/>
            <a:ext cx="11430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91120" y="5715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572000" y="5715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191120" y="60199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572000" y="60199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35440" y="3886200"/>
            <a:ext cx="3848040" cy="1828800"/>
          </a:xfrm>
          <a:custGeom>
            <a:avLst/>
            <a:gdLst/>
            <a:ahLst/>
            <a:rect l="l" t="t" r="r" b="b"/>
            <a:pathLst>
              <a:path w="2424" h="1152">
                <a:moveTo>
                  <a:pt x="1080" y="0"/>
                </a:moveTo>
                <a:lnTo>
                  <a:pt x="0" y="1152"/>
                </a:lnTo>
                <a:lnTo>
                  <a:pt x="704" y="1152"/>
                </a:lnTo>
                <a:lnTo>
                  <a:pt x="848" y="888"/>
                </a:lnTo>
                <a:lnTo>
                  <a:pt x="848" y="568"/>
                </a:lnTo>
                <a:lnTo>
                  <a:pt x="1416" y="424"/>
                </a:lnTo>
                <a:lnTo>
                  <a:pt x="1416" y="144"/>
                </a:lnTo>
                <a:lnTo>
                  <a:pt x="2424" y="144"/>
                </a:lnTo>
                <a:lnTo>
                  <a:pt x="1360" y="0"/>
                </a:lnTo>
                <a:lnTo>
                  <a:pt x="1080" y="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42900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4290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553080" y="4114800"/>
            <a:ext cx="11430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934320" y="41148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315200" y="41148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934320" y="44197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315200" y="44197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629400" y="4648320"/>
            <a:ext cx="1066680" cy="0"/>
          </a:xfrm>
          <a:prstGeom prst="line">
            <a:avLst/>
          </a:prstGeom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511960" y="4648320"/>
            <a:ext cx="2133360" cy="1358640"/>
          </a:xfrm>
          <a:custGeom>
            <a:avLst/>
            <a:gdLst/>
            <a:ahLst/>
            <a:rect l="l" t="t" r="r" b="b"/>
            <a:pathLst>
              <a:path w="1344" h="856">
                <a:moveTo>
                  <a:pt x="1032" y="0"/>
                </a:moveTo>
                <a:cubicBezTo>
                  <a:pt x="1075" y="59"/>
                  <a:pt x="1280" y="233"/>
                  <a:pt x="1296" y="360"/>
                </a:cubicBezTo>
                <a:cubicBezTo>
                  <a:pt x="1312" y="487"/>
                  <a:pt x="1344" y="677"/>
                  <a:pt x="1128" y="760"/>
                </a:cubicBezTo>
                <a:cubicBezTo>
                  <a:pt x="912" y="843"/>
                  <a:pt x="235" y="836"/>
                  <a:pt x="0" y="856"/>
                </a:cubicBezTo>
              </a:path>
            </a:pathLst>
          </a:custGeom>
          <a:noFill/>
          <a:ln w="10152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1143000"/>
            <a:ext cx="8458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ru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ion of the left recursion introduc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rules often make the language specification clea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9480" y="2514600"/>
            <a:ext cx="815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ume that every input string of tokens ends with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cts as a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nd mark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3276720"/>
            <a:ext cx="4114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ain problem with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rule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257800" y="5410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410080" y="52578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019920" y="52578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781680" y="52578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867280" y="541008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324480" y="5334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629400" y="5410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09480" y="4800600"/>
            <a:ext cx="350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ybe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85800" y="6324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480" y="6248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e must define other se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di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rammar for Arithmetical Expression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5800" y="1143000"/>
            <a:ext cx="777240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6212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85800" y="46483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676520" y="5105520"/>
            <a:ext cx="609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*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 Emp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" y="2057400"/>
            <a:ext cx="7788240" cy="140940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{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if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2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 </a:t>
            </a: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, whe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57200" y="1143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523880" y="11430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that include </a:t>
            </a:r>
            <a:r>
              <a:rPr b="1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 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derives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mpty string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; otherwise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emp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09480" y="3581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2743200" y="3581280"/>
            <a:ext cx="2819520" cy="581400"/>
            <a:chOff x="2743200" y="3581280"/>
            <a:chExt cx="2819520" cy="581400"/>
          </a:xfrm>
        </p:grpSpPr>
        <p:sp>
          <p:nvSpPr>
            <p:cNvPr id="681" name=""/>
            <p:cNvSpPr/>
            <p:nvPr/>
          </p:nvSpPr>
          <p:spPr>
            <a:xfrm>
              <a:off x="2743200" y="35812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65760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26708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2920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581280" y="35812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191120" y="35812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52880" y="35812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648320" y="3581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3040920" y="5181480"/>
            <a:ext cx="314964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3110040" y="5740560"/>
            <a:ext cx="3352680" cy="885960"/>
            <a:chOff x="3110040" y="5740560"/>
            <a:chExt cx="3352680" cy="885960"/>
          </a:xfrm>
        </p:grpSpPr>
        <p:sp>
          <p:nvSpPr>
            <p:cNvPr id="691" name=""/>
            <p:cNvSpPr/>
            <p:nvPr/>
          </p:nvSpPr>
          <p:spPr>
            <a:xfrm>
              <a:off x="3110040" y="604512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81280" y="5740560"/>
              <a:ext cx="42192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3581280" y="4114800"/>
            <a:ext cx="648000" cy="733680"/>
            <a:chOff x="3581280" y="4114800"/>
            <a:chExt cx="648000" cy="733680"/>
          </a:xfrm>
        </p:grpSpPr>
        <p:sp>
          <p:nvSpPr>
            <p:cNvPr id="694" name=""/>
            <p:cNvSpPr/>
            <p:nvPr/>
          </p:nvSpPr>
          <p:spPr>
            <a:xfrm>
              <a:off x="3581280" y="42670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733920" y="4114800"/>
              <a:ext cx="304560" cy="304920"/>
            </a:xfrm>
            <a:prstGeom prst="downArrow">
              <a:avLst>
                <a:gd name="adj1" fmla="val 50000"/>
                <a:gd name="adj2" fmla="val 2503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4191120" y="4114800"/>
            <a:ext cx="647640" cy="733680"/>
            <a:chOff x="4191120" y="4114800"/>
            <a:chExt cx="647640" cy="733680"/>
          </a:xfrm>
        </p:grpSpPr>
        <p:sp>
          <p:nvSpPr>
            <p:cNvPr id="697" name=""/>
            <p:cNvSpPr/>
            <p:nvPr/>
          </p:nvSpPr>
          <p:spPr>
            <a:xfrm>
              <a:off x="4343400" y="4114800"/>
              <a:ext cx="30492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191120" y="42670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4952880" y="4114800"/>
            <a:ext cx="648000" cy="733680"/>
            <a:chOff x="4952880" y="4114800"/>
            <a:chExt cx="648000" cy="733680"/>
          </a:xfrm>
        </p:grpSpPr>
        <p:sp>
          <p:nvSpPr>
            <p:cNvPr id="700" name=""/>
            <p:cNvSpPr/>
            <p:nvPr/>
          </p:nvSpPr>
          <p:spPr>
            <a:xfrm>
              <a:off x="5105520" y="4114800"/>
              <a:ext cx="304560" cy="304920"/>
            </a:xfrm>
            <a:prstGeom prst="downArrow">
              <a:avLst>
                <a:gd name="adj1" fmla="val 50000"/>
                <a:gd name="adj2" fmla="val 2503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952880" y="42670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4648320" y="4191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733920" y="4724280"/>
            <a:ext cx="1676160" cy="581400"/>
            <a:chOff x="3733920" y="4724280"/>
            <a:chExt cx="1676160" cy="581400"/>
          </a:xfrm>
        </p:grpSpPr>
        <p:sp>
          <p:nvSpPr>
            <p:cNvPr id="704" name=""/>
            <p:cNvSpPr/>
            <p:nvPr/>
          </p:nvSpPr>
          <p:spPr>
            <a:xfrm rot="5400000">
              <a:off x="4495680" y="3962520"/>
              <a:ext cx="152640" cy="16761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191120" y="4724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533520" y="114300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33520" y="2133720"/>
            <a:ext cx="8381880" cy="41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 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n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685800" y="19051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1066680"/>
            <a:ext cx="7772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caus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9480" y="144792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 because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5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241880" y="4178160"/>
            <a:ext cx="1739880" cy="1727280"/>
          </a:xfrm>
          <a:custGeom>
            <a:avLst/>
            <a:gdLst/>
            <a:ahLst/>
            <a:rect l="l" t="t" r="r" b="b"/>
            <a:pathLst>
              <a:path w="1096" h="1088">
                <a:moveTo>
                  <a:pt x="352" y="1088"/>
                </a:moveTo>
                <a:cubicBezTo>
                  <a:pt x="461" y="1061"/>
                  <a:pt x="904" y="1073"/>
                  <a:pt x="1000" y="932"/>
                </a:cubicBezTo>
                <a:cubicBezTo>
                  <a:pt x="1096" y="791"/>
                  <a:pt x="1095" y="395"/>
                  <a:pt x="928" y="240"/>
                </a:cubicBezTo>
                <a:cubicBezTo>
                  <a:pt x="761" y="85"/>
                  <a:pt x="193" y="50"/>
                  <a:pt x="0" y="0"/>
                </a:cubicBezTo>
              </a:path>
            </a:pathLst>
          </a:custGeom>
          <a:noFill/>
          <a:ln w="76320">
            <a:solidFill>
              <a:srgbClr val="ff66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4191120" y="3733920"/>
            <a:ext cx="2666880" cy="489960"/>
            <a:chOff x="4191120" y="3733920"/>
            <a:chExt cx="2666880" cy="489960"/>
          </a:xfrm>
        </p:grpSpPr>
        <p:sp>
          <p:nvSpPr>
            <p:cNvPr id="718" name=""/>
            <p:cNvSpPr/>
            <p:nvPr/>
          </p:nvSpPr>
          <p:spPr>
            <a:xfrm>
              <a:off x="4191120" y="3962160"/>
              <a:ext cx="457200" cy="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572000" y="3733920"/>
              <a:ext cx="2286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3581280" y="5029200"/>
            <a:ext cx="2019240" cy="657360"/>
            <a:chOff x="3581280" y="5029200"/>
            <a:chExt cx="2019240" cy="657360"/>
          </a:xfrm>
        </p:grpSpPr>
        <p:grpSp>
          <p:nvGrpSpPr>
            <p:cNvPr id="721" name=""/>
            <p:cNvGrpSpPr/>
            <p:nvPr/>
          </p:nvGrpSpPr>
          <p:grpSpPr>
            <a:xfrm>
              <a:off x="3581280" y="5029200"/>
              <a:ext cx="647640" cy="657360"/>
              <a:chOff x="3581280" y="5029200"/>
              <a:chExt cx="647640" cy="657360"/>
            </a:xfrm>
          </p:grpSpPr>
          <p:sp>
            <p:nvSpPr>
              <p:cNvPr id="722" name=""/>
              <p:cNvSpPr/>
              <p:nvPr/>
            </p:nvSpPr>
            <p:spPr>
              <a:xfrm>
                <a:off x="373356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58128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190760" y="5029200"/>
              <a:ext cx="647640" cy="657360"/>
              <a:chOff x="4190760" y="5029200"/>
              <a:chExt cx="647640" cy="657360"/>
            </a:xfrm>
          </p:grpSpPr>
          <p:sp>
            <p:nvSpPr>
              <p:cNvPr id="725" name=""/>
              <p:cNvSpPr/>
              <p:nvPr/>
            </p:nvSpPr>
            <p:spPr>
              <a:xfrm>
                <a:off x="434304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19076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4952880" y="5029200"/>
              <a:ext cx="647640" cy="657360"/>
              <a:chOff x="4952880" y="5029200"/>
              <a:chExt cx="647640" cy="657360"/>
            </a:xfrm>
          </p:grpSpPr>
          <p:sp>
            <p:nvSpPr>
              <p:cNvPr id="728" name=""/>
              <p:cNvSpPr/>
              <p:nvPr/>
            </p:nvSpPr>
            <p:spPr>
              <a:xfrm>
                <a:off x="510516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95288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4647960" y="50292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3733920" y="5562720"/>
            <a:ext cx="1676160" cy="581400"/>
            <a:chOff x="3733920" y="5562720"/>
            <a:chExt cx="1676160" cy="581400"/>
          </a:xfrm>
        </p:grpSpPr>
        <p:sp>
          <p:nvSpPr>
            <p:cNvPr id="732" name=""/>
            <p:cNvSpPr/>
            <p:nvPr/>
          </p:nvSpPr>
          <p:spPr>
            <a:xfrm rot="5400000">
              <a:off x="4495680" y="4800600"/>
              <a:ext cx="152280" cy="1676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267080" y="5562720"/>
              <a:ext cx="60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609480" y="2590920"/>
            <a:ext cx="7772400" cy="2514600"/>
            <a:chOff x="609480" y="2590920"/>
            <a:chExt cx="7772400" cy="2514600"/>
          </a:xfrm>
        </p:grpSpPr>
        <p:sp>
          <p:nvSpPr>
            <p:cNvPr id="735" name=""/>
            <p:cNvSpPr/>
            <p:nvPr/>
          </p:nvSpPr>
          <p:spPr>
            <a:xfrm>
              <a:off x="609480" y="2590920"/>
              <a:ext cx="7772400" cy="14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 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… 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i="1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9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i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or all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i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= 1,…,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the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6" name=""/>
            <p:cNvGrpSpPr/>
            <p:nvPr/>
          </p:nvGrpSpPr>
          <p:grpSpPr>
            <a:xfrm>
              <a:off x="3581280" y="3809880"/>
              <a:ext cx="1981080" cy="1295640"/>
              <a:chOff x="3581280" y="3809880"/>
              <a:chExt cx="1981080" cy="1295640"/>
            </a:xfrm>
          </p:grpSpPr>
          <p:sp>
            <p:nvSpPr>
              <p:cNvPr id="737" name=""/>
              <p:cNvSpPr/>
              <p:nvPr/>
            </p:nvSpPr>
            <p:spPr>
              <a:xfrm>
                <a:off x="365724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26708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733560" y="380988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733560" y="38098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58128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19076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3885840" y="4297320"/>
                <a:ext cx="763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962160" y="4297320"/>
                <a:ext cx="53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647960" y="45259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02884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95288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962160" y="4297320"/>
                <a:ext cx="1371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9" name=""/>
          <p:cNvSpPr/>
          <p:nvPr/>
        </p:nvSpPr>
        <p:spPr>
          <a:xfrm>
            <a:off x="609480" y="1905120"/>
            <a:ext cx="7925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6781680" y="1219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00400" y="243828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6212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9480" y="2286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638680" y="243828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1480" y="4038480"/>
            <a:ext cx="50569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No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set can be chang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106668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-Down Parsing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6560" y="2286000"/>
            <a:ext cx="3124080" cy="2971800"/>
          </a:xfrm>
          <a:custGeom>
            <a:avLst/>
            <a:gdLst/>
            <a:ahLst/>
            <a:rect l="l" t="t" r="r" b="b"/>
            <a:pathLst>
              <a:path w="1968" h="1872">
                <a:moveTo>
                  <a:pt x="1400" y="904"/>
                </a:moveTo>
                <a:lnTo>
                  <a:pt x="1104" y="904"/>
                </a:lnTo>
                <a:lnTo>
                  <a:pt x="856" y="1872"/>
                </a:lnTo>
                <a:lnTo>
                  <a:pt x="12" y="1872"/>
                </a:lnTo>
                <a:lnTo>
                  <a:pt x="0" y="1857"/>
                </a:lnTo>
                <a:lnTo>
                  <a:pt x="1066" y="0"/>
                </a:lnTo>
                <a:lnTo>
                  <a:pt x="1406" y="0"/>
                </a:lnTo>
                <a:lnTo>
                  <a:pt x="1968" y="1015"/>
                </a:lnTo>
                <a:cubicBezTo>
                  <a:pt x="1890" y="1159"/>
                  <a:pt x="1772" y="1014"/>
                  <a:pt x="1696" y="1048"/>
                </a:cubicBezTo>
                <a:cubicBezTo>
                  <a:pt x="1637" y="1085"/>
                  <a:pt x="1653" y="1216"/>
                  <a:pt x="1616" y="1240"/>
                </a:cubicBezTo>
                <a:cubicBezTo>
                  <a:pt x="1579" y="1264"/>
                  <a:pt x="1508" y="1248"/>
                  <a:pt x="1472" y="1192"/>
                </a:cubicBezTo>
                <a:cubicBezTo>
                  <a:pt x="1436" y="1136"/>
                  <a:pt x="1400" y="956"/>
                  <a:pt x="1400" y="904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1752480"/>
            <a:ext cx="53352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51240" y="3238560"/>
            <a:ext cx="53316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08160" y="52578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6560" y="525780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9376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5096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9376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5096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1680" y="5257800"/>
            <a:ext cx="13730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988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560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988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560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1430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08800">
            <a:off x="2361960" y="3733560"/>
            <a:ext cx="380880" cy="1676160"/>
          </a:xfrm>
          <a:prstGeom prst="downArrow">
            <a:avLst>
              <a:gd name="adj1" fmla="val 50000"/>
              <a:gd name="adj2" fmla="val 1100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4343400"/>
            <a:ext cx="274320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Which 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us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495680" y="1143000"/>
            <a:ext cx="3886200" cy="2781360"/>
            <a:chOff x="4495680" y="1143000"/>
            <a:chExt cx="3886200" cy="2781360"/>
          </a:xfrm>
        </p:grpSpPr>
        <p:sp>
          <p:nvSpPr>
            <p:cNvPr id="62" name=""/>
            <p:cNvSpPr/>
            <p:nvPr/>
          </p:nvSpPr>
          <p:spPr>
            <a:xfrm>
              <a:off x="4495680" y="114300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ic ide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95680" y="16765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86400" y="20574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00800" y="205740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67480" y="20574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344160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0" y="2540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0" y="297180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00800" y="29718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0" y="2540160"/>
              <a:ext cx="144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86400" y="3200400"/>
              <a:ext cx="9144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400800" y="2540160"/>
              <a:ext cx="106668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86400" y="2971800"/>
              <a:ext cx="2895480" cy="4827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86400" y="2540160"/>
              <a:ext cx="289548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00800" y="295920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24280" y="19810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267080" y="1371600"/>
            <a:ext cx="0" cy="4952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952880" y="3429000"/>
            <a:ext cx="3353040" cy="1419480"/>
            <a:chOff x="4952880" y="3429000"/>
            <a:chExt cx="3353040" cy="1419480"/>
          </a:xfrm>
        </p:grpSpPr>
        <p:sp>
          <p:nvSpPr>
            <p:cNvPr id="80" name=""/>
            <p:cNvSpPr/>
            <p:nvPr/>
          </p:nvSpPr>
          <p:spPr>
            <a:xfrm>
              <a:off x="4952880" y="4267080"/>
              <a:ext cx="335304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05720" y="3429000"/>
              <a:ext cx="409320" cy="914400"/>
            </a:xfrm>
            <a:prstGeom prst="downArrow">
              <a:avLst>
                <a:gd name="adj1" fmla="val 50000"/>
                <a:gd name="adj2" fmla="val 5584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4419720" y="548640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19720" y="5105520"/>
            <a:ext cx="4419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ould you construct this table for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F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5943600"/>
            <a:ext cx="236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533520" y="114300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33520" y="2133720"/>
            <a:ext cx="8381880" cy="48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cs-CZ" sz="2900" spc="-1" strike="noStrike" baseline="-33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cs-CZ" sz="2900" spc="-1" strike="noStrike" baseline="-33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-1, wher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add all symbols from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685800" y="19051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09480" y="2590920"/>
            <a:ext cx="586764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… 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cs-CZ" sz="2600" spc="-1" strike="noStrike" baseline="-33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09480" y="106668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 becaus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09480" y="144792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inicializatio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4038120" y="6095880"/>
            <a:ext cx="1904760" cy="581400"/>
            <a:chOff x="4038120" y="6095880"/>
            <a:chExt cx="1904760" cy="581400"/>
          </a:xfrm>
        </p:grpSpPr>
        <p:sp>
          <p:nvSpPr>
            <p:cNvPr id="772" name=""/>
            <p:cNvSpPr/>
            <p:nvPr/>
          </p:nvSpPr>
          <p:spPr>
            <a:xfrm rot="5400000">
              <a:off x="4914000" y="5219640"/>
              <a:ext cx="152640" cy="19047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9680 h 1904760"/>
                <a:gd name="textAreaBottom" fmla="*/ 185508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647960" y="6095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6553080" y="5837400"/>
            <a:ext cx="2438280" cy="647280"/>
            <a:chOff x="6553080" y="5837400"/>
            <a:chExt cx="2438280" cy="647280"/>
          </a:xfrm>
        </p:grpSpPr>
        <p:sp>
          <p:nvSpPr>
            <p:cNvPr id="775" name=""/>
            <p:cNvSpPr/>
            <p:nvPr/>
          </p:nvSpPr>
          <p:spPr>
            <a:xfrm>
              <a:off x="6857640" y="583740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553080" y="614196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5867280" y="4694400"/>
            <a:ext cx="2165400" cy="1277640"/>
          </a:xfrm>
          <a:custGeom>
            <a:avLst/>
            <a:gdLst/>
            <a:ahLst/>
            <a:rect l="l" t="t" r="r" b="b"/>
            <a:pathLst>
              <a:path w="1364" h="853">
                <a:moveTo>
                  <a:pt x="832" y="853"/>
                </a:moveTo>
                <a:cubicBezTo>
                  <a:pt x="897" y="823"/>
                  <a:pt x="1169" y="780"/>
                  <a:pt x="1224" y="672"/>
                </a:cubicBezTo>
                <a:cubicBezTo>
                  <a:pt x="1279" y="564"/>
                  <a:pt x="1364" y="320"/>
                  <a:pt x="1160" y="208"/>
                </a:cubicBezTo>
                <a:cubicBezTo>
                  <a:pt x="956" y="96"/>
                  <a:pt x="242" y="43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5867280" y="4191120"/>
            <a:ext cx="2819160" cy="581400"/>
            <a:chOff x="5867280" y="4191120"/>
            <a:chExt cx="2819160" cy="581400"/>
          </a:xfrm>
        </p:grpSpPr>
        <p:sp>
          <p:nvSpPr>
            <p:cNvPr id="779" name=""/>
            <p:cNvSpPr/>
            <p:nvPr/>
          </p:nvSpPr>
          <p:spPr>
            <a:xfrm>
              <a:off x="5867280" y="44956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553080" y="419112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3962520" y="5562720"/>
            <a:ext cx="2095560" cy="657360"/>
            <a:chOff x="3962520" y="5562720"/>
            <a:chExt cx="2095560" cy="657360"/>
          </a:xfrm>
        </p:grpSpPr>
        <p:grpSp>
          <p:nvGrpSpPr>
            <p:cNvPr id="782" name=""/>
            <p:cNvGrpSpPr/>
            <p:nvPr/>
          </p:nvGrpSpPr>
          <p:grpSpPr>
            <a:xfrm>
              <a:off x="3962520" y="5562720"/>
              <a:ext cx="647640" cy="657360"/>
              <a:chOff x="3962520" y="5562720"/>
              <a:chExt cx="647640" cy="657360"/>
            </a:xfrm>
          </p:grpSpPr>
          <p:sp>
            <p:nvSpPr>
              <p:cNvPr id="783" name=""/>
              <p:cNvSpPr/>
              <p:nvPr/>
            </p:nvSpPr>
            <p:spPr>
              <a:xfrm>
                <a:off x="4114800" y="556272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962520" y="563868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4572000" y="5562720"/>
              <a:ext cx="648000" cy="657360"/>
              <a:chOff x="4572000" y="5562720"/>
              <a:chExt cx="648000" cy="657360"/>
            </a:xfrm>
          </p:grpSpPr>
          <p:sp>
            <p:nvSpPr>
              <p:cNvPr id="786" name=""/>
              <p:cNvSpPr/>
              <p:nvPr/>
            </p:nvSpPr>
            <p:spPr>
              <a:xfrm>
                <a:off x="4724640" y="5562720"/>
                <a:ext cx="30456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572000" y="5638680"/>
                <a:ext cx="64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5410440" y="5562720"/>
              <a:ext cx="647640" cy="657360"/>
              <a:chOff x="5410440" y="5562720"/>
              <a:chExt cx="647640" cy="657360"/>
            </a:xfrm>
          </p:grpSpPr>
          <p:sp>
            <p:nvSpPr>
              <p:cNvPr id="789" name=""/>
              <p:cNvSpPr/>
              <p:nvPr/>
            </p:nvSpPr>
            <p:spPr>
              <a:xfrm>
                <a:off x="5562720" y="556272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410440" y="563868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5029200" y="55627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3962520" y="419112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380880" y="3429000"/>
            <a:ext cx="8077320" cy="2179800"/>
            <a:chOff x="380880" y="3429000"/>
            <a:chExt cx="8077320" cy="2179800"/>
          </a:xfrm>
        </p:grpSpPr>
        <p:sp>
          <p:nvSpPr>
            <p:cNvPr id="794" name=""/>
            <p:cNvSpPr/>
            <p:nvPr/>
          </p:nvSpPr>
          <p:spPr>
            <a:xfrm>
              <a:off x="380880" y="3429000"/>
              <a:ext cx="8077320" cy="95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b) i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i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for all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i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= 1,…,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-1, where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&lt;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     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the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add all symbols from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5" name=""/>
            <p:cNvGrpSpPr/>
            <p:nvPr/>
          </p:nvGrpSpPr>
          <p:grpSpPr>
            <a:xfrm>
              <a:off x="3962520" y="4343400"/>
              <a:ext cx="3504600" cy="1265400"/>
              <a:chOff x="3962520" y="4343400"/>
              <a:chExt cx="3504600" cy="1265400"/>
            </a:xfrm>
          </p:grpSpPr>
          <p:sp>
            <p:nvSpPr>
              <p:cNvPr id="796" name=""/>
              <p:cNvSpPr/>
              <p:nvPr/>
            </p:nvSpPr>
            <p:spPr>
              <a:xfrm>
                <a:off x="5410080" y="434340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03848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64796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410080" y="5105520"/>
                <a:ext cx="60912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410080" y="4343400"/>
                <a:ext cx="53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962520" y="5029200"/>
                <a:ext cx="609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571640" y="502920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333760" y="5029200"/>
                <a:ext cx="761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k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-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>
                <a:off x="4266720" y="4800600"/>
                <a:ext cx="137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H="1">
                <a:off x="4876560" y="4800600"/>
                <a:ext cx="7617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638680" y="4800600"/>
                <a:ext cx="75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028840" y="50292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93396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857640" y="502920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171840" y="510552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095880" y="5029200"/>
                <a:ext cx="609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553080" y="50292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38680" y="4800600"/>
                <a:ext cx="761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638680" y="4800600"/>
                <a:ext cx="152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4038480" y="4160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b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609480" y="1905120"/>
            <a:ext cx="7925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or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6019920" y="5532480"/>
            <a:ext cx="990000" cy="1328040"/>
            <a:chOff x="6019920" y="5532480"/>
            <a:chExt cx="990000" cy="1328040"/>
          </a:xfrm>
        </p:grpSpPr>
        <p:sp>
          <p:nvSpPr>
            <p:cNvPr id="818" name=""/>
            <p:cNvSpPr/>
            <p:nvPr/>
          </p:nvSpPr>
          <p:spPr>
            <a:xfrm>
              <a:off x="6400440" y="591336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9" name=""/>
            <p:cNvGrpSpPr/>
            <p:nvPr/>
          </p:nvGrpSpPr>
          <p:grpSpPr>
            <a:xfrm>
              <a:off x="6019920" y="5532480"/>
              <a:ext cx="761760" cy="838080"/>
              <a:chOff x="6019920" y="5532480"/>
              <a:chExt cx="761760" cy="838080"/>
            </a:xfrm>
          </p:grpSpPr>
          <p:sp>
            <p:nvSpPr>
              <p:cNvPr id="820" name=""/>
              <p:cNvSpPr/>
              <p:nvPr/>
            </p:nvSpPr>
            <p:spPr>
              <a:xfrm flipV="1">
                <a:off x="6019920" y="5532480"/>
                <a:ext cx="761760" cy="380880"/>
              </a:xfrm>
              <a:custGeom>
                <a:avLst/>
                <a:gdLst>
                  <a:gd name="textAreaLeft" fmla="*/ 156960 w 761760"/>
                  <a:gd name="textAreaRight" fmla="*/ 604800 w 761760"/>
                  <a:gd name="textAreaTop" fmla="*/ 78480 h 380880"/>
                  <a:gd name="textAreaBottom" fmla="*/ 3024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741" y="21600"/>
                    </a:lnTo>
                    <a:lnTo>
                      <a:pt x="4859" y="21600"/>
                    </a:lnTo>
                    <a:close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019920" y="591336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1143000" y="5821200"/>
            <a:ext cx="2438280" cy="647280"/>
            <a:chOff x="1143000" y="5821200"/>
            <a:chExt cx="2438280" cy="647280"/>
          </a:xfrm>
        </p:grpSpPr>
        <p:sp>
          <p:nvSpPr>
            <p:cNvPr id="824" name=""/>
            <p:cNvSpPr/>
            <p:nvPr/>
          </p:nvSpPr>
          <p:spPr>
            <a:xfrm>
              <a:off x="1447560" y="582120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143000" y="612576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1295280" y="4602240"/>
            <a:ext cx="2165400" cy="1278000"/>
          </a:xfrm>
          <a:custGeom>
            <a:avLst/>
            <a:gdLst/>
            <a:ahLst/>
            <a:rect l="l" t="t" r="r" b="b"/>
            <a:pathLst>
              <a:path w="1364" h="853">
                <a:moveTo>
                  <a:pt x="832" y="853"/>
                </a:moveTo>
                <a:cubicBezTo>
                  <a:pt x="897" y="823"/>
                  <a:pt x="1169" y="780"/>
                  <a:pt x="1224" y="672"/>
                </a:cubicBezTo>
                <a:cubicBezTo>
                  <a:pt x="1279" y="564"/>
                  <a:pt x="1364" y="320"/>
                  <a:pt x="1160" y="208"/>
                </a:cubicBezTo>
                <a:cubicBezTo>
                  <a:pt x="956" y="96"/>
                  <a:pt x="242" y="43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1295280" y="4191120"/>
            <a:ext cx="2819160" cy="581400"/>
            <a:chOff x="1295280" y="4191120"/>
            <a:chExt cx="2819160" cy="581400"/>
          </a:xfrm>
        </p:grpSpPr>
        <p:sp>
          <p:nvSpPr>
            <p:cNvPr id="828" name=""/>
            <p:cNvSpPr/>
            <p:nvPr/>
          </p:nvSpPr>
          <p:spPr>
            <a:xfrm>
              <a:off x="1295280" y="44956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981080" y="419112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533520" y="5486400"/>
            <a:ext cx="990000" cy="1328040"/>
            <a:chOff x="533520" y="5486400"/>
            <a:chExt cx="990000" cy="1328040"/>
          </a:xfrm>
        </p:grpSpPr>
        <p:sp>
          <p:nvSpPr>
            <p:cNvPr id="831" name=""/>
            <p:cNvSpPr/>
            <p:nvPr/>
          </p:nvSpPr>
          <p:spPr>
            <a:xfrm>
              <a:off x="914040" y="586728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2" name=""/>
            <p:cNvGrpSpPr/>
            <p:nvPr/>
          </p:nvGrpSpPr>
          <p:grpSpPr>
            <a:xfrm>
              <a:off x="533520" y="5486400"/>
              <a:ext cx="761760" cy="838080"/>
              <a:chOff x="533520" y="5486400"/>
              <a:chExt cx="761760" cy="838080"/>
            </a:xfrm>
          </p:grpSpPr>
          <p:sp>
            <p:nvSpPr>
              <p:cNvPr id="833" name=""/>
              <p:cNvSpPr/>
              <p:nvPr/>
            </p:nvSpPr>
            <p:spPr>
              <a:xfrm flipV="1">
                <a:off x="533520" y="5486400"/>
                <a:ext cx="761760" cy="380880"/>
              </a:xfrm>
              <a:custGeom>
                <a:avLst/>
                <a:gdLst>
                  <a:gd name="textAreaLeft" fmla="*/ 156960 w 761760"/>
                  <a:gd name="textAreaRight" fmla="*/ 604800 w 761760"/>
                  <a:gd name="textAreaTop" fmla="*/ 78480 h 380880"/>
                  <a:gd name="textAreaBottom" fmla="*/ 3024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741" y="21600"/>
                    </a:lnTo>
                    <a:lnTo>
                      <a:pt x="4859" y="21600"/>
                    </a:lnTo>
                    <a:close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33520" y="586728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5" name=""/>
          <p:cNvGrpSpPr/>
          <p:nvPr/>
        </p:nvGrpSpPr>
        <p:grpSpPr>
          <a:xfrm>
            <a:off x="152280" y="3048120"/>
            <a:ext cx="8305920" cy="2514600"/>
            <a:chOff x="152280" y="3048120"/>
            <a:chExt cx="8305920" cy="2514600"/>
          </a:xfrm>
        </p:grpSpPr>
        <p:sp>
          <p:nvSpPr>
            <p:cNvPr id="836" name=""/>
            <p:cNvSpPr/>
            <p:nvPr/>
          </p:nvSpPr>
          <p:spPr>
            <a:xfrm>
              <a:off x="152280" y="41148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a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609480" y="4267080"/>
              <a:ext cx="2057400" cy="1295640"/>
              <a:chOff x="609480" y="4267080"/>
              <a:chExt cx="2057400" cy="1295640"/>
            </a:xfrm>
          </p:grpSpPr>
          <p:sp>
            <p:nvSpPr>
              <p:cNvPr id="838" name=""/>
              <p:cNvSpPr/>
              <p:nvPr/>
            </p:nvSpPr>
            <p:spPr>
              <a:xfrm>
                <a:off x="838080" y="426708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38080" y="42670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85800" y="505944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09480" y="498312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3716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2952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990360" y="4724280"/>
                <a:ext cx="759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066680" y="4724280"/>
                <a:ext cx="53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75248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13372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05740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066680" y="4724280"/>
                <a:ext cx="1371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>
              <a:off x="380880" y="3048120"/>
              <a:ext cx="807732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a)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 symbols from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cs-CZ" sz="2600" spc="-1" strike="noStrike" baseline="-33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85800" y="26668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609480" y="2666880"/>
            <a:ext cx="7848720" cy="916920"/>
            <a:chOff x="609480" y="2666880"/>
            <a:chExt cx="7848720" cy="916920"/>
          </a:xfrm>
        </p:grpSpPr>
        <p:sp>
          <p:nvSpPr>
            <p:cNvPr id="854" name=""/>
            <p:cNvSpPr/>
            <p:nvPr/>
          </p:nvSpPr>
          <p:spPr>
            <a:xfrm>
              <a:off x="609480" y="2666880"/>
              <a:ext cx="784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85800" y="358128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609480" y="3581280"/>
            <a:ext cx="7848720" cy="642600"/>
            <a:chOff x="609480" y="3581280"/>
            <a:chExt cx="7848720" cy="642600"/>
          </a:xfrm>
        </p:grpSpPr>
        <p:sp>
          <p:nvSpPr>
            <p:cNvPr id="857" name=""/>
            <p:cNvSpPr/>
            <p:nvPr/>
          </p:nvSpPr>
          <p:spPr>
            <a:xfrm>
              <a:off x="685800" y="419076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9480" y="358128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609480" y="4191120"/>
            <a:ext cx="7848720" cy="642600"/>
            <a:chOff x="609480" y="4191120"/>
            <a:chExt cx="7848720" cy="642600"/>
          </a:xfrm>
        </p:grpSpPr>
        <p:sp>
          <p:nvSpPr>
            <p:cNvPr id="860" name=""/>
            <p:cNvSpPr/>
            <p:nvPr/>
          </p:nvSpPr>
          <p:spPr>
            <a:xfrm>
              <a:off x="685800" y="480060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09480" y="419112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609480" y="4800600"/>
            <a:ext cx="7848720" cy="685800"/>
            <a:chOff x="609480" y="4800600"/>
            <a:chExt cx="7848720" cy="685800"/>
          </a:xfrm>
        </p:grpSpPr>
        <p:sp>
          <p:nvSpPr>
            <p:cNvPr id="863" name=""/>
            <p:cNvSpPr/>
            <p:nvPr/>
          </p:nvSpPr>
          <p:spPr>
            <a:xfrm>
              <a:off x="685800" y="548640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09480" y="480060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609480" y="54864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1970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21970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200400" y="121932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09480" y="10666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638680" y="121932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04800" y="6095880"/>
            <a:ext cx="4811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No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set can be chang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&amp;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895480" y="25146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15000" y="251460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62120" y="40384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5800" y="24382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895480" y="41148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62120" y="40384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62120" y="571500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715000" y="411480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6212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533520" y="1143000"/>
            <a:ext cx="81532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&amp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09480" y="2362320"/>
            <a:ext cx="853452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pply the following rule until nothing can be add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-1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-1, where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add all symbols from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85800" y="50292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85800" y="4952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0574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819520" y="5334120"/>
            <a:ext cx="6094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5238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810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743200" y="525780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4382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19112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11480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3526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8098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1828800" y="6278400"/>
            <a:ext cx="1371600" cy="581400"/>
            <a:chOff x="1828800" y="6278400"/>
            <a:chExt cx="1371600" cy="581400"/>
          </a:xfrm>
        </p:grpSpPr>
        <p:sp>
          <p:nvSpPr>
            <p:cNvPr id="903" name=""/>
            <p:cNvSpPr/>
            <p:nvPr/>
          </p:nvSpPr>
          <p:spPr>
            <a:xfrm rot="5400000">
              <a:off x="2438280" y="5715000"/>
              <a:ext cx="152640" cy="1371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133720" y="6278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4114800" y="6095880"/>
            <a:ext cx="2590920" cy="647280"/>
            <a:chOff x="4114800" y="6095880"/>
            <a:chExt cx="2590920" cy="647280"/>
          </a:xfrm>
        </p:grpSpPr>
        <p:sp>
          <p:nvSpPr>
            <p:cNvPr id="906" name=""/>
            <p:cNvSpPr/>
            <p:nvPr/>
          </p:nvSpPr>
          <p:spPr>
            <a:xfrm>
              <a:off x="4572000" y="609588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114800" y="640080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1523880" y="5791320"/>
            <a:ext cx="1943280" cy="657360"/>
            <a:chOff x="1523880" y="5791320"/>
            <a:chExt cx="1943280" cy="657360"/>
          </a:xfrm>
        </p:grpSpPr>
        <p:sp>
          <p:nvSpPr>
            <p:cNvPr id="909" name=""/>
            <p:cNvSpPr/>
            <p:nvPr/>
          </p:nvSpPr>
          <p:spPr>
            <a:xfrm>
              <a:off x="16765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1337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9718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5238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810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8195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3828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3276720" y="5791320"/>
            <a:ext cx="990360" cy="1251720"/>
            <a:chOff x="3276720" y="5791320"/>
            <a:chExt cx="990360" cy="1251720"/>
          </a:xfrm>
        </p:grpSpPr>
        <p:sp>
          <p:nvSpPr>
            <p:cNvPr id="917" name=""/>
            <p:cNvSpPr/>
            <p:nvPr/>
          </p:nvSpPr>
          <p:spPr>
            <a:xfrm flipV="1">
              <a:off x="3276720" y="5791320"/>
              <a:ext cx="761760" cy="380880"/>
            </a:xfrm>
            <a:custGeom>
              <a:avLst/>
              <a:gdLst>
                <a:gd name="textAreaLeft" fmla="*/ 156960 w 761760"/>
                <a:gd name="textAreaRight" fmla="*/ 604800 w 761760"/>
                <a:gd name="textAreaTop" fmla="*/ 78480 h 380880"/>
                <a:gd name="textAreaBottom" fmla="*/ 30240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741" y="21600"/>
                  </a:lnTo>
                  <a:lnTo>
                    <a:pt x="4859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657600" y="609588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76720" y="61722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4648320" y="5638680"/>
            <a:ext cx="1752480" cy="579600"/>
          </a:xfrm>
          <a:custGeom>
            <a:avLst/>
            <a:gdLst/>
            <a:ahLst/>
            <a:rect l="l" t="t" r="r" b="b"/>
            <a:pathLst>
              <a:path w="1384" h="656">
                <a:moveTo>
                  <a:pt x="1248" y="656"/>
                </a:moveTo>
                <a:cubicBezTo>
                  <a:pt x="1236" y="584"/>
                  <a:pt x="1384" y="333"/>
                  <a:pt x="1176" y="224"/>
                </a:cubicBezTo>
                <a:cubicBezTo>
                  <a:pt x="968" y="115"/>
                  <a:pt x="245" y="47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4648320" y="5181480"/>
            <a:ext cx="3886200" cy="653040"/>
            <a:chOff x="4648320" y="5181480"/>
            <a:chExt cx="3886200" cy="653040"/>
          </a:xfrm>
        </p:grpSpPr>
        <p:sp>
          <p:nvSpPr>
            <p:cNvPr id="922" name=""/>
            <p:cNvSpPr/>
            <p:nvPr/>
          </p:nvSpPr>
          <p:spPr>
            <a:xfrm>
              <a:off x="4648320" y="5486400"/>
              <a:ext cx="7617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181480" y="5181480"/>
              <a:ext cx="3353040" cy="6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1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…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i="1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85800" y="457200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! 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85800" y="4648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48120" y="236232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943600" y="236232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08760" y="2286000"/>
            <a:ext cx="24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85800" y="38098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09480" y="373392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09480" y="4191120"/>
            <a:ext cx="655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E</a:t>
            </a:r>
            <a:r>
              <a:rPr b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45720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T</a:t>
            </a:r>
            <a:r>
              <a:rPr b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3520" y="5105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1828800" y="4952880"/>
            <a:ext cx="7632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541008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F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80880" y="59436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1828800" y="5791320"/>
            <a:ext cx="7632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133720" y="5791320"/>
            <a:ext cx="121896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85800" y="6324480"/>
            <a:ext cx="7391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ummary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533520" y="1143000"/>
            <a:ext cx="8458200" cy="15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85800" y="25146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520" y="2514600"/>
            <a:ext cx="838188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)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: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62120" y="52578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85800" y="51814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12408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58128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04812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50532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6252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2670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191120" y="5676840"/>
            <a:ext cx="1187280" cy="1074960"/>
          </a:xfrm>
          <a:custGeom>
            <a:avLst/>
            <a:gdLst/>
            <a:ahLst/>
            <a:rect l="l" t="t" r="r" b="b"/>
            <a:pathLst>
              <a:path w="796" h="677">
                <a:moveTo>
                  <a:pt x="0" y="624"/>
                </a:moveTo>
                <a:cubicBezTo>
                  <a:pt x="112" y="619"/>
                  <a:pt x="548" y="677"/>
                  <a:pt x="672" y="592"/>
                </a:cubicBezTo>
                <a:cubicBezTo>
                  <a:pt x="796" y="507"/>
                  <a:pt x="781" y="211"/>
                  <a:pt x="744" y="112"/>
                </a:cubicBezTo>
                <a:cubicBezTo>
                  <a:pt x="707" y="13"/>
                  <a:pt x="510" y="23"/>
                  <a:pt x="448" y="0"/>
                </a:cubicBezTo>
              </a:path>
            </a:pathLst>
          </a:custGeom>
          <a:noFill/>
          <a:ln w="76320">
            <a:solidFill>
              <a:srgbClr val="ff66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4800600" y="5257800"/>
            <a:ext cx="4038480" cy="570960"/>
            <a:chOff x="4800600" y="5257800"/>
            <a:chExt cx="4038480" cy="570960"/>
          </a:xfrm>
        </p:grpSpPr>
        <p:sp>
          <p:nvSpPr>
            <p:cNvPr id="960" name=""/>
            <p:cNvSpPr/>
            <p:nvPr/>
          </p:nvSpPr>
          <p:spPr>
            <a:xfrm>
              <a:off x="4800600" y="5486400"/>
              <a:ext cx="685800" cy="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410080" y="5257800"/>
              <a:ext cx="342900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1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…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i="1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3048120" y="5791320"/>
            <a:ext cx="1866960" cy="657360"/>
            <a:chOff x="3048120" y="5791320"/>
            <a:chExt cx="1866960" cy="657360"/>
          </a:xfrm>
        </p:grpSpPr>
        <p:sp>
          <p:nvSpPr>
            <p:cNvPr id="963" name=""/>
            <p:cNvSpPr/>
            <p:nvPr/>
          </p:nvSpPr>
          <p:spPr>
            <a:xfrm>
              <a:off x="32004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6576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4197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481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5053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2670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96252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3200040" y="6278400"/>
            <a:ext cx="1523880" cy="581400"/>
            <a:chOff x="3200040" y="6278400"/>
            <a:chExt cx="1523880" cy="581400"/>
          </a:xfrm>
        </p:grpSpPr>
        <p:sp>
          <p:nvSpPr>
            <p:cNvPr id="971" name=""/>
            <p:cNvSpPr/>
            <p:nvPr/>
          </p:nvSpPr>
          <p:spPr>
            <a:xfrm rot="5400000">
              <a:off x="3885480" y="5638680"/>
              <a:ext cx="152640" cy="15238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657600" y="6278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3" name=""/>
          <p:cNvSpPr/>
          <p:nvPr/>
        </p:nvSpPr>
        <p:spPr>
          <a:xfrm>
            <a:off x="685800" y="47242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! 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62120" y="47242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048120" y="236232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914040" y="2362320"/>
            <a:ext cx="19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38098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09480" y="373392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09480" y="42670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, s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ol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85800" y="1981080"/>
            <a:ext cx="7772400" cy="16725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define the se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= {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{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$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523880" y="1143000"/>
            <a:ext cx="71629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ollow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of all terminals that can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come right after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i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sentential form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f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09480" y="3657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752480" y="57913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3429000" y="4952880"/>
            <a:ext cx="1603440" cy="838440"/>
            <a:chOff x="3429000" y="4952880"/>
            <a:chExt cx="1603440" cy="838440"/>
          </a:xfrm>
        </p:grpSpPr>
        <p:sp>
          <p:nvSpPr>
            <p:cNvPr id="993" name=""/>
            <p:cNvSpPr/>
            <p:nvPr/>
          </p:nvSpPr>
          <p:spPr>
            <a:xfrm>
              <a:off x="3429000" y="53341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429000" y="4952880"/>
              <a:ext cx="1603440" cy="38124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886200" y="533412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2670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6483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2670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64832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1676520" y="3733920"/>
            <a:ext cx="2895480" cy="2057400"/>
            <a:chOff x="1676520" y="3733920"/>
            <a:chExt cx="2895480" cy="2057400"/>
          </a:xfrm>
        </p:grpSpPr>
        <p:sp>
          <p:nvSpPr>
            <p:cNvPr id="1001" name=""/>
            <p:cNvSpPr/>
            <p:nvPr/>
          </p:nvSpPr>
          <p:spPr>
            <a:xfrm>
              <a:off x="2971800" y="380988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971800" y="44956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95480" y="373392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95480" y="449568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676520" y="533412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05740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4382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05740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4382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429000" y="449568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809880" y="4495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191120" y="4495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809880" y="48006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191120" y="4800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676520" y="4267080"/>
              <a:ext cx="2895480" cy="1067040"/>
            </a:xfrm>
            <a:custGeom>
              <a:avLst/>
              <a:gdLst/>
              <a:ahLst/>
              <a:rect l="l" t="t" r="r" b="b"/>
              <a:pathLst>
                <a:path w="1824" h="672">
                  <a:moveTo>
                    <a:pt x="826" y="0"/>
                  </a:moveTo>
                  <a:lnTo>
                    <a:pt x="0" y="672"/>
                  </a:lnTo>
                  <a:lnTo>
                    <a:pt x="736" y="672"/>
                  </a:lnTo>
                  <a:lnTo>
                    <a:pt x="824" y="432"/>
                  </a:lnTo>
                  <a:lnTo>
                    <a:pt x="824" y="152"/>
                  </a:lnTo>
                  <a:lnTo>
                    <a:pt x="1192" y="152"/>
                  </a:lnTo>
                  <a:lnTo>
                    <a:pt x="1824" y="152"/>
                  </a:lnTo>
                  <a:lnTo>
                    <a:pt x="1126" y="0"/>
                  </a:lnTo>
                  <a:lnTo>
                    <a:pt x="826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3276720" y="57913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5715000" y="3733920"/>
            <a:ext cx="1981080" cy="2057400"/>
            <a:chOff x="5715000" y="3733920"/>
            <a:chExt cx="1981080" cy="2057400"/>
          </a:xfrm>
        </p:grpSpPr>
        <p:sp>
          <p:nvSpPr>
            <p:cNvPr id="1018" name=""/>
            <p:cNvSpPr/>
            <p:nvPr/>
          </p:nvSpPr>
          <p:spPr>
            <a:xfrm>
              <a:off x="7010280" y="380988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162920" y="44197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086600" y="434340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715000" y="533412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958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4771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0958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47712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715000" y="4267080"/>
              <a:ext cx="1905120" cy="1067040"/>
            </a:xfrm>
            <a:custGeom>
              <a:avLst/>
              <a:gdLst/>
              <a:ahLst/>
              <a:rect l="l" t="t" r="r" b="b"/>
              <a:pathLst>
                <a:path w="1200" h="672">
                  <a:moveTo>
                    <a:pt x="826" y="0"/>
                  </a:moveTo>
                  <a:lnTo>
                    <a:pt x="0" y="672"/>
                  </a:lnTo>
                  <a:lnTo>
                    <a:pt x="736" y="672"/>
                  </a:lnTo>
                  <a:lnTo>
                    <a:pt x="914" y="382"/>
                  </a:lnTo>
                  <a:lnTo>
                    <a:pt x="914" y="96"/>
                  </a:lnTo>
                  <a:lnTo>
                    <a:pt x="1200" y="96"/>
                  </a:lnTo>
                  <a:lnTo>
                    <a:pt x="1104" y="0"/>
                  </a:lnTo>
                  <a:lnTo>
                    <a:pt x="826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934320" y="37339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8" name=""/>
          <p:cNvSpPr/>
          <p:nvPr/>
        </p:nvSpPr>
        <p:spPr>
          <a:xfrm>
            <a:off x="6400800" y="57913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2362320" y="6248520"/>
            <a:ext cx="2286000" cy="641160"/>
            <a:chOff x="2362320" y="6248520"/>
            <a:chExt cx="2286000" cy="641160"/>
          </a:xfrm>
        </p:grpSpPr>
        <p:sp>
          <p:nvSpPr>
            <p:cNvPr id="1030" name=""/>
            <p:cNvSpPr/>
            <p:nvPr/>
          </p:nvSpPr>
          <p:spPr>
            <a:xfrm>
              <a:off x="2362320" y="63691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rot="5400000">
              <a:off x="3238200" y="6210360"/>
              <a:ext cx="228600" cy="304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6172200" y="6248520"/>
            <a:ext cx="2286000" cy="641160"/>
            <a:chOff x="6172200" y="6248520"/>
            <a:chExt cx="2286000" cy="641160"/>
          </a:xfrm>
        </p:grpSpPr>
        <p:sp>
          <p:nvSpPr>
            <p:cNvPr id="1033" name=""/>
            <p:cNvSpPr/>
            <p:nvPr/>
          </p:nvSpPr>
          <p:spPr>
            <a:xfrm>
              <a:off x="6172200" y="63691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$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rot="5400000">
              <a:off x="7048080" y="6210360"/>
              <a:ext cx="228600" cy="304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6858000" y="4876920"/>
            <a:ext cx="1600200" cy="1038600"/>
            <a:chOff x="6858000" y="4876920"/>
            <a:chExt cx="1600200" cy="1038600"/>
          </a:xfrm>
        </p:grpSpPr>
        <p:sp>
          <p:nvSpPr>
            <p:cNvPr id="1036" name=""/>
            <p:cNvSpPr/>
            <p:nvPr/>
          </p:nvSpPr>
          <p:spPr>
            <a:xfrm>
              <a:off x="7772400" y="5791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162920" y="533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8580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001000" y="53341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7724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858000" y="5791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620120" y="487692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533520" y="114300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33520" y="2057400"/>
            <a:ext cx="830556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Symbol"/>
              </a:rPr>
              <a:t>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{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$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}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A Table-Based Selection of a Ru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752480"/>
            <a:ext cx="3124080" cy="2133720"/>
          </a:xfrm>
          <a:custGeom>
            <a:avLst/>
            <a:gdLst/>
            <a:ahLst/>
            <a:rect l="l" t="t" r="r" b="b"/>
            <a:pathLst>
              <a:path w="1968" h="1872">
                <a:moveTo>
                  <a:pt x="1400" y="904"/>
                </a:moveTo>
                <a:lnTo>
                  <a:pt x="1104" y="904"/>
                </a:lnTo>
                <a:lnTo>
                  <a:pt x="856" y="1872"/>
                </a:lnTo>
                <a:lnTo>
                  <a:pt x="12" y="1872"/>
                </a:lnTo>
                <a:lnTo>
                  <a:pt x="0" y="1857"/>
                </a:lnTo>
                <a:lnTo>
                  <a:pt x="1066" y="0"/>
                </a:lnTo>
                <a:lnTo>
                  <a:pt x="1406" y="0"/>
                </a:lnTo>
                <a:lnTo>
                  <a:pt x="1968" y="1015"/>
                </a:lnTo>
                <a:cubicBezTo>
                  <a:pt x="1890" y="1159"/>
                  <a:pt x="1772" y="1014"/>
                  <a:pt x="1696" y="1048"/>
                </a:cubicBezTo>
                <a:cubicBezTo>
                  <a:pt x="1637" y="1085"/>
                  <a:pt x="1653" y="1216"/>
                  <a:pt x="1616" y="1240"/>
                </a:cubicBezTo>
                <a:cubicBezTo>
                  <a:pt x="1579" y="1264"/>
                  <a:pt x="1508" y="1248"/>
                  <a:pt x="1472" y="1192"/>
                </a:cubicBezTo>
                <a:cubicBezTo>
                  <a:pt x="1436" y="1136"/>
                  <a:pt x="1400" y="956"/>
                  <a:pt x="1400" y="904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1219320"/>
            <a:ext cx="53352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2209680"/>
            <a:ext cx="53352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8862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88620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38862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38862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41911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41911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08800">
            <a:off x="2203200" y="2741760"/>
            <a:ext cx="380880" cy="1218960"/>
          </a:xfrm>
          <a:prstGeom prst="downArrow">
            <a:avLst>
              <a:gd name="adj1" fmla="val 50000"/>
              <a:gd name="adj2" fmla="val 8000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124080" y="1752480"/>
            <a:ext cx="2743200" cy="1418040"/>
            <a:chOff x="3124080" y="1752480"/>
            <a:chExt cx="2743200" cy="1418040"/>
          </a:xfrm>
        </p:grpSpPr>
        <p:sp>
          <p:nvSpPr>
            <p:cNvPr id="98" name=""/>
            <p:cNvSpPr/>
            <p:nvPr/>
          </p:nvSpPr>
          <p:spPr>
            <a:xfrm>
              <a:off x="396252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412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95680" y="18288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95680" y="18288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8620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956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5780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4190760" y="228600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647960" y="228600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24280" y="228600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52880" y="2590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24080" y="175248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791320" y="1752480"/>
            <a:ext cx="2743200" cy="1418040"/>
            <a:chOff x="5791320" y="1752480"/>
            <a:chExt cx="2743200" cy="1418040"/>
          </a:xfrm>
        </p:grpSpPr>
        <p:sp>
          <p:nvSpPr>
            <p:cNvPr id="112" name=""/>
            <p:cNvSpPr/>
            <p:nvPr/>
          </p:nvSpPr>
          <p:spPr>
            <a:xfrm>
              <a:off x="66294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3888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010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62920" y="18288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62920" y="1828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530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246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6858000" y="228600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7315200" y="228600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91520" y="228600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0120" y="2590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91320" y="175248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33520" y="4419720"/>
            <a:ext cx="3886200" cy="2247840"/>
            <a:chOff x="533520" y="4419720"/>
            <a:chExt cx="3886200" cy="2247840"/>
          </a:xfrm>
        </p:grpSpPr>
        <p:sp>
          <p:nvSpPr>
            <p:cNvPr id="126" name=""/>
            <p:cNvSpPr/>
            <p:nvPr/>
          </p:nvSpPr>
          <p:spPr>
            <a:xfrm>
              <a:off x="533520" y="4419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23880" y="48006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4800600"/>
              <a:ext cx="106704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05320" y="48006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480" y="618480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9480" y="52833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480" y="571500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38280" y="5715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95480" y="5283360"/>
              <a:ext cx="180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23880" y="5943600"/>
              <a:ext cx="9144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38280" y="5283360"/>
              <a:ext cx="106704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23880" y="5715000"/>
              <a:ext cx="2895840" cy="4827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3880" y="5283360"/>
              <a:ext cx="289584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38280" y="5702400"/>
              <a:ext cx="106704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21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267080" y="4952880"/>
            <a:ext cx="4724640" cy="1756800"/>
            <a:chOff x="4267080" y="4952880"/>
            <a:chExt cx="4724640" cy="1756800"/>
          </a:xfrm>
        </p:grpSpPr>
        <p:sp>
          <p:nvSpPr>
            <p:cNvPr id="142" name=""/>
            <p:cNvSpPr/>
            <p:nvPr/>
          </p:nvSpPr>
          <p:spPr>
            <a:xfrm>
              <a:off x="4267080" y="4952880"/>
              <a:ext cx="46483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43400" y="6095880"/>
              <a:ext cx="46483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505320" y="5409720"/>
            <a:ext cx="2514600" cy="914760"/>
            <a:chOff x="3505320" y="5409720"/>
            <a:chExt cx="2514600" cy="914760"/>
          </a:xfrm>
        </p:grpSpPr>
        <p:sp>
          <p:nvSpPr>
            <p:cNvPr id="145" name=""/>
            <p:cNvSpPr/>
            <p:nvPr/>
          </p:nvSpPr>
          <p:spPr>
            <a:xfrm flipV="1">
              <a:off x="5562720" y="5409720"/>
              <a:ext cx="457200" cy="30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52880" y="5562720"/>
              <a:ext cx="609840" cy="6094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62720" y="6019920"/>
              <a:ext cx="45720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5320" y="5867280"/>
              <a:ext cx="14475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762120" y="3124080"/>
            <a:ext cx="274320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Which 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us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657600" y="3124080"/>
            <a:ext cx="2438280" cy="1143000"/>
            <a:chOff x="3657600" y="3124080"/>
            <a:chExt cx="2438280" cy="1143000"/>
          </a:xfrm>
        </p:grpSpPr>
        <p:sp>
          <p:nvSpPr>
            <p:cNvPr id="151" name=""/>
            <p:cNvSpPr/>
            <p:nvPr/>
          </p:nvSpPr>
          <p:spPr>
            <a:xfrm>
              <a:off x="3657600" y="3809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14800" y="380988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95680" y="38098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769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150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341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95680" y="41148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769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150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341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57600" y="312408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95680" y="312408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324480" y="3124080"/>
            <a:ext cx="2438640" cy="1143000"/>
            <a:chOff x="6324480" y="3124080"/>
            <a:chExt cx="2438640" cy="1143000"/>
          </a:xfrm>
        </p:grpSpPr>
        <p:sp>
          <p:nvSpPr>
            <p:cNvPr id="164" name=""/>
            <p:cNvSpPr/>
            <p:nvPr/>
          </p:nvSpPr>
          <p:spPr>
            <a:xfrm>
              <a:off x="6324480" y="3809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81680" y="3809880"/>
              <a:ext cx="19814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438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1880" y="38098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010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629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438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81880" y="41148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010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324480" y="3124080"/>
              <a:ext cx="83844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62920" y="312408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9480" y="1143000"/>
            <a:ext cx="28195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1)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S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$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85800" y="38098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81280" y="1143000"/>
            <a:ext cx="495324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581280" y="1905120"/>
            <a:ext cx="358164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1" i="1" lang="en-GB" sz="26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581280" y="1219320"/>
            <a:ext cx="0" cy="25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5" name=""/>
          <p:cNvGrpSpPr/>
          <p:nvPr/>
        </p:nvGrpSpPr>
        <p:grpSpPr>
          <a:xfrm>
            <a:off x="2438280" y="5105520"/>
            <a:ext cx="1603440" cy="838080"/>
            <a:chOff x="2438280" y="5105520"/>
            <a:chExt cx="1603440" cy="838080"/>
          </a:xfrm>
        </p:grpSpPr>
        <p:sp>
          <p:nvSpPr>
            <p:cNvPr id="1056" name=""/>
            <p:cNvSpPr/>
            <p:nvPr/>
          </p:nvSpPr>
          <p:spPr>
            <a:xfrm>
              <a:off x="2438280" y="5486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438280" y="5105520"/>
              <a:ext cx="1603440" cy="3808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895480" y="5486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76720" y="5486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657600" y="5486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76720" y="5791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657600" y="5791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1981080" y="160020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85800" y="3124080"/>
            <a:ext cx="11430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066680" y="3124080"/>
            <a:ext cx="18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447920" y="3124080"/>
            <a:ext cx="14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066680" y="3429000"/>
            <a:ext cx="1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447920" y="3429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85800" y="2057400"/>
            <a:ext cx="1968480" cy="1066680"/>
          </a:xfrm>
          <a:custGeom>
            <a:avLst/>
            <a:gdLst/>
            <a:ahLst/>
            <a:rect l="l" t="t" r="r" b="b"/>
            <a:pathLst>
              <a:path w="1240" h="672">
                <a:moveTo>
                  <a:pt x="826" y="0"/>
                </a:moveTo>
                <a:lnTo>
                  <a:pt x="0" y="672"/>
                </a:lnTo>
                <a:lnTo>
                  <a:pt x="736" y="672"/>
                </a:lnTo>
                <a:cubicBezTo>
                  <a:pt x="872" y="624"/>
                  <a:pt x="773" y="454"/>
                  <a:pt x="816" y="384"/>
                </a:cubicBezTo>
                <a:cubicBezTo>
                  <a:pt x="859" y="314"/>
                  <a:pt x="921" y="269"/>
                  <a:pt x="992" y="248"/>
                </a:cubicBezTo>
                <a:cubicBezTo>
                  <a:pt x="1063" y="227"/>
                  <a:pt x="1221" y="297"/>
                  <a:pt x="1240" y="256"/>
                </a:cubicBezTo>
                <a:lnTo>
                  <a:pt x="1104" y="0"/>
                </a:lnTo>
                <a:lnTo>
                  <a:pt x="826" y="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905120" y="1523880"/>
            <a:ext cx="60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13372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82880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971800" y="31240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74320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8288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7432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590920" y="2362320"/>
            <a:ext cx="380880" cy="761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609480" y="2286000"/>
            <a:ext cx="8153640" cy="2913120"/>
            <a:chOff x="609480" y="2286000"/>
            <a:chExt cx="8153640" cy="2913120"/>
          </a:xfrm>
        </p:grpSpPr>
        <p:sp>
          <p:nvSpPr>
            <p:cNvPr id="1079" name=""/>
            <p:cNvSpPr/>
            <p:nvPr/>
          </p:nvSpPr>
          <p:spPr>
            <a:xfrm>
              <a:off x="3733920" y="2286000"/>
              <a:ext cx="50292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a) if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 symbols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rom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B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09480" y="3809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a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1" name=""/>
            <p:cNvGrpSpPr/>
            <p:nvPr/>
          </p:nvGrpSpPr>
          <p:grpSpPr>
            <a:xfrm>
              <a:off x="685800" y="3809880"/>
              <a:ext cx="2895480" cy="1389240"/>
              <a:chOff x="685800" y="3809880"/>
              <a:chExt cx="2895480" cy="1389240"/>
            </a:xfrm>
          </p:grpSpPr>
          <p:sp>
            <p:nvSpPr>
              <p:cNvPr id="1082" name=""/>
              <p:cNvSpPr/>
              <p:nvPr/>
            </p:nvSpPr>
            <p:spPr>
              <a:xfrm>
                <a:off x="1905120" y="388620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828800" y="380988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85800" y="4648320"/>
                <a:ext cx="11430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066680" y="464832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44792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066680" y="4952880"/>
                <a:ext cx="18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44792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438280" y="4648320"/>
                <a:ext cx="11430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81952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20040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81952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20040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905120" y="464832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828800" y="464832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>
                <a:off x="1219320" y="434340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133720" y="434340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133720" y="4343400"/>
                <a:ext cx="8380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9" name=""/>
          <p:cNvGrpSpPr/>
          <p:nvPr/>
        </p:nvGrpSpPr>
        <p:grpSpPr>
          <a:xfrm>
            <a:off x="2286000" y="5943600"/>
            <a:ext cx="2057400" cy="749160"/>
            <a:chOff x="2286000" y="5943600"/>
            <a:chExt cx="2057400" cy="749160"/>
          </a:xfrm>
        </p:grpSpPr>
        <p:sp>
          <p:nvSpPr>
            <p:cNvPr id="1100" name=""/>
            <p:cNvSpPr/>
            <p:nvPr/>
          </p:nvSpPr>
          <p:spPr>
            <a:xfrm>
              <a:off x="2286000" y="61722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y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666880" y="59436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2" name=""/>
          <p:cNvSpPr/>
          <p:nvPr/>
        </p:nvSpPr>
        <p:spPr>
          <a:xfrm>
            <a:off x="5829480" y="5562720"/>
            <a:ext cx="1091880" cy="838080"/>
          </a:xfrm>
          <a:custGeom>
            <a:avLst/>
            <a:gdLst/>
            <a:ahLst/>
            <a:rect l="l" t="t" r="r" b="b"/>
            <a:pathLst>
              <a:path w="688" h="576">
                <a:moveTo>
                  <a:pt x="688" y="576"/>
                </a:moveTo>
                <a:cubicBezTo>
                  <a:pt x="668" y="555"/>
                  <a:pt x="661" y="484"/>
                  <a:pt x="568" y="448"/>
                </a:cubicBezTo>
                <a:cubicBezTo>
                  <a:pt x="475" y="412"/>
                  <a:pt x="223" y="435"/>
                  <a:pt x="128" y="360"/>
                </a:cubicBezTo>
                <a:cubicBezTo>
                  <a:pt x="33" y="285"/>
                  <a:pt x="27" y="75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0" y="5181480"/>
            <a:ext cx="2286000" cy="901800"/>
            <a:chOff x="0" y="5181480"/>
            <a:chExt cx="2286000" cy="901800"/>
          </a:xfrm>
        </p:grpSpPr>
        <p:sp>
          <p:nvSpPr>
            <p:cNvPr id="1104" name=""/>
            <p:cNvSpPr/>
            <p:nvPr/>
          </p:nvSpPr>
          <p:spPr>
            <a:xfrm flipH="1">
              <a:off x="1752120" y="5181480"/>
              <a:ext cx="304920" cy="457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0" y="55627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7315200" y="4419720"/>
            <a:ext cx="1603440" cy="1066680"/>
            <a:chOff x="7315200" y="4419720"/>
            <a:chExt cx="1603440" cy="1066680"/>
          </a:xfrm>
        </p:grpSpPr>
        <p:sp>
          <p:nvSpPr>
            <p:cNvPr id="1107" name=""/>
            <p:cNvSpPr/>
            <p:nvPr/>
          </p:nvSpPr>
          <p:spPr>
            <a:xfrm>
              <a:off x="7315200" y="50292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315200" y="4419720"/>
              <a:ext cx="1603440" cy="6094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772400" y="50292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153280" y="50292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534520" y="50292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81532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85345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7315200" y="3962520"/>
            <a:ext cx="1143000" cy="457200"/>
            <a:chOff x="7315200" y="3962520"/>
            <a:chExt cx="1143000" cy="457200"/>
          </a:xfrm>
        </p:grpSpPr>
        <p:sp>
          <p:nvSpPr>
            <p:cNvPr id="1115" name=""/>
            <p:cNvSpPr/>
            <p:nvPr/>
          </p:nvSpPr>
          <p:spPr>
            <a:xfrm>
              <a:off x="7315200" y="396252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696080" y="3962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077320" y="3962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6960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80773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3733920" y="2971800"/>
            <a:ext cx="5257800" cy="2531880"/>
            <a:chOff x="3733920" y="2971800"/>
            <a:chExt cx="5257800" cy="2531880"/>
          </a:xfrm>
        </p:grpSpPr>
        <p:sp>
          <p:nvSpPr>
            <p:cNvPr id="1121" name=""/>
            <p:cNvSpPr/>
            <p:nvPr/>
          </p:nvSpPr>
          <p:spPr>
            <a:xfrm>
              <a:off x="3733920" y="2971800"/>
              <a:ext cx="5257800" cy="11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b) if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symbols from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A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B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4343400" y="3962520"/>
              <a:ext cx="3048120" cy="1541160"/>
              <a:chOff x="4343400" y="3962520"/>
              <a:chExt cx="3048120" cy="1541160"/>
            </a:xfrm>
          </p:grpSpPr>
          <p:sp>
            <p:nvSpPr>
              <p:cNvPr id="1123" name=""/>
              <p:cNvSpPr/>
              <p:nvPr/>
            </p:nvSpPr>
            <p:spPr>
              <a:xfrm>
                <a:off x="6858000" y="396252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781680" y="3962520"/>
                <a:ext cx="6098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343400" y="5029200"/>
                <a:ext cx="11430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724280" y="502920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10552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724280" y="533412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10552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095880" y="5029200"/>
                <a:ext cx="11430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47712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85800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47712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85800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562720" y="502920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486400" y="495288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H="1">
                <a:off x="4876920" y="4419720"/>
                <a:ext cx="213336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H="1">
                <a:off x="5791320" y="4419720"/>
                <a:ext cx="129528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H="1">
                <a:off x="6705720" y="4419720"/>
                <a:ext cx="38088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4267080" y="396252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b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6858000" y="5486400"/>
            <a:ext cx="2286000" cy="1206360"/>
            <a:chOff x="6858000" y="5486400"/>
            <a:chExt cx="2286000" cy="1206360"/>
          </a:xfrm>
        </p:grpSpPr>
        <p:sp>
          <p:nvSpPr>
            <p:cNvPr id="1142" name=""/>
            <p:cNvSpPr/>
            <p:nvPr/>
          </p:nvSpPr>
          <p:spPr>
            <a:xfrm>
              <a:off x="6858000" y="617220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543800" y="5486400"/>
              <a:ext cx="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6019920" y="5486400"/>
            <a:ext cx="1409760" cy="657720"/>
            <a:chOff x="6019920" y="5486400"/>
            <a:chExt cx="1409760" cy="657720"/>
          </a:xfrm>
        </p:grpSpPr>
        <p:sp>
          <p:nvSpPr>
            <p:cNvPr id="1145" name=""/>
            <p:cNvSpPr/>
            <p:nvPr/>
          </p:nvSpPr>
          <p:spPr>
            <a:xfrm>
              <a:off x="6553080" y="54864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172200" y="54864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934320" y="548640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019920" y="5562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400800" y="5562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781680" y="556272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2209680" y="5181480"/>
            <a:ext cx="266760" cy="1181160"/>
          </a:xfrm>
          <a:custGeom>
            <a:avLst/>
            <a:gdLst/>
            <a:ahLst/>
            <a:rect l="l" t="t" r="r" b="b"/>
            <a:pathLst>
              <a:path w="200" h="792">
                <a:moveTo>
                  <a:pt x="200" y="792"/>
                </a:moveTo>
                <a:cubicBezTo>
                  <a:pt x="175" y="757"/>
                  <a:pt x="81" y="716"/>
                  <a:pt x="48" y="584"/>
                </a:cubicBezTo>
                <a:cubicBezTo>
                  <a:pt x="15" y="452"/>
                  <a:pt x="10" y="12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2" name=""/>
          <p:cNvGrpSpPr/>
          <p:nvPr/>
        </p:nvGrpSpPr>
        <p:grpSpPr>
          <a:xfrm>
            <a:off x="4343400" y="5562720"/>
            <a:ext cx="2286000" cy="1130040"/>
            <a:chOff x="4343400" y="5562720"/>
            <a:chExt cx="2286000" cy="1130040"/>
          </a:xfrm>
        </p:grpSpPr>
        <p:sp>
          <p:nvSpPr>
            <p:cNvPr id="1153" name=""/>
            <p:cNvSpPr/>
            <p:nvPr/>
          </p:nvSpPr>
          <p:spPr>
            <a:xfrm>
              <a:off x="4343400" y="617220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5105160" y="5562720"/>
              <a:ext cx="6094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1/3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09480" y="3962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2133360" y="4191120"/>
            <a:ext cx="2590920" cy="459720"/>
            <a:chOff x="2133360" y="4191120"/>
            <a:chExt cx="2590920" cy="459720"/>
          </a:xfrm>
        </p:grpSpPr>
        <p:sp>
          <p:nvSpPr>
            <p:cNvPr id="1160" name=""/>
            <p:cNvSpPr/>
            <p:nvPr/>
          </p:nvSpPr>
          <p:spPr>
            <a:xfrm rot="5400000">
              <a:off x="2171520" y="41529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133720" y="419112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2" name=""/>
          <p:cNvSpPr/>
          <p:nvPr/>
        </p:nvSpPr>
        <p:spPr>
          <a:xfrm>
            <a:off x="3352680" y="39625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914400" y="4648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1676520" y="4876920"/>
            <a:ext cx="761760" cy="459720"/>
            <a:chOff x="1676520" y="4876920"/>
            <a:chExt cx="761760" cy="459720"/>
          </a:xfrm>
        </p:grpSpPr>
        <p:sp>
          <p:nvSpPr>
            <p:cNvPr id="1167" name=""/>
            <p:cNvSpPr/>
            <p:nvPr/>
          </p:nvSpPr>
          <p:spPr>
            <a:xfrm>
              <a:off x="1676520" y="48769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rot="5400000">
              <a:off x="1866600" y="48387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3352680" y="46483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E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 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914400" y="5257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914400" y="5486400"/>
            <a:ext cx="3200400" cy="536040"/>
            <a:chOff x="914400" y="5486400"/>
            <a:chExt cx="3200400" cy="536040"/>
          </a:xfrm>
        </p:grpSpPr>
        <p:sp>
          <p:nvSpPr>
            <p:cNvPr id="1172" name=""/>
            <p:cNvSpPr/>
            <p:nvPr/>
          </p:nvSpPr>
          <p:spPr>
            <a:xfrm rot="5400000">
              <a:off x="1866600" y="54482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914400" y="55627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3352680" y="52578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5" name=""/>
          <p:cNvGrpSpPr/>
          <p:nvPr/>
        </p:nvGrpSpPr>
        <p:grpSpPr>
          <a:xfrm>
            <a:off x="609480" y="6019920"/>
            <a:ext cx="8001000" cy="380880"/>
            <a:chOff x="609480" y="6019920"/>
            <a:chExt cx="8001000" cy="380880"/>
          </a:xfrm>
        </p:grpSpPr>
        <p:sp>
          <p:nvSpPr>
            <p:cNvPr id="1176" name=""/>
            <p:cNvSpPr/>
            <p:nvPr/>
          </p:nvSpPr>
          <p:spPr>
            <a:xfrm>
              <a:off x="609480" y="601992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85800" y="6400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5562720" y="1143000"/>
            <a:ext cx="22096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609480" y="2438280"/>
            <a:ext cx="7848720" cy="381240"/>
            <a:chOff x="609480" y="2438280"/>
            <a:chExt cx="7848720" cy="381240"/>
          </a:xfrm>
        </p:grpSpPr>
        <p:sp>
          <p:nvSpPr>
            <p:cNvPr id="1180" name=""/>
            <p:cNvSpPr/>
            <p:nvPr/>
          </p:nvSpPr>
          <p:spPr>
            <a:xfrm>
              <a:off x="609480" y="2438280"/>
              <a:ext cx="510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0)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85800" y="28195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609480" y="2819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 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352680" y="28195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1905120" y="3124080"/>
            <a:ext cx="761760" cy="459720"/>
            <a:chOff x="1905120" y="3124080"/>
            <a:chExt cx="761760" cy="459720"/>
          </a:xfrm>
        </p:grpSpPr>
        <p:sp>
          <p:nvSpPr>
            <p:cNvPr id="1185" name=""/>
            <p:cNvSpPr/>
            <p:nvPr/>
          </p:nvSpPr>
          <p:spPr>
            <a:xfrm rot="5400000">
              <a:off x="2094840" y="30859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905120" y="31240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609480" y="3505320"/>
            <a:ext cx="8001000" cy="380880"/>
            <a:chOff x="609480" y="3505320"/>
            <a:chExt cx="8001000" cy="380880"/>
          </a:xfrm>
        </p:grpSpPr>
        <p:sp>
          <p:nvSpPr>
            <p:cNvPr id="1188" name=""/>
            <p:cNvSpPr/>
            <p:nvPr/>
          </p:nvSpPr>
          <p:spPr>
            <a:xfrm>
              <a:off x="685800" y="38862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09480" y="350532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2/3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533520" y="4648320"/>
            <a:ext cx="8381880" cy="2211120"/>
            <a:chOff x="533520" y="4648320"/>
            <a:chExt cx="8381880" cy="2211120"/>
          </a:xfrm>
        </p:grpSpPr>
        <p:sp>
          <p:nvSpPr>
            <p:cNvPr id="1196" name=""/>
            <p:cNvSpPr/>
            <p:nvPr/>
          </p:nvSpPr>
          <p:spPr>
            <a:xfrm>
              <a:off x="533520" y="466236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rot="5400000">
              <a:off x="2094840" y="485280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057400" y="489096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429000" y="464832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600200" y="5500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38080" y="52722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rot="5400000">
              <a:off x="1790280" y="54626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429000" y="5257800"/>
              <a:ext cx="525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838080" y="580536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5400000">
              <a:off x="1789920" y="599580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38080" y="611028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429000" y="5791320"/>
              <a:ext cx="541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09480" y="649116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9" name=""/>
          <p:cNvSpPr/>
          <p:nvPr/>
        </p:nvSpPr>
        <p:spPr>
          <a:xfrm>
            <a:off x="5562720" y="1143000"/>
            <a:ext cx="28954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609480" y="2438280"/>
            <a:ext cx="8153640" cy="2288520"/>
            <a:chOff x="609480" y="2438280"/>
            <a:chExt cx="8153640" cy="2288520"/>
          </a:xfrm>
        </p:grpSpPr>
        <p:sp>
          <p:nvSpPr>
            <p:cNvPr id="1211" name=""/>
            <p:cNvSpPr/>
            <p:nvPr/>
          </p:nvSpPr>
          <p:spPr>
            <a:xfrm>
              <a:off x="609480" y="24382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rot="5400000">
              <a:off x="2475720" y="26287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438280" y="266688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429000" y="2438280"/>
              <a:ext cx="533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E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981080" y="3276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914400" y="304812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rot="5400000">
              <a:off x="2171520" y="32385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429000" y="304812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E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 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914400" y="35812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rot="5400000">
              <a:off x="2171160" y="37717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219320" y="388620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429000" y="358128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85800" y="426708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Nothing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62120" y="4648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3/3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609480" y="2514600"/>
            <a:ext cx="8534520" cy="2349360"/>
            <a:chOff x="609480" y="2514600"/>
            <a:chExt cx="8534520" cy="2349360"/>
          </a:xfrm>
        </p:grpSpPr>
        <p:sp>
          <p:nvSpPr>
            <p:cNvPr id="1232" name=""/>
            <p:cNvSpPr/>
            <p:nvPr/>
          </p:nvSpPr>
          <p:spPr>
            <a:xfrm>
              <a:off x="3429000" y="2514600"/>
              <a:ext cx="57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429000" y="365760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62120" y="4800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09480" y="25146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rot="5400000">
              <a:off x="2400120" y="27050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362320" y="274320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981080" y="3352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914400" y="31240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rot="5400000">
              <a:off x="2171160" y="33145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429000" y="312408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914400" y="36576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rot="5400000">
              <a:off x="2171520" y="38480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219320" y="39625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85800" y="434340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nd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Nothing is changed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609480" y="4724280"/>
            <a:ext cx="6858000" cy="1882080"/>
            <a:chOff x="609480" y="4724280"/>
            <a:chExt cx="6858000" cy="1882080"/>
          </a:xfrm>
        </p:grpSpPr>
        <p:sp>
          <p:nvSpPr>
            <p:cNvPr id="1247" name=""/>
            <p:cNvSpPr/>
            <p:nvPr/>
          </p:nvSpPr>
          <p:spPr>
            <a:xfrm>
              <a:off x="609480" y="4724280"/>
              <a:ext cx="22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666880" y="4800600"/>
              <a:ext cx="4800600" cy="180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E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E</a:t>
              </a:r>
              <a:r>
                <a:rPr b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T</a:t>
              </a:r>
              <a:r>
                <a:rPr b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F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Predi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" y="2590920"/>
            <a:ext cx="7788240" cy="326124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def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so 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7200" y="1143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523880" y="114300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redic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of all terminals that can begin a string obtained by a derivation started  by using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 Predict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):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Illustr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5257800" y="2971800"/>
            <a:ext cx="1981080" cy="1036800"/>
            <a:chOff x="5257800" y="2971800"/>
            <a:chExt cx="1981080" cy="1036800"/>
          </a:xfrm>
        </p:grpSpPr>
        <p:sp>
          <p:nvSpPr>
            <p:cNvPr id="1257" name=""/>
            <p:cNvSpPr/>
            <p:nvPr/>
          </p:nvSpPr>
          <p:spPr>
            <a:xfrm>
              <a:off x="533412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94360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70572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257800" y="34290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867280" y="34290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629400" y="34290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5486040" y="2971800"/>
              <a:ext cx="1523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6248520" y="2971800"/>
              <a:ext cx="7617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6933960" y="2971800"/>
              <a:ext cx="759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3244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7" name=""/>
          <p:cNvSpPr/>
          <p:nvPr/>
        </p:nvSpPr>
        <p:spPr>
          <a:xfrm flipV="1">
            <a:off x="4038480" y="167616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7238880" y="2971800"/>
            <a:ext cx="1603440" cy="1752480"/>
            <a:chOff x="7238880" y="2971800"/>
            <a:chExt cx="1603440" cy="1752480"/>
          </a:xfrm>
        </p:grpSpPr>
        <p:sp>
          <p:nvSpPr>
            <p:cNvPr id="1269" name=""/>
            <p:cNvSpPr/>
            <p:nvPr/>
          </p:nvSpPr>
          <p:spPr>
            <a:xfrm>
              <a:off x="7238880" y="42670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238880" y="2971800"/>
              <a:ext cx="1603440" cy="12952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696080" y="426708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80773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4582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0773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4582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"/>
          <p:cNvGrpSpPr/>
          <p:nvPr/>
        </p:nvGrpSpPr>
        <p:grpSpPr>
          <a:xfrm>
            <a:off x="1752480" y="3124080"/>
            <a:ext cx="2057400" cy="808200"/>
            <a:chOff x="1752480" y="3124080"/>
            <a:chExt cx="2057400" cy="808200"/>
          </a:xfrm>
        </p:grpSpPr>
        <p:sp>
          <p:nvSpPr>
            <p:cNvPr id="1277" name=""/>
            <p:cNvSpPr/>
            <p:nvPr/>
          </p:nvSpPr>
          <p:spPr>
            <a:xfrm>
              <a:off x="182880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43828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27672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752480" y="33526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362320" y="33526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33526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1980720" y="3124080"/>
              <a:ext cx="7621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2666880" y="312408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743200" y="3124080"/>
              <a:ext cx="6858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89548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1600200" y="3886200"/>
            <a:ext cx="2362320" cy="838080"/>
            <a:chOff x="1600200" y="3886200"/>
            <a:chExt cx="2362320" cy="838080"/>
          </a:xfrm>
        </p:grpSpPr>
        <p:sp>
          <p:nvSpPr>
            <p:cNvPr id="1288" name=""/>
            <p:cNvSpPr/>
            <p:nvPr/>
          </p:nvSpPr>
          <p:spPr>
            <a:xfrm>
              <a:off x="1600200" y="42670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057400" y="4267080"/>
              <a:ext cx="190512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382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8195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5812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2004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4382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8195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5812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2004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1600200" y="3886200"/>
              <a:ext cx="2362320" cy="380880"/>
            </a:xfrm>
            <a:custGeom>
              <a:avLst/>
              <a:gdLst>
                <a:gd name="textAreaLeft" fmla="*/ 327960 w 2362320"/>
                <a:gd name="textAreaRight" fmla="*/ 2034360 w 2362320"/>
                <a:gd name="textAreaTop" fmla="*/ 52920 h 380880"/>
                <a:gd name="textAreaBottom" fmla="*/ 3279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351" y="21600"/>
                  </a:lnTo>
                  <a:lnTo>
                    <a:pt x="2249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5257800" y="3962520"/>
            <a:ext cx="2019240" cy="733680"/>
            <a:chOff x="5257800" y="3962520"/>
            <a:chExt cx="2019240" cy="733680"/>
          </a:xfrm>
        </p:grpSpPr>
        <p:grpSp>
          <p:nvGrpSpPr>
            <p:cNvPr id="1300" name=""/>
            <p:cNvGrpSpPr/>
            <p:nvPr/>
          </p:nvGrpSpPr>
          <p:grpSpPr>
            <a:xfrm>
              <a:off x="5257800" y="3962520"/>
              <a:ext cx="647640" cy="733680"/>
              <a:chOff x="5257800" y="3962520"/>
              <a:chExt cx="647640" cy="733680"/>
            </a:xfrm>
          </p:grpSpPr>
          <p:sp>
            <p:nvSpPr>
              <p:cNvPr id="1301" name=""/>
              <p:cNvSpPr/>
              <p:nvPr/>
            </p:nvSpPr>
            <p:spPr>
              <a:xfrm>
                <a:off x="5257800" y="411480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410080" y="3962520"/>
                <a:ext cx="30492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3" name=""/>
            <p:cNvGrpSpPr/>
            <p:nvPr/>
          </p:nvGrpSpPr>
          <p:grpSpPr>
            <a:xfrm>
              <a:off x="5867280" y="3962520"/>
              <a:ext cx="648000" cy="733680"/>
              <a:chOff x="5867280" y="3962520"/>
              <a:chExt cx="648000" cy="733680"/>
            </a:xfrm>
          </p:grpSpPr>
          <p:sp>
            <p:nvSpPr>
              <p:cNvPr id="1304" name=""/>
              <p:cNvSpPr/>
              <p:nvPr/>
            </p:nvSpPr>
            <p:spPr>
              <a:xfrm>
                <a:off x="6019920" y="3962520"/>
                <a:ext cx="30456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867280" y="4114800"/>
                <a:ext cx="64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6" name=""/>
            <p:cNvGrpSpPr/>
            <p:nvPr/>
          </p:nvGrpSpPr>
          <p:grpSpPr>
            <a:xfrm>
              <a:off x="6629400" y="3962520"/>
              <a:ext cx="647640" cy="733680"/>
              <a:chOff x="6629400" y="3962520"/>
              <a:chExt cx="647640" cy="733680"/>
            </a:xfrm>
          </p:grpSpPr>
          <p:sp>
            <p:nvSpPr>
              <p:cNvPr id="1307" name=""/>
              <p:cNvSpPr/>
              <p:nvPr/>
            </p:nvSpPr>
            <p:spPr>
              <a:xfrm>
                <a:off x="6781680" y="3962520"/>
                <a:ext cx="30492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629400" y="411480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9" name=""/>
            <p:cNvSpPr/>
            <p:nvPr/>
          </p:nvSpPr>
          <p:spPr>
            <a:xfrm>
              <a:off x="6248520" y="4038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0" name=""/>
          <p:cNvSpPr/>
          <p:nvPr/>
        </p:nvSpPr>
        <p:spPr>
          <a:xfrm>
            <a:off x="762120" y="1143000"/>
            <a:ext cx="731520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vs.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228600" y="4800600"/>
            <a:ext cx="3124080" cy="723240"/>
            <a:chOff x="228600" y="4800600"/>
            <a:chExt cx="3124080" cy="723240"/>
          </a:xfrm>
        </p:grpSpPr>
        <p:sp>
          <p:nvSpPr>
            <p:cNvPr id="1312" name=""/>
            <p:cNvSpPr/>
            <p:nvPr/>
          </p:nvSpPr>
          <p:spPr>
            <a:xfrm>
              <a:off x="228600" y="4952880"/>
              <a:ext cx="312408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Firs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676520" y="480060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6934320" y="4800600"/>
            <a:ext cx="2209680" cy="1038240"/>
            <a:chOff x="6934320" y="4800600"/>
            <a:chExt cx="2209680" cy="1038240"/>
          </a:xfrm>
        </p:grpSpPr>
        <p:sp>
          <p:nvSpPr>
            <p:cNvPr id="1315" name=""/>
            <p:cNvSpPr/>
            <p:nvPr/>
          </p:nvSpPr>
          <p:spPr>
            <a:xfrm>
              <a:off x="6934320" y="4952880"/>
              <a:ext cx="22096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Follow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315200" y="48006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7" name=""/>
          <p:cNvGrpSpPr/>
          <p:nvPr/>
        </p:nvGrpSpPr>
        <p:grpSpPr>
          <a:xfrm>
            <a:off x="5409720" y="4572000"/>
            <a:ext cx="1676520" cy="581400"/>
            <a:chOff x="5409720" y="4572000"/>
            <a:chExt cx="1676520" cy="581400"/>
          </a:xfrm>
        </p:grpSpPr>
        <p:sp>
          <p:nvSpPr>
            <p:cNvPr id="1318" name=""/>
            <p:cNvSpPr/>
            <p:nvPr/>
          </p:nvSpPr>
          <p:spPr>
            <a:xfrm rot="5400000">
              <a:off x="6171840" y="3809880"/>
              <a:ext cx="152280" cy="16765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3560 h 1676520"/>
                <a:gd name="textAreaBottom" fmla="*/ 163296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867280" y="45720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0" name=""/>
          <p:cNvGrpSpPr/>
          <p:nvPr/>
        </p:nvGrpSpPr>
        <p:grpSpPr>
          <a:xfrm>
            <a:off x="380880" y="5410080"/>
            <a:ext cx="8610840" cy="1558440"/>
            <a:chOff x="380880" y="5410080"/>
            <a:chExt cx="8610840" cy="1558440"/>
          </a:xfrm>
        </p:grpSpPr>
        <p:sp>
          <p:nvSpPr>
            <p:cNvPr id="1321" name=""/>
            <p:cNvSpPr/>
            <p:nvPr/>
          </p:nvSpPr>
          <p:spPr>
            <a:xfrm>
              <a:off x="380880" y="5410080"/>
              <a:ext cx="8610840" cy="15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f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the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ollow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09480" y="5486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4108320" y="1676520"/>
            <a:ext cx="4273560" cy="3047760"/>
            <a:chOff x="4108320" y="1676520"/>
            <a:chExt cx="4273560" cy="3047760"/>
          </a:xfrm>
        </p:grpSpPr>
        <p:sp>
          <p:nvSpPr>
            <p:cNvPr id="1324" name=""/>
            <p:cNvSpPr/>
            <p:nvPr/>
          </p:nvSpPr>
          <p:spPr>
            <a:xfrm>
              <a:off x="6781680" y="2514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705720" y="167652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781680" y="2514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108320" y="2114640"/>
              <a:ext cx="4273560" cy="2152440"/>
            </a:xfrm>
            <a:custGeom>
              <a:avLst/>
              <a:gdLst/>
              <a:ahLst/>
              <a:rect l="l" t="t" r="r" b="b"/>
              <a:pathLst>
                <a:path w="2692" h="1356">
                  <a:moveTo>
                    <a:pt x="1642" y="0"/>
                  </a:moveTo>
                  <a:lnTo>
                    <a:pt x="0" y="1356"/>
                  </a:lnTo>
                  <a:lnTo>
                    <a:pt x="726" y="1356"/>
                  </a:lnTo>
                  <a:lnTo>
                    <a:pt x="724" y="822"/>
                  </a:lnTo>
                  <a:lnTo>
                    <a:pt x="1684" y="532"/>
                  </a:lnTo>
                  <a:lnTo>
                    <a:pt x="1684" y="248"/>
                  </a:lnTo>
                  <a:lnTo>
                    <a:pt x="2692" y="246"/>
                  </a:lnTo>
                  <a:lnTo>
                    <a:pt x="1942" y="0"/>
                  </a:lnTo>
                  <a:lnTo>
                    <a:pt x="164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629400" y="16765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114800" y="426708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4956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8769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8769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238880" y="25146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620120" y="2514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001000" y="2514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620120" y="2819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8001000" y="2819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4956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3276720" y="4952880"/>
            <a:ext cx="3809880" cy="475200"/>
            <a:chOff x="3276720" y="4952880"/>
            <a:chExt cx="3809880" cy="475200"/>
          </a:xfrm>
        </p:grpSpPr>
        <p:sp>
          <p:nvSpPr>
            <p:cNvPr id="1340" name=""/>
            <p:cNvSpPr/>
            <p:nvPr/>
          </p:nvSpPr>
          <p:spPr>
            <a:xfrm>
              <a:off x="3276720" y="4952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733920" y="5029200"/>
              <a:ext cx="335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the current input symb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380880" y="1828800"/>
            <a:ext cx="3084480" cy="2895480"/>
            <a:chOff x="380880" y="1828800"/>
            <a:chExt cx="3084480" cy="2895480"/>
          </a:xfrm>
        </p:grpSpPr>
        <p:sp>
          <p:nvSpPr>
            <p:cNvPr id="1343" name=""/>
            <p:cNvSpPr/>
            <p:nvPr/>
          </p:nvSpPr>
          <p:spPr>
            <a:xfrm>
              <a:off x="2514600" y="2666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209680" y="18288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133720" y="182880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80880" y="426708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514600" y="26668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80880" y="2286000"/>
              <a:ext cx="3084480" cy="2000160"/>
            </a:xfrm>
            <a:custGeom>
              <a:avLst/>
              <a:gdLst/>
              <a:ahLst/>
              <a:rect l="l" t="t" r="r" b="b"/>
              <a:pathLst>
                <a:path w="1943" h="1260">
                  <a:moveTo>
                    <a:pt x="1144" y="0"/>
                  </a:moveTo>
                  <a:lnTo>
                    <a:pt x="0" y="1260"/>
                  </a:lnTo>
                  <a:lnTo>
                    <a:pt x="726" y="1260"/>
                  </a:lnTo>
                  <a:lnTo>
                    <a:pt x="872" y="992"/>
                  </a:lnTo>
                  <a:lnTo>
                    <a:pt x="872" y="688"/>
                  </a:lnTo>
                  <a:lnTo>
                    <a:pt x="1344" y="524"/>
                  </a:lnTo>
                  <a:lnTo>
                    <a:pt x="1344" y="238"/>
                  </a:lnTo>
                  <a:lnTo>
                    <a:pt x="1634" y="240"/>
                  </a:lnTo>
                  <a:lnTo>
                    <a:pt x="1632" y="426"/>
                  </a:lnTo>
                  <a:cubicBezTo>
                    <a:pt x="1677" y="443"/>
                    <a:pt x="1865" y="391"/>
                    <a:pt x="1904" y="344"/>
                  </a:cubicBezTo>
                  <a:cubicBezTo>
                    <a:pt x="1943" y="297"/>
                    <a:pt x="1941" y="201"/>
                    <a:pt x="1864" y="144"/>
                  </a:cubicBezTo>
                  <a:lnTo>
                    <a:pt x="1440" y="0"/>
                  </a:lnTo>
                  <a:lnTo>
                    <a:pt x="114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621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1430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621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1430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837720" y="1600200"/>
            <a:ext cx="2971800" cy="1143000"/>
            <a:chOff x="837720" y="1600200"/>
            <a:chExt cx="2971800" cy="1143000"/>
          </a:xfrm>
        </p:grpSpPr>
        <p:sp>
          <p:nvSpPr>
            <p:cNvPr id="1354" name=""/>
            <p:cNvSpPr/>
            <p:nvPr/>
          </p:nvSpPr>
          <p:spPr>
            <a:xfrm rot="5400000">
              <a:off x="2247480" y="190080"/>
              <a:ext cx="152280" cy="2971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0857"/>
                  </a:lnTo>
                  <a:cubicBezTo>
                    <a:pt x="10800" y="11757"/>
                    <a:pt x="16200" y="12657"/>
                    <a:pt x="21600" y="12657"/>
                  </a:cubicBezTo>
                  <a:cubicBezTo>
                    <a:pt x="16200" y="12657"/>
                    <a:pt x="10800" y="13557"/>
                    <a:pt x="10800" y="1445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057400" y="1828800"/>
              <a:ext cx="304920" cy="914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3047760" y="1600200"/>
            <a:ext cx="4419720" cy="1219320"/>
            <a:chOff x="3047760" y="1600200"/>
            <a:chExt cx="4419720" cy="1219320"/>
          </a:xfrm>
        </p:grpSpPr>
        <p:sp>
          <p:nvSpPr>
            <p:cNvPr id="1357" name=""/>
            <p:cNvSpPr/>
            <p:nvPr/>
          </p:nvSpPr>
          <p:spPr>
            <a:xfrm rot="5400000">
              <a:off x="5790960" y="75960"/>
              <a:ext cx="152280" cy="3200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83160 h 3200400"/>
                <a:gd name="textAreaBottom" fmla="*/ 311724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0857"/>
                  </a:lnTo>
                  <a:cubicBezTo>
                    <a:pt x="10800" y="11757"/>
                    <a:pt x="16200" y="12657"/>
                    <a:pt x="21600" y="12657"/>
                  </a:cubicBezTo>
                  <a:cubicBezTo>
                    <a:pt x="16200" y="12657"/>
                    <a:pt x="10800" y="13557"/>
                    <a:pt x="10800" y="1445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3047760" y="1828800"/>
              <a:ext cx="2514600" cy="990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5029200" y="1752480"/>
            <a:ext cx="1600200" cy="914400"/>
            <a:chOff x="5029200" y="1752480"/>
            <a:chExt cx="1600200" cy="914400"/>
          </a:xfrm>
        </p:grpSpPr>
        <p:sp>
          <p:nvSpPr>
            <p:cNvPr id="1360" name=""/>
            <p:cNvSpPr/>
            <p:nvPr/>
          </p:nvSpPr>
          <p:spPr>
            <a:xfrm>
              <a:off x="5562720" y="1828800"/>
              <a:ext cx="106668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029200" y="1752480"/>
              <a:ext cx="9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1/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4" name=""/>
          <p:cNvGrpSpPr/>
          <p:nvPr/>
        </p:nvGrpSpPr>
        <p:grpSpPr>
          <a:xfrm>
            <a:off x="457200" y="2438280"/>
            <a:ext cx="8001000" cy="1067040"/>
            <a:chOff x="457200" y="2438280"/>
            <a:chExt cx="8001000" cy="1067040"/>
          </a:xfrm>
        </p:grpSpPr>
        <p:sp>
          <p:nvSpPr>
            <p:cNvPr id="1365" name=""/>
            <p:cNvSpPr/>
            <p:nvPr/>
          </p:nvSpPr>
          <p:spPr>
            <a:xfrm>
              <a:off x="685800" y="3505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57200" y="243828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1" name=""/>
          <p:cNvGrpSpPr/>
          <p:nvPr/>
        </p:nvGrpSpPr>
        <p:grpSpPr>
          <a:xfrm>
            <a:off x="457200" y="3505320"/>
            <a:ext cx="8001000" cy="1066680"/>
            <a:chOff x="457200" y="3505320"/>
            <a:chExt cx="8001000" cy="1066680"/>
          </a:xfrm>
        </p:grpSpPr>
        <p:sp>
          <p:nvSpPr>
            <p:cNvPr id="1372" name=""/>
            <p:cNvSpPr/>
            <p:nvPr/>
          </p:nvSpPr>
          <p:spPr>
            <a:xfrm>
              <a:off x="685800" y="4572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57200" y="350532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4" name=""/>
          <p:cNvGrpSpPr/>
          <p:nvPr/>
        </p:nvGrpSpPr>
        <p:grpSpPr>
          <a:xfrm>
            <a:off x="457200" y="4572000"/>
            <a:ext cx="8001000" cy="1066680"/>
            <a:chOff x="457200" y="4572000"/>
            <a:chExt cx="8001000" cy="1066680"/>
          </a:xfrm>
        </p:grpSpPr>
        <p:sp>
          <p:nvSpPr>
            <p:cNvPr id="1375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57200" y="4572000"/>
              <a:ext cx="800100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3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7" name=""/>
          <p:cNvSpPr/>
          <p:nvPr/>
        </p:nvSpPr>
        <p:spPr>
          <a:xfrm>
            <a:off x="457200" y="5638680"/>
            <a:ext cx="739152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becaus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redi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: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2/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457200" y="2438280"/>
            <a:ext cx="8001000" cy="1067040"/>
            <a:chOff x="457200" y="2438280"/>
            <a:chExt cx="8001000" cy="1067040"/>
          </a:xfrm>
        </p:grpSpPr>
        <p:sp>
          <p:nvSpPr>
            <p:cNvPr id="1385" name=""/>
            <p:cNvSpPr/>
            <p:nvPr/>
          </p:nvSpPr>
          <p:spPr>
            <a:xfrm>
              <a:off x="685800" y="3505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57200" y="243828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7" name=""/>
          <p:cNvGrpSpPr/>
          <p:nvPr/>
        </p:nvGrpSpPr>
        <p:grpSpPr>
          <a:xfrm>
            <a:off x="457200" y="3505320"/>
            <a:ext cx="8458200" cy="1312200"/>
            <a:chOff x="457200" y="3505320"/>
            <a:chExt cx="8458200" cy="1312200"/>
          </a:xfrm>
        </p:grpSpPr>
        <p:sp>
          <p:nvSpPr>
            <p:cNvPr id="1388" name=""/>
            <p:cNvSpPr/>
            <p:nvPr/>
          </p:nvSpPr>
          <p:spPr>
            <a:xfrm>
              <a:off x="685800" y="4572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57200" y="3505320"/>
              <a:ext cx="845820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6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0" name=""/>
          <p:cNvGrpSpPr/>
          <p:nvPr/>
        </p:nvGrpSpPr>
        <p:grpSpPr>
          <a:xfrm>
            <a:off x="457200" y="4572000"/>
            <a:ext cx="8001000" cy="1066680"/>
            <a:chOff x="457200" y="4572000"/>
            <a:chExt cx="8001000" cy="1066680"/>
          </a:xfrm>
        </p:grpSpPr>
        <p:sp>
          <p:nvSpPr>
            <p:cNvPr id="1391" name=""/>
            <p:cNvSpPr/>
            <p:nvPr/>
          </p:nvSpPr>
          <p:spPr>
            <a:xfrm>
              <a:off x="457200" y="457200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7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3" name=""/>
          <p:cNvSpPr/>
          <p:nvPr/>
        </p:nvSpPr>
        <p:spPr>
          <a:xfrm>
            <a:off x="457200" y="5638680"/>
            <a:ext cx="845820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redi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: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on of LL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6" name=""/>
          <p:cNvGrpSpPr/>
          <p:nvPr/>
        </p:nvGrpSpPr>
        <p:grpSpPr>
          <a:xfrm>
            <a:off x="685800" y="1143000"/>
            <a:ext cx="3809880" cy="1942560"/>
            <a:chOff x="685800" y="1143000"/>
            <a:chExt cx="3809880" cy="1942560"/>
          </a:xfrm>
        </p:grpSpPr>
        <p:sp>
          <p:nvSpPr>
            <p:cNvPr id="1397" name=""/>
            <p:cNvSpPr/>
            <p:nvPr/>
          </p:nvSpPr>
          <p:spPr>
            <a:xfrm>
              <a:off x="160020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14600" y="121896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58128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85800" y="2603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85800" y="1701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85800" y="213336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514600" y="21333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971800" y="1701720"/>
              <a:ext cx="1440" cy="914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600200" y="2361960"/>
              <a:ext cx="91440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514600" y="1701720"/>
              <a:ext cx="1066680" cy="138384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600200" y="2133360"/>
              <a:ext cx="28954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600200" y="1701720"/>
              <a:ext cx="2895480" cy="1383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514600" y="212076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838080" y="11430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3581280" y="1752480"/>
            <a:ext cx="5257800" cy="1341720"/>
            <a:chOff x="3581280" y="1752480"/>
            <a:chExt cx="5257800" cy="1341720"/>
          </a:xfrm>
        </p:grpSpPr>
        <p:sp>
          <p:nvSpPr>
            <p:cNvPr id="1412" name=""/>
            <p:cNvSpPr/>
            <p:nvPr/>
          </p:nvSpPr>
          <p:spPr>
            <a:xfrm>
              <a:off x="4572000" y="1752480"/>
              <a:ext cx="4267080" cy="1341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1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is blank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V="1">
              <a:off x="3581280" y="2057400"/>
              <a:ext cx="106704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4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5" name=""/>
          <p:cNvGrpSpPr/>
          <p:nvPr/>
        </p:nvGrpSpPr>
        <p:grpSpPr>
          <a:xfrm>
            <a:off x="1143000" y="3886200"/>
            <a:ext cx="4190760" cy="794880"/>
            <a:chOff x="1143000" y="3886200"/>
            <a:chExt cx="4190760" cy="794880"/>
          </a:xfrm>
        </p:grpSpPr>
        <p:sp>
          <p:nvSpPr>
            <p:cNvPr id="1416" name=""/>
            <p:cNvSpPr/>
            <p:nvPr/>
          </p:nvSpPr>
          <p:spPr>
            <a:xfrm>
              <a:off x="1981080" y="4191120"/>
              <a:ext cx="2514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3733560" y="3886200"/>
              <a:ext cx="1600200" cy="685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1676520" y="44197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143000" y="41911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0" name=""/>
          <p:cNvGrpSpPr/>
          <p:nvPr/>
        </p:nvGrpSpPr>
        <p:grpSpPr>
          <a:xfrm>
            <a:off x="1143000" y="4876920"/>
            <a:ext cx="4190760" cy="489960"/>
            <a:chOff x="1143000" y="4876920"/>
            <a:chExt cx="4190760" cy="489960"/>
          </a:xfrm>
        </p:grpSpPr>
        <p:sp>
          <p:nvSpPr>
            <p:cNvPr id="1421" name=""/>
            <p:cNvSpPr/>
            <p:nvPr/>
          </p:nvSpPr>
          <p:spPr>
            <a:xfrm>
              <a:off x="1981080" y="4876920"/>
              <a:ext cx="1981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4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3733560" y="5029200"/>
              <a:ext cx="1600200" cy="1522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1676520" y="51055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143000" y="4876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1143000" y="5562720"/>
            <a:ext cx="4267080" cy="914400"/>
            <a:chOff x="1143000" y="5562720"/>
            <a:chExt cx="4267080" cy="914400"/>
          </a:xfrm>
        </p:grpSpPr>
        <p:sp>
          <p:nvSpPr>
            <p:cNvPr id="1426" name=""/>
            <p:cNvSpPr/>
            <p:nvPr/>
          </p:nvSpPr>
          <p:spPr>
            <a:xfrm>
              <a:off x="1981080" y="5562720"/>
              <a:ext cx="2057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8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 flipV="1">
              <a:off x="3733920" y="5867280"/>
              <a:ext cx="1676160" cy="6098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1430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0" name=""/>
          <p:cNvSpPr/>
          <p:nvPr/>
        </p:nvSpPr>
        <p:spPr>
          <a:xfrm>
            <a:off x="609480" y="60357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1" name=""/>
          <p:cNvGrpSpPr/>
          <p:nvPr/>
        </p:nvGrpSpPr>
        <p:grpSpPr>
          <a:xfrm>
            <a:off x="609480" y="3124080"/>
            <a:ext cx="8229600" cy="3919320"/>
            <a:chOff x="609480" y="3124080"/>
            <a:chExt cx="8229600" cy="3919320"/>
          </a:xfrm>
        </p:grpSpPr>
        <p:sp>
          <p:nvSpPr>
            <p:cNvPr id="1432" name=""/>
            <p:cNvSpPr/>
            <p:nvPr/>
          </p:nvSpPr>
          <p:spPr>
            <a:xfrm>
              <a:off x="685800" y="373392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62120" y="4114800"/>
              <a:ext cx="685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219320" y="3733920"/>
              <a:ext cx="144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85800" y="3733920"/>
              <a:ext cx="144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85800" y="419112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85800" y="6019920"/>
              <a:ext cx="21747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09480" y="3124080"/>
              <a:ext cx="44197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LL table for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exp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990720" y="3733920"/>
              <a:ext cx="1009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752480" y="3733920"/>
              <a:ext cx="180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52388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590920" y="3657600"/>
              <a:ext cx="1009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28600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81952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05740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352680" y="3733920"/>
              <a:ext cx="18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88620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41972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200400" y="365760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65760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334120" y="3657600"/>
              <a:ext cx="20574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315200" y="3657600"/>
              <a:ext cx="129528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257800" y="365760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181480" y="327672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16292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4582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2578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257800" y="670572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5257800" y="327672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sing Based on LL Table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038480" y="365760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09480" y="3124080"/>
            <a:ext cx="441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*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85800" y="121932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762120" y="160020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2193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85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5800" y="160020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85800" y="312408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9907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7524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5238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5909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2860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8195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1430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1430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1430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2057400" y="12193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3526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8862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4197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2004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6576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648320" y="137160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477120" y="13716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7432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7432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7432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6765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6765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22096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2767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32767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8098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8098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685800" y="3200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3733920" y="609588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191120" y="609588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0" name=""/>
          <p:cNvGrpSpPr/>
          <p:nvPr/>
        </p:nvGrpSpPr>
        <p:grpSpPr>
          <a:xfrm>
            <a:off x="4952880" y="6095880"/>
            <a:ext cx="533520" cy="550800"/>
            <a:chOff x="4952880" y="6095880"/>
            <a:chExt cx="533520" cy="550800"/>
          </a:xfrm>
        </p:grpSpPr>
        <p:sp>
          <p:nvSpPr>
            <p:cNvPr id="1501" name=""/>
            <p:cNvSpPr/>
            <p:nvPr/>
          </p:nvSpPr>
          <p:spPr>
            <a:xfrm>
              <a:off x="5029200" y="6172200"/>
              <a:ext cx="3808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952880" y="609588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3" name=""/>
          <p:cNvGrpSpPr/>
          <p:nvPr/>
        </p:nvGrpSpPr>
        <p:grpSpPr>
          <a:xfrm>
            <a:off x="3200400" y="4419720"/>
            <a:ext cx="1219320" cy="931680"/>
            <a:chOff x="3200400" y="4419720"/>
            <a:chExt cx="1219320" cy="931680"/>
          </a:xfrm>
        </p:grpSpPr>
        <p:sp>
          <p:nvSpPr>
            <p:cNvPr id="1504" name=""/>
            <p:cNvSpPr/>
            <p:nvPr/>
          </p:nvSpPr>
          <p:spPr>
            <a:xfrm>
              <a:off x="3200400" y="480060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733920" y="480060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358092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80988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429000" y="4419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3581280" y="3809880"/>
            <a:ext cx="2210040" cy="932040"/>
            <a:chOff x="3581280" y="3809880"/>
            <a:chExt cx="2210040" cy="932040"/>
          </a:xfrm>
        </p:grpSpPr>
        <p:sp>
          <p:nvSpPr>
            <p:cNvPr id="1510" name=""/>
            <p:cNvSpPr/>
            <p:nvPr/>
          </p:nvSpPr>
          <p:spPr>
            <a:xfrm>
              <a:off x="5105520" y="419112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E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581280" y="419112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>
              <a:off x="3886200" y="4114800"/>
              <a:ext cx="380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267080" y="4114800"/>
              <a:ext cx="11430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809880" y="3809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4038480" y="4952880"/>
            <a:ext cx="1295640" cy="1219320"/>
            <a:chOff x="4038480" y="4952880"/>
            <a:chExt cx="1295640" cy="1219320"/>
          </a:xfrm>
        </p:grpSpPr>
        <p:sp>
          <p:nvSpPr>
            <p:cNvPr id="1516" name=""/>
            <p:cNvSpPr/>
            <p:nvPr/>
          </p:nvSpPr>
          <p:spPr>
            <a:xfrm>
              <a:off x="4191120" y="5410080"/>
              <a:ext cx="533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648320" y="518148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038480" y="52578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038480" y="5257800"/>
              <a:ext cx="3812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038480" y="5257800"/>
              <a:ext cx="7621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11480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2" name=""/>
          <p:cNvSpPr/>
          <p:nvPr/>
        </p:nvSpPr>
        <p:spPr>
          <a:xfrm>
            <a:off x="3200400" y="609588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3" name=""/>
          <p:cNvGrpSpPr/>
          <p:nvPr/>
        </p:nvGrpSpPr>
        <p:grpSpPr>
          <a:xfrm>
            <a:off x="3124080" y="5257800"/>
            <a:ext cx="381240" cy="914400"/>
            <a:chOff x="3124080" y="5257800"/>
            <a:chExt cx="381240" cy="914400"/>
          </a:xfrm>
        </p:grpSpPr>
        <p:sp>
          <p:nvSpPr>
            <p:cNvPr id="1524" name=""/>
            <p:cNvSpPr/>
            <p:nvPr/>
          </p:nvSpPr>
          <p:spPr>
            <a:xfrm>
              <a:off x="3429000" y="52578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1240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4191120" y="5791320"/>
            <a:ext cx="380880" cy="459720"/>
            <a:chOff x="4191120" y="5791320"/>
            <a:chExt cx="380880" cy="459720"/>
          </a:xfrm>
        </p:grpSpPr>
        <p:sp>
          <p:nvSpPr>
            <p:cNvPr id="1527" name=""/>
            <p:cNvSpPr/>
            <p:nvPr/>
          </p:nvSpPr>
          <p:spPr>
            <a:xfrm>
              <a:off x="4495680" y="5791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191120" y="5791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4572000" y="5486400"/>
            <a:ext cx="685800" cy="703080"/>
            <a:chOff x="4572000" y="5486400"/>
            <a:chExt cx="685800" cy="703080"/>
          </a:xfrm>
        </p:grpSpPr>
        <p:sp>
          <p:nvSpPr>
            <p:cNvPr id="1530" name=""/>
            <p:cNvSpPr/>
            <p:nvPr/>
          </p:nvSpPr>
          <p:spPr>
            <a:xfrm>
              <a:off x="487692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572000" y="563868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876920" y="5486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5105520" y="4495680"/>
            <a:ext cx="685800" cy="703440"/>
            <a:chOff x="5105520" y="4495680"/>
            <a:chExt cx="685800" cy="703440"/>
          </a:xfrm>
        </p:grpSpPr>
        <p:sp>
          <p:nvSpPr>
            <p:cNvPr id="1534" name=""/>
            <p:cNvSpPr/>
            <p:nvPr/>
          </p:nvSpPr>
          <p:spPr>
            <a:xfrm>
              <a:off x="541044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105520" y="464832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410440" y="4495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057400"/>
            <a:ext cx="7788240" cy="13683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we define the set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as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{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Symbol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31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y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}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1066680"/>
            <a:ext cx="7162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 is the set of all terminals that can begin a sentential form derivable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581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743200" y="3657600"/>
            <a:ext cx="2819520" cy="581400"/>
            <a:chOff x="2743200" y="3657600"/>
            <a:chExt cx="2819520" cy="581400"/>
          </a:xfrm>
        </p:grpSpPr>
        <p:sp>
          <p:nvSpPr>
            <p:cNvPr id="184" name=""/>
            <p:cNvSpPr/>
            <p:nvPr/>
          </p:nvSpPr>
          <p:spPr>
            <a:xfrm>
              <a:off x="2743200" y="3657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5760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6708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920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1280" y="36576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91120" y="36576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52880" y="36576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48320" y="3657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352680" y="4191120"/>
            <a:ext cx="2438640" cy="1143000"/>
            <a:chOff x="3352680" y="4191120"/>
            <a:chExt cx="2438640" cy="1143000"/>
          </a:xfrm>
        </p:grpSpPr>
        <p:sp>
          <p:nvSpPr>
            <p:cNvPr id="193" name=""/>
            <p:cNvSpPr/>
            <p:nvPr/>
          </p:nvSpPr>
          <p:spPr>
            <a:xfrm>
              <a:off x="3352680" y="4876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09880" y="4876920"/>
              <a:ext cx="19814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9112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10080" y="487692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2920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9112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7200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10080" y="518184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2920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52680" y="4191120"/>
              <a:ext cx="83844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91120" y="419112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964240" y="5257800"/>
            <a:ext cx="33325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505320" y="5791320"/>
            <a:ext cx="2361960" cy="886320"/>
            <a:chOff x="3505320" y="5791320"/>
            <a:chExt cx="2361960" cy="886320"/>
          </a:xfrm>
        </p:grpSpPr>
        <p:sp>
          <p:nvSpPr>
            <p:cNvPr id="207" name=""/>
            <p:cNvSpPr/>
            <p:nvPr/>
          </p:nvSpPr>
          <p:spPr>
            <a:xfrm>
              <a:off x="3505320" y="6096240"/>
              <a:ext cx="236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95680" y="5791320"/>
              <a:ext cx="4222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3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85800" y="1143000"/>
            <a:ext cx="8077320" cy="21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L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grammar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if for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and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the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i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n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mo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tha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on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-rul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such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redic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09480" y="312408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304920" y="6324480"/>
            <a:ext cx="441936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267080" y="3200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uled out in an LL 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648320" y="6324480"/>
            <a:ext cx="411480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6" name=""/>
          <p:cNvGrpSpPr/>
          <p:nvPr/>
        </p:nvGrpSpPr>
        <p:grpSpPr>
          <a:xfrm>
            <a:off x="533520" y="3505320"/>
            <a:ext cx="3657600" cy="2027160"/>
            <a:chOff x="533520" y="3505320"/>
            <a:chExt cx="3657600" cy="2027160"/>
          </a:xfrm>
        </p:grpSpPr>
        <p:sp>
          <p:nvSpPr>
            <p:cNvPr id="1547" name=""/>
            <p:cNvSpPr/>
            <p:nvPr/>
          </p:nvSpPr>
          <p:spPr>
            <a:xfrm>
              <a:off x="533520" y="3505320"/>
              <a:ext cx="205740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8" name=""/>
            <p:cNvGrpSpPr/>
            <p:nvPr/>
          </p:nvGrpSpPr>
          <p:grpSpPr>
            <a:xfrm>
              <a:off x="2209680" y="4800600"/>
              <a:ext cx="1981440" cy="731880"/>
              <a:chOff x="2209680" y="4800600"/>
              <a:chExt cx="1981440" cy="731880"/>
            </a:xfrm>
          </p:grpSpPr>
          <p:sp>
            <p:nvSpPr>
              <p:cNvPr id="1549" name=""/>
              <p:cNvSpPr/>
              <p:nvPr/>
            </p:nvSpPr>
            <p:spPr>
              <a:xfrm>
                <a:off x="22860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8954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6576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2096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8195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5812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H="1">
                <a:off x="2590920" y="4800600"/>
                <a:ext cx="7617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H="1">
                <a:off x="3200040" y="4800600"/>
                <a:ext cx="1522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352680" y="480060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27672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9" name=""/>
          <p:cNvGrpSpPr/>
          <p:nvPr/>
        </p:nvGrpSpPr>
        <p:grpSpPr>
          <a:xfrm>
            <a:off x="2286000" y="4876920"/>
            <a:ext cx="2438280" cy="1218960"/>
            <a:chOff x="2286000" y="4876920"/>
            <a:chExt cx="2438280" cy="1218960"/>
          </a:xfrm>
        </p:grpSpPr>
        <p:sp>
          <p:nvSpPr>
            <p:cNvPr id="1560" name=""/>
            <p:cNvSpPr/>
            <p:nvPr/>
          </p:nvSpPr>
          <p:spPr>
            <a:xfrm>
              <a:off x="2286000" y="5562720"/>
              <a:ext cx="182880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657600" y="4876920"/>
              <a:ext cx="106668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514600" y="5562720"/>
              <a:ext cx="635040" cy="533160"/>
            </a:xfrm>
            <a:custGeom>
              <a:avLst/>
              <a:gdLst/>
              <a:ahLst/>
              <a:rect l="l" t="t" r="r" b="b"/>
              <a:pathLst>
                <a:path w="400" h="240">
                  <a:moveTo>
                    <a:pt x="384" y="0"/>
                  </a:moveTo>
                  <a:cubicBezTo>
                    <a:pt x="392" y="52"/>
                    <a:pt x="400" y="104"/>
                    <a:pt x="336" y="144"/>
                  </a:cubicBezTo>
                  <a:cubicBezTo>
                    <a:pt x="272" y="184"/>
                    <a:pt x="56" y="224"/>
                    <a:pt x="0" y="240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971800" y="4876920"/>
              <a:ext cx="1587600" cy="1066680"/>
            </a:xfrm>
            <a:custGeom>
              <a:avLst/>
              <a:gdLst/>
              <a:ahLst/>
              <a:rect l="l" t="t" r="r" b="b"/>
              <a:pathLst>
                <a:path w="1000" h="712">
                  <a:moveTo>
                    <a:pt x="816" y="40"/>
                  </a:moveTo>
                  <a:cubicBezTo>
                    <a:pt x="812" y="20"/>
                    <a:pt x="808" y="0"/>
                    <a:pt x="816" y="88"/>
                  </a:cubicBezTo>
                  <a:cubicBezTo>
                    <a:pt x="824" y="176"/>
                    <a:pt x="1000" y="464"/>
                    <a:pt x="864" y="568"/>
                  </a:cubicBezTo>
                  <a:cubicBezTo>
                    <a:pt x="728" y="672"/>
                    <a:pt x="144" y="688"/>
                    <a:pt x="0" y="712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4267080" y="3505320"/>
            <a:ext cx="3733920" cy="2027160"/>
            <a:chOff x="4267080" y="3505320"/>
            <a:chExt cx="3733920" cy="2027160"/>
          </a:xfrm>
        </p:grpSpPr>
        <p:sp>
          <p:nvSpPr>
            <p:cNvPr id="1565" name=""/>
            <p:cNvSpPr/>
            <p:nvPr/>
          </p:nvSpPr>
          <p:spPr>
            <a:xfrm>
              <a:off x="4267080" y="3505320"/>
              <a:ext cx="205740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i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6" name=""/>
            <p:cNvGrpSpPr/>
            <p:nvPr/>
          </p:nvGrpSpPr>
          <p:grpSpPr>
            <a:xfrm>
              <a:off x="6019920" y="4800600"/>
              <a:ext cx="1981080" cy="731880"/>
              <a:chOff x="6019920" y="4800600"/>
              <a:chExt cx="1981080" cy="731880"/>
            </a:xfrm>
          </p:grpSpPr>
          <p:sp>
            <p:nvSpPr>
              <p:cNvPr id="1567" name=""/>
              <p:cNvSpPr/>
              <p:nvPr/>
            </p:nvSpPr>
            <p:spPr>
              <a:xfrm>
                <a:off x="60958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70572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4674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0199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662940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3915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H="1">
                <a:off x="6400440" y="4800600"/>
                <a:ext cx="7621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H="1">
                <a:off x="7010280" y="4800600"/>
                <a:ext cx="15264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7162920" y="480060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708660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7" name=""/>
          <p:cNvGrpSpPr/>
          <p:nvPr/>
        </p:nvGrpSpPr>
        <p:grpSpPr>
          <a:xfrm>
            <a:off x="4648320" y="3657600"/>
            <a:ext cx="3886200" cy="2743200"/>
            <a:chOff x="4648320" y="3657600"/>
            <a:chExt cx="3886200" cy="2743200"/>
          </a:xfrm>
        </p:grpSpPr>
        <p:sp>
          <p:nvSpPr>
            <p:cNvPr id="1578" name=""/>
            <p:cNvSpPr/>
            <p:nvPr/>
          </p:nvSpPr>
          <p:spPr>
            <a:xfrm>
              <a:off x="5791320" y="5943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934320" y="4343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934320" y="43434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648320" y="594360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02920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410080" y="59436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02920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410080" y="6248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673520" y="4114800"/>
              <a:ext cx="3848040" cy="1828800"/>
            </a:xfrm>
            <a:custGeom>
              <a:avLst/>
              <a:gdLst/>
              <a:ahLst/>
              <a:rect l="l" t="t" r="r" b="b"/>
              <a:pathLst>
                <a:path w="2424" h="1152">
                  <a:moveTo>
                    <a:pt x="1080" y="0"/>
                  </a:moveTo>
                  <a:lnTo>
                    <a:pt x="0" y="1152"/>
                  </a:lnTo>
                  <a:lnTo>
                    <a:pt x="704" y="1152"/>
                  </a:lnTo>
                  <a:lnTo>
                    <a:pt x="848" y="888"/>
                  </a:lnTo>
                  <a:lnTo>
                    <a:pt x="848" y="568"/>
                  </a:lnTo>
                  <a:lnTo>
                    <a:pt x="1416" y="424"/>
                  </a:lnTo>
                  <a:lnTo>
                    <a:pt x="1416" y="144"/>
                  </a:lnTo>
                  <a:lnTo>
                    <a:pt x="2424" y="144"/>
                  </a:lnTo>
                  <a:lnTo>
                    <a:pt x="1360" y="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400800" y="36576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400800" y="3657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391520" y="4343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77240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8153280" y="43434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77240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8153280" y="46483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6095880" y="4876920"/>
            <a:ext cx="2438640" cy="1218960"/>
            <a:chOff x="6095880" y="4876920"/>
            <a:chExt cx="2438640" cy="1218960"/>
          </a:xfrm>
        </p:grpSpPr>
        <p:sp>
          <p:nvSpPr>
            <p:cNvPr id="1595" name=""/>
            <p:cNvSpPr/>
            <p:nvPr/>
          </p:nvSpPr>
          <p:spPr>
            <a:xfrm>
              <a:off x="6095880" y="5562720"/>
              <a:ext cx="182880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467480" y="4876920"/>
              <a:ext cx="106704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324480" y="5562720"/>
              <a:ext cx="635040" cy="533160"/>
            </a:xfrm>
            <a:custGeom>
              <a:avLst/>
              <a:gdLst/>
              <a:ahLst/>
              <a:rect l="l" t="t" r="r" b="b"/>
              <a:pathLst>
                <a:path w="400" h="240">
                  <a:moveTo>
                    <a:pt x="384" y="0"/>
                  </a:moveTo>
                  <a:cubicBezTo>
                    <a:pt x="392" y="52"/>
                    <a:pt x="400" y="104"/>
                    <a:pt x="336" y="144"/>
                  </a:cubicBezTo>
                  <a:cubicBezTo>
                    <a:pt x="272" y="184"/>
                    <a:pt x="56" y="224"/>
                    <a:pt x="0" y="240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781680" y="4876920"/>
              <a:ext cx="1587600" cy="1066680"/>
            </a:xfrm>
            <a:custGeom>
              <a:avLst/>
              <a:gdLst/>
              <a:ahLst/>
              <a:rect l="l" t="t" r="r" b="b"/>
              <a:pathLst>
                <a:path w="1000" h="712">
                  <a:moveTo>
                    <a:pt x="816" y="40"/>
                  </a:moveTo>
                  <a:cubicBezTo>
                    <a:pt x="812" y="20"/>
                    <a:pt x="808" y="0"/>
                    <a:pt x="816" y="88"/>
                  </a:cubicBezTo>
                  <a:cubicBezTo>
                    <a:pt x="824" y="176"/>
                    <a:pt x="1000" y="464"/>
                    <a:pt x="864" y="568"/>
                  </a:cubicBezTo>
                  <a:cubicBezTo>
                    <a:pt x="728" y="672"/>
                    <a:pt x="144" y="688"/>
                    <a:pt x="0" y="712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9" name=""/>
          <p:cNvGrpSpPr/>
          <p:nvPr/>
        </p:nvGrpSpPr>
        <p:grpSpPr>
          <a:xfrm>
            <a:off x="5866920" y="4343400"/>
            <a:ext cx="2057760" cy="1371600"/>
            <a:chOff x="5866920" y="4343400"/>
            <a:chExt cx="2057760" cy="1371600"/>
          </a:xfrm>
        </p:grpSpPr>
        <p:sp>
          <p:nvSpPr>
            <p:cNvPr id="1600" name=""/>
            <p:cNvSpPr/>
            <p:nvPr/>
          </p:nvSpPr>
          <p:spPr>
            <a:xfrm flipV="1">
              <a:off x="5867280" y="4343400"/>
              <a:ext cx="205740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 flipV="1">
              <a:off x="5866920" y="4343400"/>
              <a:ext cx="205740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2" name=""/>
          <p:cNvGrpSpPr/>
          <p:nvPr/>
        </p:nvGrpSpPr>
        <p:grpSpPr>
          <a:xfrm>
            <a:off x="838080" y="3657600"/>
            <a:ext cx="3886200" cy="2743200"/>
            <a:chOff x="838080" y="3657600"/>
            <a:chExt cx="3886200" cy="2743200"/>
          </a:xfrm>
        </p:grpSpPr>
        <p:sp>
          <p:nvSpPr>
            <p:cNvPr id="1603" name=""/>
            <p:cNvSpPr/>
            <p:nvPr/>
          </p:nvSpPr>
          <p:spPr>
            <a:xfrm>
              <a:off x="3124080" y="4343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981080" y="5943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590920" y="36576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124080" y="4343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38080" y="594360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863640" y="4114800"/>
              <a:ext cx="3848040" cy="1828800"/>
            </a:xfrm>
            <a:custGeom>
              <a:avLst/>
              <a:gdLst/>
              <a:ahLst/>
              <a:rect l="l" t="t" r="r" b="b"/>
              <a:pathLst>
                <a:path w="2424" h="1152">
                  <a:moveTo>
                    <a:pt x="1080" y="0"/>
                  </a:moveTo>
                  <a:lnTo>
                    <a:pt x="0" y="1152"/>
                  </a:lnTo>
                  <a:lnTo>
                    <a:pt x="704" y="1152"/>
                  </a:lnTo>
                  <a:lnTo>
                    <a:pt x="848" y="888"/>
                  </a:lnTo>
                  <a:lnTo>
                    <a:pt x="848" y="568"/>
                  </a:lnTo>
                  <a:lnTo>
                    <a:pt x="1416" y="424"/>
                  </a:lnTo>
                  <a:lnTo>
                    <a:pt x="1416" y="144"/>
                  </a:lnTo>
                  <a:lnTo>
                    <a:pt x="2424" y="144"/>
                  </a:lnTo>
                  <a:lnTo>
                    <a:pt x="1360" y="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590920" y="36576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581280" y="4343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96252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34340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96252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34340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21932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60020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21932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60020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"/>
          <p:cNvSpPr/>
          <p:nvPr/>
        </p:nvSpPr>
        <p:spPr>
          <a:xfrm>
            <a:off x="1371600" y="2286000"/>
            <a:ext cx="2666880" cy="1676520"/>
          </a:xfrm>
          <a:custGeom>
            <a:avLst/>
            <a:gdLst/>
            <a:ahLst/>
            <a:rect l="l" t="t" r="r" b="b"/>
            <a:pathLst>
              <a:path w="1680" h="1056">
                <a:moveTo>
                  <a:pt x="1104" y="0"/>
                </a:moveTo>
                <a:lnTo>
                  <a:pt x="0" y="1056"/>
                </a:lnTo>
                <a:lnTo>
                  <a:pt x="576" y="1056"/>
                </a:lnTo>
                <a:lnTo>
                  <a:pt x="760" y="472"/>
                </a:lnTo>
                <a:lnTo>
                  <a:pt x="1104" y="384"/>
                </a:lnTo>
                <a:lnTo>
                  <a:pt x="1392" y="384"/>
                </a:lnTo>
                <a:cubicBezTo>
                  <a:pt x="1480" y="376"/>
                  <a:pt x="1584" y="368"/>
                  <a:pt x="1632" y="336"/>
                </a:cubicBezTo>
                <a:cubicBezTo>
                  <a:pt x="1680" y="304"/>
                  <a:pt x="1680" y="232"/>
                  <a:pt x="1680" y="192"/>
                </a:cubicBezTo>
                <a:cubicBezTo>
                  <a:pt x="1680" y="152"/>
                  <a:pt x="1680" y="128"/>
                  <a:pt x="1632" y="96"/>
                </a:cubicBezTo>
                <a:cubicBezTo>
                  <a:pt x="1584" y="64"/>
                  <a:pt x="1442" y="20"/>
                  <a:pt x="1392" y="0"/>
                </a:cubicBezTo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L Analyzer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609480" y="1066680"/>
            <a:ext cx="655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Recursive-Descent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685800" y="43941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09480" y="4267080"/>
            <a:ext cx="632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Predictive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85800" y="1447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nterminal is represented by a procedure, which per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59092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20040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03848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12408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124080" y="2438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2514600" y="30481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124080" y="30481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962520" y="30481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H="1">
            <a:off x="2819160" y="289548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352680" y="28954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352680" y="289548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65760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33520" y="2133720"/>
            <a:ext cx="1600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371600" y="3962520"/>
            <a:ext cx="396252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286000" y="3581280"/>
            <a:ext cx="83808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H="1">
            <a:off x="3962520" y="3581280"/>
            <a:ext cx="83808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flipH="1">
            <a:off x="3123360" y="3581280"/>
            <a:ext cx="83844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4495680" y="251460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486400" y="1905120"/>
            <a:ext cx="2971800" cy="2533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09480" y="46483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-driven syntax analyzer with push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200400" y="5029200"/>
            <a:ext cx="38088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4114800" y="579132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2057400" y="5410080"/>
            <a:ext cx="2133720" cy="777960"/>
          </a:xfrm>
          <a:custGeom>
            <a:avLst/>
            <a:gdLst/>
            <a:ahLst/>
            <a:rect l="l" t="t" r="r" b="b"/>
            <a:pathLst>
              <a:path w="1344" h="1018">
                <a:moveTo>
                  <a:pt x="688" y="808"/>
                </a:moveTo>
                <a:cubicBezTo>
                  <a:pt x="584" y="896"/>
                  <a:pt x="468" y="781"/>
                  <a:pt x="400" y="832"/>
                </a:cubicBezTo>
                <a:lnTo>
                  <a:pt x="304" y="1016"/>
                </a:lnTo>
                <a:lnTo>
                  <a:pt x="8" y="1018"/>
                </a:lnTo>
                <a:lnTo>
                  <a:pt x="0" y="1010"/>
                </a:lnTo>
                <a:lnTo>
                  <a:pt x="728" y="0"/>
                </a:lnTo>
                <a:lnTo>
                  <a:pt x="960" y="0"/>
                </a:lnTo>
                <a:lnTo>
                  <a:pt x="1344" y="552"/>
                </a:lnTo>
                <a:cubicBezTo>
                  <a:pt x="1291" y="630"/>
                  <a:pt x="1164" y="525"/>
                  <a:pt x="1112" y="544"/>
                </a:cubicBezTo>
                <a:cubicBezTo>
                  <a:pt x="1060" y="563"/>
                  <a:pt x="1079" y="651"/>
                  <a:pt x="1032" y="664"/>
                </a:cubicBezTo>
                <a:cubicBezTo>
                  <a:pt x="985" y="677"/>
                  <a:pt x="889" y="600"/>
                  <a:pt x="832" y="624"/>
                </a:cubicBezTo>
                <a:cubicBezTo>
                  <a:pt x="775" y="648"/>
                  <a:pt x="792" y="720"/>
                  <a:pt x="688" y="80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 flipV="1">
            <a:off x="3124080" y="5485680"/>
            <a:ext cx="60984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2057400" y="6172200"/>
            <a:ext cx="266688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4952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590920" y="5796000"/>
            <a:ext cx="1638360" cy="401760"/>
          </a:xfrm>
          <a:custGeom>
            <a:avLst/>
            <a:gdLst/>
            <a:ahLst/>
            <a:rect l="l" t="t" r="r" b="b"/>
            <a:pathLst>
              <a:path w="1032" h="253">
                <a:moveTo>
                  <a:pt x="0" y="253"/>
                </a:moveTo>
                <a:cubicBezTo>
                  <a:pt x="20" y="209"/>
                  <a:pt x="36" y="172"/>
                  <a:pt x="96" y="157"/>
                </a:cubicBezTo>
                <a:cubicBezTo>
                  <a:pt x="156" y="142"/>
                  <a:pt x="296" y="181"/>
                  <a:pt x="360" y="165"/>
                </a:cubicBezTo>
                <a:cubicBezTo>
                  <a:pt x="424" y="149"/>
                  <a:pt x="424" y="76"/>
                  <a:pt x="480" y="61"/>
                </a:cubicBezTo>
                <a:cubicBezTo>
                  <a:pt x="536" y="46"/>
                  <a:pt x="644" y="86"/>
                  <a:pt x="696" y="77"/>
                </a:cubicBezTo>
                <a:cubicBezTo>
                  <a:pt x="748" y="68"/>
                  <a:pt x="736" y="10"/>
                  <a:pt x="792" y="5"/>
                </a:cubicBezTo>
                <a:cubicBezTo>
                  <a:pt x="848" y="0"/>
                  <a:pt x="982" y="37"/>
                  <a:pt x="1032" y="45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657600" y="5943600"/>
            <a:ext cx="18288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334120" y="57913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se symbols are in the push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124080" y="182880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124080" y="1828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57200" y="2514600"/>
            <a:ext cx="213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H="1">
            <a:off x="2743200" y="3581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429000" y="3581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4267080" y="358128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"/>
          <p:cNvSpPr/>
          <p:nvPr/>
        </p:nvSpPr>
        <p:spPr>
          <a:xfrm>
            <a:off x="6400800" y="5867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315200" y="5867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31520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640080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943600" y="25146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5943600" y="289548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64008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59436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943600" y="28954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5943600" y="44197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609588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670572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32448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934320" y="243828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701028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3152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1722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1722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1722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6629400" y="2514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762012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792468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82296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731520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54380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0866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70866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70866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4771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64771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7816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73915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73915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69608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76960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685800" y="22096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09480" y="1143000"/>
            <a:ext cx="815364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cedure 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this procedure get the next token to global variable “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oke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”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09480" y="2514600"/>
            <a:ext cx="51055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E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609480" y="4800600"/>
            <a:ext cx="51055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T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09480" y="2133720"/>
            <a:ext cx="556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09480" y="4419720"/>
            <a:ext cx="556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85800" y="44956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943600" y="4876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943600" y="530532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4008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59436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943600" y="5257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943600" y="6781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609588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670572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632448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6934320" y="48006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701028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73152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1722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172200" y="5791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17220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6629400" y="48769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762012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792468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82296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731520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54380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70866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7086600" y="5791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708660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6477120" y="5486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477120" y="609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67816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7391520" y="5486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7391520" y="609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7696080" y="5486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6960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886200" y="2362320"/>
            <a:ext cx="3594240" cy="838080"/>
          </a:xfrm>
          <a:custGeom>
            <a:avLst/>
            <a:gdLst/>
            <a:ahLst/>
            <a:rect l="l" t="t" r="r" b="b"/>
            <a:pathLst>
              <a:path w="2216" h="623">
                <a:moveTo>
                  <a:pt x="2216" y="175"/>
                </a:moveTo>
                <a:cubicBezTo>
                  <a:pt x="2196" y="154"/>
                  <a:pt x="2159" y="66"/>
                  <a:pt x="2096" y="39"/>
                </a:cubicBezTo>
                <a:cubicBezTo>
                  <a:pt x="2033" y="12"/>
                  <a:pt x="1987" y="16"/>
                  <a:pt x="1840" y="15"/>
                </a:cubicBezTo>
                <a:cubicBezTo>
                  <a:pt x="1693" y="14"/>
                  <a:pt x="1423" y="0"/>
                  <a:pt x="1216" y="31"/>
                </a:cubicBezTo>
                <a:cubicBezTo>
                  <a:pt x="1009" y="62"/>
                  <a:pt x="803" y="100"/>
                  <a:pt x="600" y="199"/>
                </a:cubicBezTo>
                <a:cubicBezTo>
                  <a:pt x="397" y="298"/>
                  <a:pt x="125" y="535"/>
                  <a:pt x="0" y="623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5638680" y="2438280"/>
            <a:ext cx="914400" cy="216000"/>
          </a:xfrm>
          <a:custGeom>
            <a:avLst/>
            <a:gdLst/>
            <a:ahLst/>
            <a:rect l="l" t="t" r="r" b="b"/>
            <a:pathLst>
              <a:path w="528" h="136">
                <a:moveTo>
                  <a:pt x="528" y="136"/>
                </a:moveTo>
                <a:cubicBezTo>
                  <a:pt x="519" y="121"/>
                  <a:pt x="499" y="68"/>
                  <a:pt x="472" y="48"/>
                </a:cubicBezTo>
                <a:cubicBezTo>
                  <a:pt x="445" y="28"/>
                  <a:pt x="403" y="23"/>
                  <a:pt x="368" y="16"/>
                </a:cubicBezTo>
                <a:cubicBezTo>
                  <a:pt x="333" y="9"/>
                  <a:pt x="325" y="11"/>
                  <a:pt x="264" y="8"/>
                </a:cubicBezTo>
                <a:cubicBezTo>
                  <a:pt x="203" y="5"/>
                  <a:pt x="55" y="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rot="5400000">
            <a:off x="3809880" y="243828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3886200" y="4648320"/>
            <a:ext cx="3594240" cy="838080"/>
          </a:xfrm>
          <a:custGeom>
            <a:avLst/>
            <a:gdLst/>
            <a:ahLst/>
            <a:rect l="l" t="t" r="r" b="b"/>
            <a:pathLst>
              <a:path w="2216" h="623">
                <a:moveTo>
                  <a:pt x="2216" y="175"/>
                </a:moveTo>
                <a:cubicBezTo>
                  <a:pt x="2196" y="154"/>
                  <a:pt x="2159" y="66"/>
                  <a:pt x="2096" y="39"/>
                </a:cubicBezTo>
                <a:cubicBezTo>
                  <a:pt x="2033" y="12"/>
                  <a:pt x="1987" y="16"/>
                  <a:pt x="1840" y="15"/>
                </a:cubicBezTo>
                <a:cubicBezTo>
                  <a:pt x="1693" y="14"/>
                  <a:pt x="1423" y="0"/>
                  <a:pt x="1216" y="31"/>
                </a:cubicBezTo>
                <a:cubicBezTo>
                  <a:pt x="1009" y="62"/>
                  <a:pt x="803" y="100"/>
                  <a:pt x="600" y="199"/>
                </a:cubicBezTo>
                <a:cubicBezTo>
                  <a:pt x="397" y="298"/>
                  <a:pt x="125" y="535"/>
                  <a:pt x="0" y="623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638680" y="4724280"/>
            <a:ext cx="914400" cy="216000"/>
          </a:xfrm>
          <a:custGeom>
            <a:avLst/>
            <a:gdLst/>
            <a:ahLst/>
            <a:rect l="l" t="t" r="r" b="b"/>
            <a:pathLst>
              <a:path w="528" h="136">
                <a:moveTo>
                  <a:pt x="528" y="136"/>
                </a:moveTo>
                <a:cubicBezTo>
                  <a:pt x="519" y="121"/>
                  <a:pt x="499" y="68"/>
                  <a:pt x="472" y="48"/>
                </a:cubicBezTo>
                <a:cubicBezTo>
                  <a:pt x="445" y="28"/>
                  <a:pt x="403" y="23"/>
                  <a:pt x="368" y="16"/>
                </a:cubicBezTo>
                <a:cubicBezTo>
                  <a:pt x="333" y="9"/>
                  <a:pt x="325" y="11"/>
                  <a:pt x="264" y="8"/>
                </a:cubicBezTo>
                <a:cubicBezTo>
                  <a:pt x="203" y="5"/>
                  <a:pt x="55" y="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 rot="5400000">
            <a:off x="3809880" y="472428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029200" y="22860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105520" y="45720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"/>
          <p:cNvSpPr/>
          <p:nvPr/>
        </p:nvSpPr>
        <p:spPr>
          <a:xfrm>
            <a:off x="815328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85800" y="2133720"/>
            <a:ext cx="601992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+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E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$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934320" y="28954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7848720" y="28954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6172200" y="2209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172200" y="26384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6294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172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172200" y="2590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172200" y="4114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63244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69343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5530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162920" y="21337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2388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75438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4008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40080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4008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858000" y="22096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78487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81532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8458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75438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77724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73152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73152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73152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7057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67057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70102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6201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6201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7924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9246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620120" y="4089240"/>
            <a:ext cx="723960" cy="395280"/>
          </a:xfrm>
          <a:custGeom>
            <a:avLst/>
            <a:gdLst/>
            <a:ahLst/>
            <a:rect l="l" t="t" r="r" b="b"/>
            <a:pathLst>
              <a:path w="456" h="249">
                <a:moveTo>
                  <a:pt x="456" y="0"/>
                </a:moveTo>
                <a:cubicBezTo>
                  <a:pt x="452" y="25"/>
                  <a:pt x="445" y="116"/>
                  <a:pt x="432" y="152"/>
                </a:cubicBezTo>
                <a:cubicBezTo>
                  <a:pt x="419" y="188"/>
                  <a:pt x="402" y="200"/>
                  <a:pt x="376" y="216"/>
                </a:cubicBezTo>
                <a:cubicBezTo>
                  <a:pt x="350" y="232"/>
                  <a:pt x="335" y="249"/>
                  <a:pt x="272" y="248"/>
                </a:cubicBezTo>
                <a:cubicBezTo>
                  <a:pt x="209" y="247"/>
                  <a:pt x="57" y="216"/>
                  <a:pt x="0" y="2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3225960" y="1944720"/>
            <a:ext cx="3886200" cy="1027080"/>
          </a:xfrm>
          <a:custGeom>
            <a:avLst/>
            <a:gdLst/>
            <a:ahLst/>
            <a:rect l="l" t="t" r="r" b="b"/>
            <a:pathLst>
              <a:path w="2448" h="647">
                <a:moveTo>
                  <a:pt x="2448" y="199"/>
                </a:moveTo>
                <a:cubicBezTo>
                  <a:pt x="2423" y="174"/>
                  <a:pt x="2373" y="79"/>
                  <a:pt x="2296" y="47"/>
                </a:cubicBezTo>
                <a:cubicBezTo>
                  <a:pt x="2219" y="15"/>
                  <a:pt x="2133" y="0"/>
                  <a:pt x="1984" y="7"/>
                </a:cubicBezTo>
                <a:cubicBezTo>
                  <a:pt x="1835" y="14"/>
                  <a:pt x="1667" y="24"/>
                  <a:pt x="1400" y="87"/>
                </a:cubicBezTo>
                <a:cubicBezTo>
                  <a:pt x="1133" y="150"/>
                  <a:pt x="617" y="290"/>
                  <a:pt x="384" y="383"/>
                </a:cubicBezTo>
                <a:cubicBezTo>
                  <a:pt x="151" y="476"/>
                  <a:pt x="80" y="592"/>
                  <a:pt x="0" y="647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 rot="5400000">
            <a:off x="3885840" y="3657600"/>
            <a:ext cx="152280" cy="167652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962520" y="4102200"/>
            <a:ext cx="4057560" cy="325440"/>
          </a:xfrm>
          <a:custGeom>
            <a:avLst/>
            <a:gdLst/>
            <a:ahLst/>
            <a:rect l="l" t="t" r="r" b="b"/>
            <a:pathLst>
              <a:path w="2556" h="205">
                <a:moveTo>
                  <a:pt x="2552" y="0"/>
                </a:moveTo>
                <a:cubicBezTo>
                  <a:pt x="2544" y="28"/>
                  <a:pt x="2556" y="136"/>
                  <a:pt x="2504" y="168"/>
                </a:cubicBezTo>
                <a:cubicBezTo>
                  <a:pt x="2452" y="200"/>
                  <a:pt x="2457" y="205"/>
                  <a:pt x="2240" y="192"/>
                </a:cubicBezTo>
                <a:cubicBezTo>
                  <a:pt x="2023" y="179"/>
                  <a:pt x="1469" y="116"/>
                  <a:pt x="1200" y="88"/>
                </a:cubicBezTo>
                <a:cubicBezTo>
                  <a:pt x="931" y="60"/>
                  <a:pt x="824" y="10"/>
                  <a:pt x="624" y="24"/>
                </a:cubicBezTo>
                <a:cubicBezTo>
                  <a:pt x="424" y="38"/>
                  <a:pt x="130" y="144"/>
                  <a:pt x="0" y="17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181480" y="18288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54100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"/>
          <p:cNvSpPr/>
          <p:nvPr/>
        </p:nvSpPr>
        <p:spPr>
          <a:xfrm>
            <a:off x="7238880" y="35053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8153280" y="35053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685800" y="2133720"/>
            <a:ext cx="601992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*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T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+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$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6934320" y="35053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848720" y="35053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6172200" y="2209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172200" y="26384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66294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172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6172200" y="2590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172200" y="4114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63244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69343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5530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7162920" y="21337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72388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75438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64008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640080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4008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858000" y="22096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78487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81532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8458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75438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77724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73152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73152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3152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67057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67057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70102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76201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76201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7924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79246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7620120" y="4089240"/>
            <a:ext cx="723960" cy="395280"/>
          </a:xfrm>
          <a:custGeom>
            <a:avLst/>
            <a:gdLst/>
            <a:ahLst/>
            <a:rect l="l" t="t" r="r" b="b"/>
            <a:pathLst>
              <a:path w="456" h="249">
                <a:moveTo>
                  <a:pt x="456" y="0"/>
                </a:moveTo>
                <a:cubicBezTo>
                  <a:pt x="452" y="25"/>
                  <a:pt x="445" y="116"/>
                  <a:pt x="432" y="152"/>
                </a:cubicBezTo>
                <a:cubicBezTo>
                  <a:pt x="419" y="188"/>
                  <a:pt x="402" y="200"/>
                  <a:pt x="376" y="216"/>
                </a:cubicBezTo>
                <a:cubicBezTo>
                  <a:pt x="350" y="232"/>
                  <a:pt x="335" y="249"/>
                  <a:pt x="272" y="248"/>
                </a:cubicBezTo>
                <a:cubicBezTo>
                  <a:pt x="209" y="247"/>
                  <a:pt x="57" y="216"/>
                  <a:pt x="0" y="2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289320" y="1868400"/>
            <a:ext cx="4102200" cy="1103400"/>
          </a:xfrm>
          <a:custGeom>
            <a:avLst/>
            <a:gdLst/>
            <a:ahLst/>
            <a:rect l="l" t="t" r="r" b="b"/>
            <a:pathLst>
              <a:path w="2584" h="695">
                <a:moveTo>
                  <a:pt x="2584" y="244"/>
                </a:moveTo>
                <a:cubicBezTo>
                  <a:pt x="2557" y="217"/>
                  <a:pt x="2504" y="111"/>
                  <a:pt x="2421" y="75"/>
                </a:cubicBezTo>
                <a:cubicBezTo>
                  <a:pt x="2339" y="40"/>
                  <a:pt x="2296" y="0"/>
                  <a:pt x="2087" y="31"/>
                </a:cubicBezTo>
                <a:cubicBezTo>
                  <a:pt x="1878" y="62"/>
                  <a:pt x="1465" y="195"/>
                  <a:pt x="1168" y="263"/>
                </a:cubicBezTo>
                <a:cubicBezTo>
                  <a:pt x="871" y="331"/>
                  <a:pt x="499" y="367"/>
                  <a:pt x="304" y="439"/>
                </a:cubicBezTo>
                <a:cubicBezTo>
                  <a:pt x="109" y="511"/>
                  <a:pt x="63" y="642"/>
                  <a:pt x="0" y="69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 rot="5400000">
            <a:off x="4305240" y="3314520"/>
            <a:ext cx="152280" cy="236232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406760" y="4075200"/>
            <a:ext cx="3613320" cy="352440"/>
          </a:xfrm>
          <a:custGeom>
            <a:avLst/>
            <a:gdLst/>
            <a:ahLst/>
            <a:rect l="l" t="t" r="r" b="b"/>
            <a:pathLst>
              <a:path w="2276" h="222">
                <a:moveTo>
                  <a:pt x="2272" y="17"/>
                </a:moveTo>
                <a:cubicBezTo>
                  <a:pt x="2264" y="45"/>
                  <a:pt x="2276" y="153"/>
                  <a:pt x="2224" y="185"/>
                </a:cubicBezTo>
                <a:cubicBezTo>
                  <a:pt x="2172" y="217"/>
                  <a:pt x="2177" y="222"/>
                  <a:pt x="1960" y="209"/>
                </a:cubicBezTo>
                <a:cubicBezTo>
                  <a:pt x="1743" y="196"/>
                  <a:pt x="1192" y="138"/>
                  <a:pt x="920" y="105"/>
                </a:cubicBezTo>
                <a:cubicBezTo>
                  <a:pt x="648" y="72"/>
                  <a:pt x="481" y="0"/>
                  <a:pt x="328" y="9"/>
                </a:cubicBezTo>
                <a:cubicBezTo>
                  <a:pt x="175" y="18"/>
                  <a:pt x="68" y="129"/>
                  <a:pt x="0" y="161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6807240" y="4114800"/>
            <a:ext cx="317520" cy="216000"/>
          </a:xfrm>
          <a:custGeom>
            <a:avLst/>
            <a:gdLst/>
            <a:ahLst/>
            <a:rect l="l" t="t" r="r" b="b"/>
            <a:pathLst>
              <a:path w="200" h="136">
                <a:moveTo>
                  <a:pt x="200" y="0"/>
                </a:moveTo>
                <a:cubicBezTo>
                  <a:pt x="185" y="19"/>
                  <a:pt x="145" y="89"/>
                  <a:pt x="112" y="112"/>
                </a:cubicBezTo>
                <a:cubicBezTo>
                  <a:pt x="79" y="135"/>
                  <a:pt x="23" y="131"/>
                  <a:pt x="0" y="13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5486400" y="190512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54100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"/>
          <p:cNvSpPr/>
          <p:nvPr/>
        </p:nvSpPr>
        <p:spPr>
          <a:xfrm>
            <a:off x="66294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762120" y="1600200"/>
            <a:ext cx="5257800" cy="49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75438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6172200" y="19810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6172200" y="24098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66294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61722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6172200" y="23623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6172200" y="38862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632448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693432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655308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7162920" y="19051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723888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75438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4008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64008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64008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6858000" y="19810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784872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815328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84582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754380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777240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73152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7315200" y="2895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73152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6705720" y="2590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6705720" y="3200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701028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7620120" y="2590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620120" y="3200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924680" y="2590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792468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3403440" y="1598760"/>
            <a:ext cx="4267440" cy="776160"/>
          </a:xfrm>
          <a:custGeom>
            <a:avLst/>
            <a:gdLst/>
            <a:ahLst/>
            <a:rect l="l" t="t" r="r" b="b"/>
            <a:pathLst>
              <a:path w="2688" h="489">
                <a:moveTo>
                  <a:pt x="2688" y="233"/>
                </a:moveTo>
                <a:cubicBezTo>
                  <a:pt x="2621" y="205"/>
                  <a:pt x="2439" y="120"/>
                  <a:pt x="2288" y="81"/>
                </a:cubicBezTo>
                <a:cubicBezTo>
                  <a:pt x="2137" y="42"/>
                  <a:pt x="1995" y="2"/>
                  <a:pt x="1784" y="1"/>
                </a:cubicBezTo>
                <a:cubicBezTo>
                  <a:pt x="1573" y="0"/>
                  <a:pt x="1276" y="24"/>
                  <a:pt x="1024" y="73"/>
                </a:cubicBezTo>
                <a:cubicBezTo>
                  <a:pt x="772" y="122"/>
                  <a:pt x="443" y="227"/>
                  <a:pt x="272" y="296"/>
                </a:cubicBezTo>
                <a:cubicBezTo>
                  <a:pt x="101" y="365"/>
                  <a:pt x="57" y="449"/>
                  <a:pt x="0" y="489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289320" y="3860640"/>
            <a:ext cx="3557520" cy="965520"/>
          </a:xfrm>
          <a:custGeom>
            <a:avLst/>
            <a:gdLst/>
            <a:ahLst/>
            <a:rect l="l" t="t" r="r" b="b"/>
            <a:pathLst>
              <a:path w="2241" h="608">
                <a:moveTo>
                  <a:pt x="2224" y="0"/>
                </a:moveTo>
                <a:cubicBezTo>
                  <a:pt x="2208" y="13"/>
                  <a:pt x="2241" y="65"/>
                  <a:pt x="2136" y="80"/>
                </a:cubicBezTo>
                <a:cubicBezTo>
                  <a:pt x="2031" y="95"/>
                  <a:pt x="1808" y="76"/>
                  <a:pt x="1592" y="88"/>
                </a:cubicBezTo>
                <a:cubicBezTo>
                  <a:pt x="1376" y="100"/>
                  <a:pt x="1043" y="111"/>
                  <a:pt x="840" y="152"/>
                </a:cubicBezTo>
                <a:cubicBezTo>
                  <a:pt x="637" y="193"/>
                  <a:pt x="516" y="260"/>
                  <a:pt x="376" y="336"/>
                </a:cubicBezTo>
                <a:cubicBezTo>
                  <a:pt x="236" y="412"/>
                  <a:pt x="78" y="551"/>
                  <a:pt x="0" y="6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5410080" y="4191120"/>
            <a:ext cx="3581640" cy="2334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 bo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rite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OK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rite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ERROR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477120" y="13716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7242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"/>
          <p:cNvSpPr/>
          <p:nvPr/>
        </p:nvSpPr>
        <p:spPr>
          <a:xfrm>
            <a:off x="1828800" y="2286000"/>
            <a:ext cx="3808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066680" y="2286000"/>
            <a:ext cx="38124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1447920" y="2286000"/>
            <a:ext cx="3808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Recursive Descent: Illustration for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457200" y="1752480"/>
            <a:ext cx="2133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2" name=""/>
          <p:cNvGrpSpPr/>
          <p:nvPr/>
        </p:nvGrpSpPr>
        <p:grpSpPr>
          <a:xfrm>
            <a:off x="685800" y="1143000"/>
            <a:ext cx="3276720" cy="1752480"/>
            <a:chOff x="685800" y="1143000"/>
            <a:chExt cx="3276720" cy="1752480"/>
          </a:xfrm>
        </p:grpSpPr>
        <p:sp>
          <p:nvSpPr>
            <p:cNvPr id="1883" name=""/>
            <p:cNvSpPr/>
            <p:nvPr/>
          </p:nvSpPr>
          <p:spPr>
            <a:xfrm>
              <a:off x="685800" y="2286000"/>
              <a:ext cx="380880" cy="609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447920" y="1143000"/>
              <a:ext cx="25146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5" name=""/>
          <p:cNvSpPr/>
          <p:nvPr/>
        </p:nvSpPr>
        <p:spPr>
          <a:xfrm>
            <a:off x="5335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i *  i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6" name=""/>
          <p:cNvGrpSpPr/>
          <p:nvPr/>
        </p:nvGrpSpPr>
        <p:grpSpPr>
          <a:xfrm>
            <a:off x="2971800" y="1447920"/>
            <a:ext cx="3352680" cy="1059480"/>
            <a:chOff x="2971800" y="1447920"/>
            <a:chExt cx="3352680" cy="1059480"/>
          </a:xfrm>
        </p:grpSpPr>
        <p:sp>
          <p:nvSpPr>
            <p:cNvPr id="1887" name=""/>
            <p:cNvSpPr/>
            <p:nvPr/>
          </p:nvSpPr>
          <p:spPr>
            <a:xfrm>
              <a:off x="4114800" y="1828800"/>
              <a:ext cx="220968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038480" y="1447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971800" y="1752480"/>
              <a:ext cx="1371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0" name=""/>
          <p:cNvSpPr/>
          <p:nvPr/>
        </p:nvSpPr>
        <p:spPr>
          <a:xfrm>
            <a:off x="457200" y="106668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t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1" name=""/>
          <p:cNvGrpSpPr/>
          <p:nvPr/>
        </p:nvGrpSpPr>
        <p:grpSpPr>
          <a:xfrm>
            <a:off x="2438280" y="2438280"/>
            <a:ext cx="2286000" cy="1364400"/>
            <a:chOff x="2438280" y="2438280"/>
            <a:chExt cx="2286000" cy="1364400"/>
          </a:xfrm>
        </p:grpSpPr>
        <p:sp>
          <p:nvSpPr>
            <p:cNvPr id="1892" name=""/>
            <p:cNvSpPr/>
            <p:nvPr/>
          </p:nvSpPr>
          <p:spPr>
            <a:xfrm>
              <a:off x="2438280" y="2743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514600" y="3124080"/>
              <a:ext cx="220968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H="1">
              <a:off x="3428640" y="2438280"/>
              <a:ext cx="121932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5" name=""/>
          <p:cNvGrpSpPr/>
          <p:nvPr/>
        </p:nvGrpSpPr>
        <p:grpSpPr>
          <a:xfrm>
            <a:off x="609480" y="3733920"/>
            <a:ext cx="2514600" cy="1580400"/>
            <a:chOff x="609480" y="3733920"/>
            <a:chExt cx="2514600" cy="1580400"/>
          </a:xfrm>
        </p:grpSpPr>
        <p:sp>
          <p:nvSpPr>
            <p:cNvPr id="1896" name=""/>
            <p:cNvSpPr/>
            <p:nvPr/>
          </p:nvSpPr>
          <p:spPr>
            <a:xfrm>
              <a:off x="685800" y="43434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094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H="1">
              <a:off x="1828800" y="3733920"/>
              <a:ext cx="12952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9" name=""/>
          <p:cNvGrpSpPr/>
          <p:nvPr/>
        </p:nvGrpSpPr>
        <p:grpSpPr>
          <a:xfrm>
            <a:off x="2819520" y="3733920"/>
            <a:ext cx="1371600" cy="1447560"/>
            <a:chOff x="2819520" y="3733920"/>
            <a:chExt cx="1371600" cy="1447560"/>
          </a:xfrm>
        </p:grpSpPr>
        <p:sp>
          <p:nvSpPr>
            <p:cNvPr id="1900" name=""/>
            <p:cNvSpPr/>
            <p:nvPr/>
          </p:nvSpPr>
          <p:spPr>
            <a:xfrm>
              <a:off x="2819520" y="3733920"/>
              <a:ext cx="685800" cy="1447560"/>
            </a:xfrm>
            <a:custGeom>
              <a:avLst/>
              <a:gdLst/>
              <a:ahLst/>
              <a:rect l="l" t="t" r="r" b="b"/>
              <a:pathLst>
                <a:path w="384" h="864">
                  <a:moveTo>
                    <a:pt x="0" y="864"/>
                  </a:moveTo>
                  <a:cubicBezTo>
                    <a:pt x="144" y="840"/>
                    <a:pt x="288" y="816"/>
                    <a:pt x="336" y="672"/>
                  </a:cubicBezTo>
                  <a:cubicBezTo>
                    <a:pt x="384" y="528"/>
                    <a:pt x="296" y="112"/>
                    <a:pt x="28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048120" y="43434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2" name=""/>
          <p:cNvGrpSpPr/>
          <p:nvPr/>
        </p:nvGrpSpPr>
        <p:grpSpPr>
          <a:xfrm>
            <a:off x="4191120" y="3733920"/>
            <a:ext cx="2514600" cy="1580400"/>
            <a:chOff x="4191120" y="3733920"/>
            <a:chExt cx="2514600" cy="1580400"/>
          </a:xfrm>
        </p:grpSpPr>
        <p:sp>
          <p:nvSpPr>
            <p:cNvPr id="1903" name=""/>
            <p:cNvSpPr/>
            <p:nvPr/>
          </p:nvSpPr>
          <p:spPr>
            <a:xfrm>
              <a:off x="4419720" y="43434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343400" y="3962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191120" y="3733920"/>
              <a:ext cx="13716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6" name=""/>
          <p:cNvGrpSpPr/>
          <p:nvPr/>
        </p:nvGrpSpPr>
        <p:grpSpPr>
          <a:xfrm>
            <a:off x="2362320" y="5257800"/>
            <a:ext cx="2743200" cy="1428120"/>
            <a:chOff x="2362320" y="5257800"/>
            <a:chExt cx="2743200" cy="1428120"/>
          </a:xfrm>
        </p:grpSpPr>
        <p:sp>
          <p:nvSpPr>
            <p:cNvPr id="1907" name=""/>
            <p:cNvSpPr/>
            <p:nvPr/>
          </p:nvSpPr>
          <p:spPr>
            <a:xfrm>
              <a:off x="2362320" y="5334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514600" y="57150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H="1">
              <a:off x="3657600" y="5257800"/>
              <a:ext cx="144792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0" name=""/>
          <p:cNvGrpSpPr/>
          <p:nvPr/>
        </p:nvGrpSpPr>
        <p:grpSpPr>
          <a:xfrm>
            <a:off x="4800600" y="5257800"/>
            <a:ext cx="1295280" cy="1295280"/>
            <a:chOff x="4800600" y="5257800"/>
            <a:chExt cx="1295280" cy="1295280"/>
          </a:xfrm>
        </p:grpSpPr>
        <p:sp>
          <p:nvSpPr>
            <p:cNvPr id="1911" name=""/>
            <p:cNvSpPr/>
            <p:nvPr/>
          </p:nvSpPr>
          <p:spPr>
            <a:xfrm>
              <a:off x="4800600" y="5257800"/>
              <a:ext cx="685800" cy="1295280"/>
            </a:xfrm>
            <a:custGeom>
              <a:avLst/>
              <a:gdLst/>
              <a:ahLst/>
              <a:rect l="l" t="t" r="r" b="b"/>
              <a:pathLst>
                <a:path w="384" h="864">
                  <a:moveTo>
                    <a:pt x="0" y="864"/>
                  </a:moveTo>
                  <a:cubicBezTo>
                    <a:pt x="144" y="840"/>
                    <a:pt x="288" y="816"/>
                    <a:pt x="336" y="672"/>
                  </a:cubicBezTo>
                  <a:cubicBezTo>
                    <a:pt x="384" y="528"/>
                    <a:pt x="296" y="112"/>
                    <a:pt x="28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952880" y="57150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3" name=""/>
          <p:cNvGrpSpPr/>
          <p:nvPr/>
        </p:nvGrpSpPr>
        <p:grpSpPr>
          <a:xfrm>
            <a:off x="6578640" y="5084640"/>
            <a:ext cx="1803240" cy="630360"/>
            <a:chOff x="6578640" y="5084640"/>
            <a:chExt cx="1803240" cy="630360"/>
          </a:xfrm>
        </p:grpSpPr>
        <p:sp>
          <p:nvSpPr>
            <p:cNvPr id="1914" name=""/>
            <p:cNvSpPr/>
            <p:nvPr/>
          </p:nvSpPr>
          <p:spPr>
            <a:xfrm>
              <a:off x="6578640" y="5084640"/>
              <a:ext cx="1295280" cy="630360"/>
            </a:xfrm>
            <a:custGeom>
              <a:avLst/>
              <a:gdLst/>
              <a:ahLst/>
              <a:rect l="l" t="t" r="r" b="b"/>
              <a:pathLst>
                <a:path w="816" h="597">
                  <a:moveTo>
                    <a:pt x="816" y="597"/>
                  </a:moveTo>
                  <a:cubicBezTo>
                    <a:pt x="788" y="513"/>
                    <a:pt x="784" y="186"/>
                    <a:pt x="648" y="93"/>
                  </a:cubicBezTo>
                  <a:cubicBezTo>
                    <a:pt x="512" y="0"/>
                    <a:pt x="135" y="49"/>
                    <a:pt x="0" y="37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7238880" y="52578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6" name=""/>
          <p:cNvGrpSpPr/>
          <p:nvPr/>
        </p:nvGrpSpPr>
        <p:grpSpPr>
          <a:xfrm>
            <a:off x="4559400" y="3505320"/>
            <a:ext cx="1612800" cy="838080"/>
            <a:chOff x="4559400" y="3505320"/>
            <a:chExt cx="1612800" cy="838080"/>
          </a:xfrm>
        </p:grpSpPr>
        <p:sp>
          <p:nvSpPr>
            <p:cNvPr id="1917" name=""/>
            <p:cNvSpPr/>
            <p:nvPr/>
          </p:nvSpPr>
          <p:spPr>
            <a:xfrm>
              <a:off x="4559400" y="3505320"/>
              <a:ext cx="1257120" cy="838080"/>
            </a:xfrm>
            <a:custGeom>
              <a:avLst/>
              <a:gdLst/>
              <a:ahLst/>
              <a:rect l="l" t="t" r="r" b="b"/>
              <a:pathLst>
                <a:path w="792" h="624">
                  <a:moveTo>
                    <a:pt x="792" y="624"/>
                  </a:moveTo>
                  <a:cubicBezTo>
                    <a:pt x="768" y="537"/>
                    <a:pt x="780" y="192"/>
                    <a:pt x="648" y="96"/>
                  </a:cubicBezTo>
                  <a:cubicBezTo>
                    <a:pt x="516" y="0"/>
                    <a:pt x="135" y="58"/>
                    <a:pt x="0" y="48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029200" y="36576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9" name=""/>
          <p:cNvGrpSpPr/>
          <p:nvPr/>
        </p:nvGrpSpPr>
        <p:grpSpPr>
          <a:xfrm>
            <a:off x="6172200" y="2286000"/>
            <a:ext cx="2209680" cy="838080"/>
            <a:chOff x="6172200" y="2286000"/>
            <a:chExt cx="2209680" cy="838080"/>
          </a:xfrm>
        </p:grpSpPr>
        <p:sp>
          <p:nvSpPr>
            <p:cNvPr id="1920" name=""/>
            <p:cNvSpPr/>
            <p:nvPr/>
          </p:nvSpPr>
          <p:spPr>
            <a:xfrm>
              <a:off x="6172200" y="2286000"/>
              <a:ext cx="1854360" cy="838080"/>
            </a:xfrm>
            <a:custGeom>
              <a:avLst/>
              <a:gdLst/>
              <a:ahLst/>
              <a:rect l="l" t="t" r="r" b="b"/>
              <a:pathLst>
                <a:path w="1072" h="576">
                  <a:moveTo>
                    <a:pt x="1072" y="576"/>
                  </a:moveTo>
                  <a:cubicBezTo>
                    <a:pt x="1025" y="496"/>
                    <a:pt x="971" y="192"/>
                    <a:pt x="792" y="96"/>
                  </a:cubicBezTo>
                  <a:cubicBezTo>
                    <a:pt x="613" y="0"/>
                    <a:pt x="165" y="20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7250040" y="2438280"/>
              <a:ext cx="113184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2" name=""/>
          <p:cNvGrpSpPr/>
          <p:nvPr/>
        </p:nvGrpSpPr>
        <p:grpSpPr>
          <a:xfrm>
            <a:off x="3263760" y="1295280"/>
            <a:ext cx="2430720" cy="507960"/>
            <a:chOff x="3263760" y="1295280"/>
            <a:chExt cx="2430720" cy="507960"/>
          </a:xfrm>
        </p:grpSpPr>
        <p:sp>
          <p:nvSpPr>
            <p:cNvPr id="1923" name=""/>
            <p:cNvSpPr/>
            <p:nvPr/>
          </p:nvSpPr>
          <p:spPr>
            <a:xfrm>
              <a:off x="3263760" y="1389240"/>
              <a:ext cx="1663920" cy="414000"/>
            </a:xfrm>
            <a:custGeom>
              <a:avLst/>
              <a:gdLst/>
              <a:ahLst/>
              <a:rect l="l" t="t" r="r" b="b"/>
              <a:pathLst>
                <a:path w="1048" h="261">
                  <a:moveTo>
                    <a:pt x="1048" y="261"/>
                  </a:moveTo>
                  <a:cubicBezTo>
                    <a:pt x="995" y="221"/>
                    <a:pt x="911" y="42"/>
                    <a:pt x="736" y="21"/>
                  </a:cubicBezTo>
                  <a:cubicBezTo>
                    <a:pt x="561" y="0"/>
                    <a:pt x="153" y="110"/>
                    <a:pt x="0" y="133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572000" y="1295280"/>
              <a:ext cx="112248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5" name=""/>
          <p:cNvGrpSpPr/>
          <p:nvPr/>
        </p:nvGrpSpPr>
        <p:grpSpPr>
          <a:xfrm>
            <a:off x="6172200" y="5257800"/>
            <a:ext cx="2438280" cy="1135800"/>
            <a:chOff x="6172200" y="5257800"/>
            <a:chExt cx="2438280" cy="1135800"/>
          </a:xfrm>
        </p:grpSpPr>
        <p:sp>
          <p:nvSpPr>
            <p:cNvPr id="1926" name=""/>
            <p:cNvSpPr/>
            <p:nvPr/>
          </p:nvSpPr>
          <p:spPr>
            <a:xfrm>
              <a:off x="6324480" y="5715000"/>
              <a:ext cx="228600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1722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400800" y="5257800"/>
              <a:ext cx="91440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9" name=""/>
          <p:cNvGrpSpPr/>
          <p:nvPr/>
        </p:nvGrpSpPr>
        <p:grpSpPr>
          <a:xfrm>
            <a:off x="2514600" y="2324160"/>
            <a:ext cx="1752480" cy="812880"/>
            <a:chOff x="2514600" y="2324160"/>
            <a:chExt cx="1752480" cy="812880"/>
          </a:xfrm>
        </p:grpSpPr>
        <p:sp>
          <p:nvSpPr>
            <p:cNvPr id="1930" name=""/>
            <p:cNvSpPr/>
            <p:nvPr/>
          </p:nvSpPr>
          <p:spPr>
            <a:xfrm>
              <a:off x="3230640" y="2324160"/>
              <a:ext cx="1036440" cy="812880"/>
            </a:xfrm>
            <a:custGeom>
              <a:avLst/>
              <a:gdLst/>
              <a:ahLst/>
              <a:rect l="l" t="t" r="r" b="b"/>
              <a:pathLst>
                <a:path w="565" h="512">
                  <a:moveTo>
                    <a:pt x="5" y="512"/>
                  </a:moveTo>
                  <a:cubicBezTo>
                    <a:pt x="20" y="451"/>
                    <a:pt x="0" y="229"/>
                    <a:pt x="93" y="144"/>
                  </a:cubicBezTo>
                  <a:cubicBezTo>
                    <a:pt x="186" y="59"/>
                    <a:pt x="467" y="30"/>
                    <a:pt x="565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514600" y="2362320"/>
              <a:ext cx="113184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2" name=""/>
          <p:cNvGrpSpPr/>
          <p:nvPr/>
        </p:nvGrpSpPr>
        <p:grpSpPr>
          <a:xfrm>
            <a:off x="5715000" y="2438280"/>
            <a:ext cx="2895480" cy="1364400"/>
            <a:chOff x="5715000" y="2438280"/>
            <a:chExt cx="2895480" cy="1364400"/>
          </a:xfrm>
        </p:grpSpPr>
        <p:sp>
          <p:nvSpPr>
            <p:cNvPr id="1933" name=""/>
            <p:cNvSpPr/>
            <p:nvPr/>
          </p:nvSpPr>
          <p:spPr>
            <a:xfrm>
              <a:off x="6324480" y="3124080"/>
              <a:ext cx="228600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248520" y="2743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715000" y="2438280"/>
              <a:ext cx="198108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dictive Par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685800" y="10666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ble-driven syntax analyz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2971800" y="3505320"/>
            <a:ext cx="297180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2895480" y="35812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ble-driven syntax analy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4114800" y="274320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43308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311880" y="220968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52452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1981080" y="1752480"/>
            <a:ext cx="3429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6781680" y="3505320"/>
            <a:ext cx="167652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6629400" y="35053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L T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4724280" y="2209680"/>
            <a:ext cx="1067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4178160" y="22096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791320" y="22096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2057400" y="2209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576520" y="2209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111480" y="2209680"/>
            <a:ext cx="1066680" cy="45720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69343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73915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78487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6934320" y="41911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7848720" y="41911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7391520" y="41911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693432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7848720" y="43434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7391520" y="43434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6934320" y="44956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784872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739152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295280" y="32004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1295280" y="365760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1295280" y="487692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1066680" y="5410080"/>
            <a:ext cx="1067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129528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182880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 rot="5400000">
            <a:off x="1394640" y="4242600"/>
            <a:ext cx="5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685800" y="274320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828800" y="3429000"/>
            <a:ext cx="1143000" cy="698400"/>
          </a:xfrm>
          <a:custGeom>
            <a:avLst/>
            <a:gdLst/>
            <a:ahLst/>
            <a:rect l="l" t="t" r="r" b="b"/>
            <a:pathLst>
              <a:path w="720" h="440">
                <a:moveTo>
                  <a:pt x="720" y="432"/>
                </a:moveTo>
                <a:cubicBezTo>
                  <a:pt x="564" y="436"/>
                  <a:pt x="408" y="440"/>
                  <a:pt x="336" y="384"/>
                </a:cubicBezTo>
                <a:cubicBezTo>
                  <a:pt x="264" y="328"/>
                  <a:pt x="344" y="160"/>
                  <a:pt x="288" y="96"/>
                </a:cubicBezTo>
                <a:cubicBezTo>
                  <a:pt x="232" y="32"/>
                  <a:pt x="48" y="1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 flipH="1">
            <a:off x="5943600" y="419112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114800" y="487692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1295280" y="556272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eft pa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equence of rules used in the leftmos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ation of the input string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"/>
          <p:cNvSpPr/>
          <p:nvPr/>
        </p:nvSpPr>
        <p:spPr>
          <a:xfrm>
            <a:off x="533520" y="1066680"/>
            <a:ext cx="84582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LL-table for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ft parse o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685800" y="19810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533520" y="1981080"/>
            <a:ext cx="8610480" cy="48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to the pushdown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 pushdown is not empty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pushdown top and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current tok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p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L-table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reversal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on t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down &amp; writ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-Driven Parsing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-Driven Parsing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09480" y="3505320"/>
            <a:ext cx="221004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85800" y="12193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685800" y="164772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11430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685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685800" y="16002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685800" y="31240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8380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14479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10666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16765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17524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20574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9144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9144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9144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1371600" y="12193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23623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26668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2971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20574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22860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18288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18288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18288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12193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12193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5238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21337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21337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438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4382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3048120" y="1143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2971800" y="160020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523880"/>
                <a:tab algn="l" pos="27687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30481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434340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51055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701028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87631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048120" y="16765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3048120" y="198108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3048120" y="62485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3048120" y="19051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39117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400" spc="-1" strike="noStrike" u="sng">
                <a:solidFill>
                  <a:srgbClr val="3333cc"/>
                </a:solidFill>
                <a:uFillTx/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3048120" y="22860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3048120" y="26668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048120" y="3048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048120" y="3429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3048120" y="38098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3048120" y="4191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048120" y="4572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3048120" y="4952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304812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048120" y="57150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3886200" y="3429000"/>
            <a:ext cx="60948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4114800" y="4114800"/>
            <a:ext cx="45720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886200" y="4952880"/>
            <a:ext cx="60948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5486400" y="5791320"/>
            <a:ext cx="2819520" cy="825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ft parse: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4858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276720" y="6095880"/>
            <a:ext cx="121896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60948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5181480" y="2057400"/>
            <a:ext cx="0" cy="38862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without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1143000"/>
            <a:ext cx="792468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withou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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-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L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grammar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if for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and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there is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no more than one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ru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such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156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04920" y="3657600"/>
            <a:ext cx="2743200" cy="1418040"/>
            <a:chOff x="304920" y="3657600"/>
            <a:chExt cx="2743200" cy="1418040"/>
          </a:xfrm>
        </p:grpSpPr>
        <p:sp>
          <p:nvSpPr>
            <p:cNvPr id="216" name=""/>
            <p:cNvSpPr/>
            <p:nvPr/>
          </p:nvSpPr>
          <p:spPr>
            <a:xfrm>
              <a:off x="11433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5284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149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76520" y="3733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76520" y="37339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6704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7652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3864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371600" y="419112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828800" y="419112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05120" y="41911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33720" y="449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4920" y="365760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895480" y="3657600"/>
            <a:ext cx="2743200" cy="1418040"/>
            <a:chOff x="2895480" y="3657600"/>
            <a:chExt cx="2743200" cy="1418040"/>
          </a:xfrm>
        </p:grpSpPr>
        <p:sp>
          <p:nvSpPr>
            <p:cNvPr id="230" name=""/>
            <p:cNvSpPr/>
            <p:nvPr/>
          </p:nvSpPr>
          <p:spPr>
            <a:xfrm>
              <a:off x="37335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4304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051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67080" y="3733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67080" y="37339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5724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6708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2884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3962160" y="419112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4419360" y="419112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95680" y="41911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24280" y="449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95480" y="365760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838080" y="5029200"/>
            <a:ext cx="2438280" cy="1143000"/>
            <a:chOff x="838080" y="5029200"/>
            <a:chExt cx="2438280" cy="1143000"/>
          </a:xfrm>
        </p:grpSpPr>
        <p:sp>
          <p:nvSpPr>
            <p:cNvPr id="244" name=""/>
            <p:cNvSpPr/>
            <p:nvPr/>
          </p:nvSpPr>
          <p:spPr>
            <a:xfrm>
              <a:off x="838080" y="5715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95280" y="571500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76160" y="571500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5740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9548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1460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76160" y="60199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5740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9548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1460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38080" y="502920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76160" y="502920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429000" y="5029200"/>
            <a:ext cx="2437920" cy="1143000"/>
            <a:chOff x="3429000" y="5029200"/>
            <a:chExt cx="2437920" cy="1143000"/>
          </a:xfrm>
        </p:grpSpPr>
        <p:sp>
          <p:nvSpPr>
            <p:cNvPr id="257" name=""/>
            <p:cNvSpPr/>
            <p:nvPr/>
          </p:nvSpPr>
          <p:spPr>
            <a:xfrm>
              <a:off x="3429000" y="5715000"/>
              <a:ext cx="45684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85840" y="571500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6708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4796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8604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0516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6708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4796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8604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0516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29000" y="502920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080" y="5029200"/>
              <a:ext cx="159984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5867280" y="3200400"/>
            <a:ext cx="2514600" cy="2374920"/>
            <a:chOff x="5867280" y="3200400"/>
            <a:chExt cx="2514600" cy="2374920"/>
          </a:xfrm>
        </p:grpSpPr>
        <p:sp>
          <p:nvSpPr>
            <p:cNvPr id="270" name=""/>
            <p:cNvSpPr/>
            <p:nvPr/>
          </p:nvSpPr>
          <p:spPr>
            <a:xfrm>
              <a:off x="6248520" y="3200400"/>
              <a:ext cx="1600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00800" y="3705120"/>
              <a:ext cx="4572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0" y="370512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24680" y="3705120"/>
              <a:ext cx="4572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3600" y="5089680"/>
              <a:ext cx="4572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43600" y="4191120"/>
              <a:ext cx="4572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43600" y="4648320"/>
              <a:ext cx="4572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58000" y="4191120"/>
              <a:ext cx="106668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00800" y="4648320"/>
              <a:ext cx="19810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00800" y="4191120"/>
              <a:ext cx="198108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464832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67280" y="3657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6760" y="6172200"/>
            <a:ext cx="327672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62240" y="6172200"/>
            <a:ext cx="327672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i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3352680"/>
            <a:ext cx="373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Ruled out in an LL gramm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580920" y="3962520"/>
            <a:ext cx="2057760" cy="1371600"/>
            <a:chOff x="3580920" y="3962520"/>
            <a:chExt cx="2057760" cy="1371600"/>
          </a:xfrm>
        </p:grpSpPr>
        <p:sp>
          <p:nvSpPr>
            <p:cNvPr id="286" name=""/>
            <p:cNvSpPr/>
            <p:nvPr/>
          </p:nvSpPr>
          <p:spPr>
            <a:xfrm flipV="1">
              <a:off x="3581280" y="3962520"/>
              <a:ext cx="205740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3580920" y="3962520"/>
              <a:ext cx="205740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172200" y="5181480"/>
            <a:ext cx="2743200" cy="1598760"/>
            <a:chOff x="6172200" y="5181480"/>
            <a:chExt cx="2743200" cy="1598760"/>
          </a:xfrm>
        </p:grpSpPr>
        <p:sp>
          <p:nvSpPr>
            <p:cNvPr id="289" name=""/>
            <p:cNvSpPr/>
            <p:nvPr/>
          </p:nvSpPr>
          <p:spPr>
            <a:xfrm>
              <a:off x="6172200" y="5715000"/>
              <a:ext cx="2743200" cy="10652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nly rule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  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91520" y="5181480"/>
              <a:ext cx="0" cy="533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6" name=""/>
          <p:cNvGrpSpPr/>
          <p:nvPr/>
        </p:nvGrpSpPr>
        <p:grpSpPr>
          <a:xfrm>
            <a:off x="4038480" y="3301920"/>
            <a:ext cx="3202200" cy="2260800"/>
            <a:chOff x="4038480" y="3301920"/>
            <a:chExt cx="3202200" cy="2260800"/>
          </a:xfrm>
        </p:grpSpPr>
        <p:sp>
          <p:nvSpPr>
            <p:cNvPr id="2047" name=""/>
            <p:cNvSpPr/>
            <p:nvPr/>
          </p:nvSpPr>
          <p:spPr>
            <a:xfrm>
              <a:off x="4038480" y="3301920"/>
              <a:ext cx="3200400" cy="1803600"/>
            </a:xfrm>
            <a:custGeom>
              <a:avLst/>
              <a:gdLst/>
              <a:ahLst/>
              <a:rect l="l" t="t" r="r" b="b"/>
              <a:pathLst>
                <a:path w="2016" h="1136">
                  <a:moveTo>
                    <a:pt x="2016" y="1136"/>
                  </a:moveTo>
                  <a:lnTo>
                    <a:pt x="816" y="1136"/>
                  </a:lnTo>
                  <a:lnTo>
                    <a:pt x="0" y="176"/>
                  </a:lnTo>
                  <a:lnTo>
                    <a:pt x="800" y="0"/>
                  </a:lnTo>
                  <a:lnTo>
                    <a:pt x="2016" y="1136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867280" y="51055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324480" y="5105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781680" y="5105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32448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781680" y="5410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Errors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990720" y="2133720"/>
            <a:ext cx="4487760" cy="2971800"/>
          </a:xfrm>
          <a:custGeom>
            <a:avLst/>
            <a:gdLst/>
            <a:ahLst/>
            <a:rect l="l" t="t" r="r" b="b"/>
            <a:pathLst>
              <a:path w="2827" h="1872">
                <a:moveTo>
                  <a:pt x="2264" y="912"/>
                </a:moveTo>
                <a:lnTo>
                  <a:pt x="1584" y="904"/>
                </a:lnTo>
                <a:lnTo>
                  <a:pt x="880" y="1872"/>
                </a:lnTo>
                <a:lnTo>
                  <a:pt x="17" y="1872"/>
                </a:lnTo>
                <a:lnTo>
                  <a:pt x="0" y="1857"/>
                </a:lnTo>
                <a:lnTo>
                  <a:pt x="1584" y="0"/>
                </a:lnTo>
                <a:lnTo>
                  <a:pt x="1920" y="0"/>
                </a:lnTo>
                <a:lnTo>
                  <a:pt x="2680" y="672"/>
                </a:lnTo>
                <a:cubicBezTo>
                  <a:pt x="2827" y="866"/>
                  <a:pt x="2777" y="887"/>
                  <a:pt x="2792" y="952"/>
                </a:cubicBezTo>
                <a:cubicBezTo>
                  <a:pt x="2800" y="1013"/>
                  <a:pt x="2763" y="1036"/>
                  <a:pt x="2728" y="1040"/>
                </a:cubicBezTo>
                <a:cubicBezTo>
                  <a:pt x="2693" y="1044"/>
                  <a:pt x="2609" y="957"/>
                  <a:pt x="2584" y="976"/>
                </a:cubicBezTo>
                <a:cubicBezTo>
                  <a:pt x="2559" y="995"/>
                  <a:pt x="2604" y="1121"/>
                  <a:pt x="2576" y="1152"/>
                </a:cubicBezTo>
                <a:cubicBezTo>
                  <a:pt x="2548" y="1183"/>
                  <a:pt x="2468" y="1200"/>
                  <a:pt x="2416" y="1160"/>
                </a:cubicBezTo>
                <a:cubicBezTo>
                  <a:pt x="2364" y="1120"/>
                  <a:pt x="2296" y="964"/>
                  <a:pt x="2264" y="912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505320" y="1600200"/>
            <a:ext cx="53316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505320" y="3048120"/>
            <a:ext cx="533160" cy="5205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990720" y="510552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14479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1905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14479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19051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609480" y="11430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sic idea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2362320" y="5105520"/>
            <a:ext cx="533160" cy="45720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5" name=""/>
          <p:cNvGrpSpPr/>
          <p:nvPr/>
        </p:nvGrpSpPr>
        <p:grpSpPr>
          <a:xfrm>
            <a:off x="228600" y="5334120"/>
            <a:ext cx="3200040" cy="1190880"/>
            <a:chOff x="228600" y="5334120"/>
            <a:chExt cx="3200040" cy="1190880"/>
          </a:xfrm>
        </p:grpSpPr>
        <p:sp>
          <p:nvSpPr>
            <p:cNvPr id="2066" name=""/>
            <p:cNvSpPr/>
            <p:nvPr/>
          </p:nvSpPr>
          <p:spPr>
            <a:xfrm flipH="1">
              <a:off x="2148120" y="533412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28600" y="5943600"/>
              <a:ext cx="3200040" cy="5814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8" name=""/>
          <p:cNvSpPr/>
          <p:nvPr/>
        </p:nvSpPr>
        <p:spPr>
          <a:xfrm flipH="1">
            <a:off x="2742480" y="3352680"/>
            <a:ext cx="1066680" cy="182880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4876920" y="1219320"/>
            <a:ext cx="3581280" cy="149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wo kinds of err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xpected t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ule applic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4038480" y="3048120"/>
            <a:ext cx="53352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1" name=""/>
          <p:cNvGrpSpPr/>
          <p:nvPr/>
        </p:nvGrpSpPr>
        <p:grpSpPr>
          <a:xfrm>
            <a:off x="2819520" y="4038480"/>
            <a:ext cx="3049560" cy="1524240"/>
            <a:chOff x="2819520" y="4038480"/>
            <a:chExt cx="3049560" cy="1524240"/>
          </a:xfrm>
        </p:grpSpPr>
        <p:sp>
          <p:nvSpPr>
            <p:cNvPr id="2072" name=""/>
            <p:cNvSpPr/>
            <p:nvPr/>
          </p:nvSpPr>
          <p:spPr>
            <a:xfrm>
              <a:off x="5334120" y="5105520"/>
              <a:ext cx="5349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2819520" y="4800600"/>
              <a:ext cx="266688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352680" y="4038480"/>
              <a:ext cx="152424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5" name=""/>
          <p:cNvGrpSpPr/>
          <p:nvPr/>
        </p:nvGrpSpPr>
        <p:grpSpPr>
          <a:xfrm>
            <a:off x="3733920" y="5410080"/>
            <a:ext cx="1904760" cy="581400"/>
            <a:chOff x="3733920" y="5410080"/>
            <a:chExt cx="1904760" cy="581400"/>
          </a:xfrm>
        </p:grpSpPr>
        <p:sp>
          <p:nvSpPr>
            <p:cNvPr id="2076" name=""/>
            <p:cNvSpPr/>
            <p:nvPr/>
          </p:nvSpPr>
          <p:spPr>
            <a:xfrm flipH="1">
              <a:off x="4876920" y="5562720"/>
              <a:ext cx="7617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733920" y="541008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8" name=""/>
          <p:cNvSpPr/>
          <p:nvPr/>
        </p:nvSpPr>
        <p:spPr>
          <a:xfrm>
            <a:off x="5029200" y="57913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Panic-Mode (Hartmann) Error Recover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1828800" y="5402160"/>
            <a:ext cx="533520" cy="45720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 flipH="1">
            <a:off x="1752120" y="563868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152280" y="6019920"/>
            <a:ext cx="2514600" cy="5205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wrong t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4724280" y="1219320"/>
            <a:ext cx="3657600" cy="2257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038480" y="3657600"/>
            <a:ext cx="4343400" cy="3131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inue with parsing fro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ymbol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9" name=""/>
          <p:cNvGrpSpPr/>
          <p:nvPr/>
        </p:nvGrpSpPr>
        <p:grpSpPr>
          <a:xfrm>
            <a:off x="2768760" y="2311560"/>
            <a:ext cx="4635360" cy="3555720"/>
            <a:chOff x="2768760" y="2311560"/>
            <a:chExt cx="4635360" cy="3555720"/>
          </a:xfrm>
        </p:grpSpPr>
        <p:sp>
          <p:nvSpPr>
            <p:cNvPr id="2120" name=""/>
            <p:cNvSpPr/>
            <p:nvPr/>
          </p:nvSpPr>
          <p:spPr>
            <a:xfrm>
              <a:off x="2768760" y="2311560"/>
              <a:ext cx="4635360" cy="3111480"/>
            </a:xfrm>
            <a:custGeom>
              <a:avLst/>
              <a:gdLst/>
              <a:ahLst/>
              <a:rect l="l" t="t" r="r" b="b"/>
              <a:pathLst>
                <a:path w="2920" h="1960">
                  <a:moveTo>
                    <a:pt x="800" y="24"/>
                  </a:moveTo>
                  <a:lnTo>
                    <a:pt x="888" y="0"/>
                  </a:lnTo>
                  <a:lnTo>
                    <a:pt x="2920" y="1952"/>
                  </a:lnTo>
                  <a:lnTo>
                    <a:pt x="568" y="1960"/>
                  </a:lnTo>
                  <a:lnTo>
                    <a:pt x="0" y="1536"/>
                  </a:lnTo>
                  <a:lnTo>
                    <a:pt x="320" y="1536"/>
                  </a:lnTo>
                  <a:lnTo>
                    <a:pt x="320" y="1240"/>
                  </a:lnTo>
                  <a:lnTo>
                    <a:pt x="240" y="976"/>
                  </a:lnTo>
                  <a:lnTo>
                    <a:pt x="568" y="976"/>
                  </a:lnTo>
                  <a:lnTo>
                    <a:pt x="568" y="656"/>
                  </a:lnTo>
                  <a:cubicBezTo>
                    <a:pt x="556" y="559"/>
                    <a:pt x="457" y="436"/>
                    <a:pt x="496" y="392"/>
                  </a:cubicBezTo>
                  <a:lnTo>
                    <a:pt x="800" y="392"/>
                  </a:lnTo>
                  <a:lnTo>
                    <a:pt x="800" y="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4191120" y="5410080"/>
              <a:ext cx="3200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4648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1055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4648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1055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5627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0199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5627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0199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4771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934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4771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934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4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Panic-Mode Recovery: Illustration 1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6" name=""/>
          <p:cNvGrpSpPr/>
          <p:nvPr/>
        </p:nvGrpSpPr>
        <p:grpSpPr>
          <a:xfrm>
            <a:off x="304920" y="5410080"/>
            <a:ext cx="2437920" cy="1138320"/>
            <a:chOff x="304920" y="5410080"/>
            <a:chExt cx="2437920" cy="1138320"/>
          </a:xfrm>
        </p:grpSpPr>
        <p:sp>
          <p:nvSpPr>
            <p:cNvPr id="2147" name=""/>
            <p:cNvSpPr/>
            <p:nvPr/>
          </p:nvSpPr>
          <p:spPr>
            <a:xfrm>
              <a:off x="1848960" y="5410080"/>
              <a:ext cx="568800" cy="4572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>
              <a:off x="1767240" y="5646600"/>
              <a:ext cx="4064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04920" y="6027840"/>
              <a:ext cx="2437920" cy="52056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0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4800600" y="1600200"/>
            <a:ext cx="3657600" cy="870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Then, continue fro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4" name=""/>
          <p:cNvGrpSpPr/>
          <p:nvPr/>
        </p:nvGrpSpPr>
        <p:grpSpPr>
          <a:xfrm>
            <a:off x="2209680" y="5029200"/>
            <a:ext cx="1982880" cy="956160"/>
            <a:chOff x="2209680" y="5029200"/>
            <a:chExt cx="1982880" cy="956160"/>
          </a:xfrm>
        </p:grpSpPr>
        <p:sp>
          <p:nvSpPr>
            <p:cNvPr id="2175" name=""/>
            <p:cNvSpPr/>
            <p:nvPr/>
          </p:nvSpPr>
          <p:spPr>
            <a:xfrm>
              <a:off x="3657600" y="5410080"/>
              <a:ext cx="5349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2209680" y="5029200"/>
              <a:ext cx="152424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209680" y="5257800"/>
              <a:ext cx="1522440" cy="7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8" name=""/>
          <p:cNvGrpSpPr/>
          <p:nvPr/>
        </p:nvGrpSpPr>
        <p:grpSpPr>
          <a:xfrm>
            <a:off x="3581280" y="5867280"/>
            <a:ext cx="4191120" cy="759240"/>
            <a:chOff x="3581280" y="5867280"/>
            <a:chExt cx="4191120" cy="759240"/>
          </a:xfrm>
        </p:grpSpPr>
        <p:sp>
          <p:nvSpPr>
            <p:cNvPr id="2179" name=""/>
            <p:cNvSpPr/>
            <p:nvPr/>
          </p:nvSpPr>
          <p:spPr>
            <a:xfrm>
              <a:off x="3581280" y="6172200"/>
              <a:ext cx="4191120" cy="454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irst token from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Contex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038480" y="586728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1" name=""/>
          <p:cNvGrpSpPr/>
          <p:nvPr/>
        </p:nvGrpSpPr>
        <p:grpSpPr>
          <a:xfrm>
            <a:off x="3551400" y="2311560"/>
            <a:ext cx="3852720" cy="3555720"/>
            <a:chOff x="3551400" y="2311560"/>
            <a:chExt cx="3852720" cy="3555720"/>
          </a:xfrm>
        </p:grpSpPr>
        <p:sp>
          <p:nvSpPr>
            <p:cNvPr id="2182" name=""/>
            <p:cNvSpPr/>
            <p:nvPr/>
          </p:nvSpPr>
          <p:spPr>
            <a:xfrm>
              <a:off x="3551400" y="2311560"/>
              <a:ext cx="3852720" cy="3098520"/>
            </a:xfrm>
            <a:custGeom>
              <a:avLst/>
              <a:gdLst/>
              <a:ahLst/>
              <a:rect l="l" t="t" r="r" b="b"/>
              <a:pathLst>
                <a:path w="2427" h="1952">
                  <a:moveTo>
                    <a:pt x="307" y="24"/>
                  </a:moveTo>
                  <a:lnTo>
                    <a:pt x="395" y="0"/>
                  </a:lnTo>
                  <a:lnTo>
                    <a:pt x="2427" y="1952"/>
                  </a:lnTo>
                  <a:lnTo>
                    <a:pt x="1275" y="1952"/>
                  </a:lnTo>
                  <a:lnTo>
                    <a:pt x="291" y="944"/>
                  </a:lnTo>
                  <a:cubicBezTo>
                    <a:pt x="79" y="684"/>
                    <a:pt x="0" y="484"/>
                    <a:pt x="3" y="392"/>
                  </a:cubicBezTo>
                  <a:lnTo>
                    <a:pt x="307" y="392"/>
                  </a:lnTo>
                  <a:lnTo>
                    <a:pt x="307" y="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6019920" y="5410080"/>
              <a:ext cx="13716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64771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6934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64771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934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8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Panic-Mode Recovery: Illustration 2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0" name=""/>
          <p:cNvGrpSpPr/>
          <p:nvPr/>
        </p:nvGrpSpPr>
        <p:grpSpPr>
          <a:xfrm>
            <a:off x="380880" y="5402160"/>
            <a:ext cx="2286000" cy="1077480"/>
            <a:chOff x="380880" y="5402160"/>
            <a:chExt cx="2286000" cy="1077480"/>
          </a:xfrm>
        </p:grpSpPr>
        <p:sp>
          <p:nvSpPr>
            <p:cNvPr id="2201" name=""/>
            <p:cNvSpPr/>
            <p:nvPr/>
          </p:nvSpPr>
          <p:spPr>
            <a:xfrm>
              <a:off x="1828800" y="5402160"/>
              <a:ext cx="533520" cy="4572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H="1">
              <a:off x="1752120" y="5638680"/>
              <a:ext cx="3812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80880" y="6019920"/>
              <a:ext cx="2286000" cy="45972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4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4800600" y="1600200"/>
            <a:ext cx="3657600" cy="870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Then, continue fro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8" name=""/>
          <p:cNvGrpSpPr/>
          <p:nvPr/>
        </p:nvGrpSpPr>
        <p:grpSpPr>
          <a:xfrm>
            <a:off x="2209680" y="5029200"/>
            <a:ext cx="3848400" cy="838080"/>
            <a:chOff x="2209680" y="5029200"/>
            <a:chExt cx="3848400" cy="838080"/>
          </a:xfrm>
        </p:grpSpPr>
        <p:sp>
          <p:nvSpPr>
            <p:cNvPr id="2229" name=""/>
            <p:cNvSpPr/>
            <p:nvPr/>
          </p:nvSpPr>
          <p:spPr>
            <a:xfrm>
              <a:off x="5562720" y="5410080"/>
              <a:ext cx="4953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209680" y="5029200"/>
              <a:ext cx="350532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514600" y="5105520"/>
              <a:ext cx="292572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2" name=""/>
          <p:cNvGrpSpPr/>
          <p:nvPr/>
        </p:nvGrpSpPr>
        <p:grpSpPr>
          <a:xfrm>
            <a:off x="3581280" y="5867280"/>
            <a:ext cx="4191120" cy="759240"/>
            <a:chOff x="3581280" y="5867280"/>
            <a:chExt cx="4191120" cy="759240"/>
          </a:xfrm>
        </p:grpSpPr>
        <p:sp>
          <p:nvSpPr>
            <p:cNvPr id="2233" name=""/>
            <p:cNvSpPr/>
            <p:nvPr/>
          </p:nvSpPr>
          <p:spPr>
            <a:xfrm>
              <a:off x="3581280" y="6172200"/>
              <a:ext cx="4191120" cy="454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irst token from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Contex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791320" y="5867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for Predictive Parser: Variant I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8580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533520" y="2133720"/>
            <a:ext cx="8229600" cy="34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 pus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to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no rule is applic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the pushdow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0" name=""/>
          <p:cNvGrpSpPr/>
          <p:nvPr/>
        </p:nvGrpSpPr>
        <p:grpSpPr>
          <a:xfrm>
            <a:off x="5029200" y="2362320"/>
            <a:ext cx="4114800" cy="3352680"/>
            <a:chOff x="5029200" y="2362320"/>
            <a:chExt cx="4114800" cy="3352680"/>
          </a:xfrm>
        </p:grpSpPr>
        <p:sp>
          <p:nvSpPr>
            <p:cNvPr id="2241" name=""/>
            <p:cNvSpPr/>
            <p:nvPr/>
          </p:nvSpPr>
          <p:spPr>
            <a:xfrm>
              <a:off x="73152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638680" y="510552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705720" y="5105520"/>
              <a:ext cx="5331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848720" y="5105520"/>
              <a:ext cx="761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095880" y="26668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181480" y="35053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a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029200" y="2362320"/>
              <a:ext cx="304920" cy="2743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029200" y="2362320"/>
              <a:ext cx="182880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 flipH="1">
              <a:off x="6095880" y="3200400"/>
              <a:ext cx="99072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H="1">
              <a:off x="6095520" y="4038480"/>
              <a:ext cx="18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flipV="1">
              <a:off x="7086600" y="3200400"/>
              <a:ext cx="457200" cy="19051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086600" y="3200400"/>
              <a:ext cx="106668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095880" y="4038480"/>
              <a:ext cx="9144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7315200" y="37339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8229600" y="4267080"/>
              <a:ext cx="1440" cy="838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6" name=""/>
          <p:cNvGrpSpPr/>
          <p:nvPr/>
        </p:nvGrpSpPr>
        <p:grpSpPr>
          <a:xfrm>
            <a:off x="3657600" y="5105520"/>
            <a:ext cx="5410080" cy="1648080"/>
            <a:chOff x="3657600" y="5105520"/>
            <a:chExt cx="5410080" cy="1648080"/>
          </a:xfrm>
        </p:grpSpPr>
        <p:sp>
          <p:nvSpPr>
            <p:cNvPr id="2257" name=""/>
            <p:cNvSpPr/>
            <p:nvPr/>
          </p:nvSpPr>
          <p:spPr>
            <a:xfrm>
              <a:off x="5105520" y="5105520"/>
              <a:ext cx="457200" cy="60948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029200" y="5943600"/>
              <a:ext cx="403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‘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;’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ollo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&lt;expr&gt;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 flipH="1">
              <a:off x="4571640" y="5715000"/>
              <a:ext cx="762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3657600" y="617220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nt I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1676520" y="5105520"/>
            <a:ext cx="53316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286000" y="5105520"/>
            <a:ext cx="53352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2895480" y="5105520"/>
            <a:ext cx="381240" cy="60948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533520" y="5105520"/>
            <a:ext cx="10666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581280" y="1143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457200" y="51055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g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=  *  *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rite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 flipH="1">
            <a:off x="1066680" y="1676520"/>
            <a:ext cx="32004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4267080" y="1905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-lis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3124080" y="2514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2895480" y="3200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assig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3352680" y="3886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exp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4267080" y="1676520"/>
            <a:ext cx="7621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 flipH="1">
            <a:off x="4114800" y="2362320"/>
            <a:ext cx="9144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 flipH="1">
            <a:off x="3886200" y="2971800"/>
            <a:ext cx="763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 flipH="1">
            <a:off x="1904760" y="3657600"/>
            <a:ext cx="190476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 flipH="1">
            <a:off x="2590920" y="3657600"/>
            <a:ext cx="121896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809880" y="3657600"/>
            <a:ext cx="5335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3124080" y="4343400"/>
            <a:ext cx="1067040" cy="83808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flipV="1">
            <a:off x="3048120" y="5562720"/>
            <a:ext cx="2209680" cy="457200"/>
          </a:xfrm>
          <a:custGeom>
            <a:avLst/>
            <a:gdLst/>
            <a:ahLst/>
            <a:rect l="l" t="t" r="r" b="b"/>
            <a:pathLst>
              <a:path w="1608" h="344">
                <a:moveTo>
                  <a:pt x="0" y="336"/>
                </a:moveTo>
                <a:cubicBezTo>
                  <a:pt x="88" y="289"/>
                  <a:pt x="356" y="104"/>
                  <a:pt x="528" y="56"/>
                </a:cubicBezTo>
                <a:cubicBezTo>
                  <a:pt x="700" y="8"/>
                  <a:pt x="852" y="0"/>
                  <a:pt x="1032" y="48"/>
                </a:cubicBezTo>
                <a:cubicBezTo>
                  <a:pt x="1212" y="96"/>
                  <a:pt x="1488" y="282"/>
                  <a:pt x="1608" y="344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Predictive Parser: Variant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68580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33520" y="2133720"/>
            <a:ext cx="822960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 pus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to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no rule is applic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sume according to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the pushdow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//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7" name=""/>
          <p:cNvGrpSpPr/>
          <p:nvPr/>
        </p:nvGrpSpPr>
        <p:grpSpPr>
          <a:xfrm>
            <a:off x="3048120" y="2362320"/>
            <a:ext cx="6095880" cy="3352680"/>
            <a:chOff x="3048120" y="2362320"/>
            <a:chExt cx="6095880" cy="3352680"/>
          </a:xfrm>
        </p:grpSpPr>
        <p:sp>
          <p:nvSpPr>
            <p:cNvPr id="2288" name=""/>
            <p:cNvSpPr/>
            <p:nvPr/>
          </p:nvSpPr>
          <p:spPr>
            <a:xfrm>
              <a:off x="510552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5720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191120" y="5105520"/>
              <a:ext cx="3045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73152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638680" y="510552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705720" y="5105520"/>
              <a:ext cx="5331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848720" y="5105520"/>
              <a:ext cx="761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095880" y="26668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029200" y="2362320"/>
              <a:ext cx="457200" cy="2743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029200" y="2362320"/>
              <a:ext cx="182880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3048120" y="4419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ccff"/>
                  </a:solidFill>
                  <a:latin typeface="Times New Roman"/>
                </a:rPr>
                <a:t>&lt;expr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 flipV="1">
              <a:off x="3886200" y="4876560"/>
              <a:ext cx="0" cy="2286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 flipV="1">
              <a:off x="3962520" y="4114440"/>
              <a:ext cx="30456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419720" y="4191120"/>
              <a:ext cx="0" cy="9144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572000" y="4114800"/>
              <a:ext cx="22860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038480" y="4419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ccff"/>
                  </a:solidFill>
                  <a:latin typeface="Times New Roman"/>
                </a:rPr>
                <a:t>&lt;expr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800600" y="4800600"/>
              <a:ext cx="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181480" y="35053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a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 flipH="1">
              <a:off x="6095880" y="3200400"/>
              <a:ext cx="99072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H="1">
              <a:off x="6095520" y="4038480"/>
              <a:ext cx="18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 flipH="1" flipV="1">
              <a:off x="7086600" y="3200400"/>
              <a:ext cx="457200" cy="19051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7086600" y="3200400"/>
              <a:ext cx="106668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095880" y="4038480"/>
              <a:ext cx="9144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7315200" y="37339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8229600" y="4267080"/>
              <a:ext cx="1440" cy="838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3" name=""/>
          <p:cNvGrpSpPr/>
          <p:nvPr/>
        </p:nvGrpSpPr>
        <p:grpSpPr>
          <a:xfrm>
            <a:off x="3657600" y="5105520"/>
            <a:ext cx="5334120" cy="1571760"/>
            <a:chOff x="3657600" y="5105520"/>
            <a:chExt cx="5334120" cy="1571760"/>
          </a:xfrm>
        </p:grpSpPr>
        <p:sp>
          <p:nvSpPr>
            <p:cNvPr id="2314" name=""/>
            <p:cNvSpPr/>
            <p:nvPr/>
          </p:nvSpPr>
          <p:spPr>
            <a:xfrm>
              <a:off x="3657600" y="5105520"/>
              <a:ext cx="457200" cy="60948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952880" y="6095880"/>
              <a:ext cx="403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‘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’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&lt;expr&gt;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809880" y="571500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3657600" y="609588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nt II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1676520" y="5105520"/>
            <a:ext cx="53316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286000" y="5105520"/>
            <a:ext cx="53352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2895480" y="5105520"/>
            <a:ext cx="381240" cy="60948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533520" y="5105520"/>
            <a:ext cx="10666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3581280" y="1143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457200" y="510552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g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=  *  *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rite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 flipH="1">
            <a:off x="1066680" y="1676520"/>
            <a:ext cx="32004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4267080" y="1905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-lis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124080" y="2438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274320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assig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3429000" y="3657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exp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4267080" y="1676520"/>
            <a:ext cx="7621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 flipH="1">
            <a:off x="4191120" y="2362320"/>
            <a:ext cx="8380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 flipH="1">
            <a:off x="3886200" y="28954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H="1">
            <a:off x="1905120" y="3505320"/>
            <a:ext cx="167616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 flipH="1">
            <a:off x="2590560" y="3505320"/>
            <a:ext cx="99036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581280" y="3505320"/>
            <a:ext cx="381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 flipH="1">
            <a:off x="2971800" y="3886200"/>
            <a:ext cx="914400" cy="12193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V="1">
            <a:off x="3048120" y="5562720"/>
            <a:ext cx="685800" cy="457200"/>
          </a:xfrm>
          <a:custGeom>
            <a:avLst/>
            <a:gdLst/>
            <a:ahLst/>
            <a:rect l="l" t="t" r="r" b="b"/>
            <a:pathLst>
              <a:path w="1608" h="344">
                <a:moveTo>
                  <a:pt x="0" y="336"/>
                </a:moveTo>
                <a:cubicBezTo>
                  <a:pt x="88" y="289"/>
                  <a:pt x="356" y="104"/>
                  <a:pt x="528" y="56"/>
                </a:cubicBezTo>
                <a:cubicBezTo>
                  <a:pt x="700" y="8"/>
                  <a:pt x="852" y="0"/>
                  <a:pt x="1032" y="48"/>
                </a:cubicBezTo>
                <a:cubicBezTo>
                  <a:pt x="1212" y="96"/>
                  <a:pt x="1488" y="282"/>
                  <a:pt x="1608" y="344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imple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rogramming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anguage (SPL)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1143000"/>
            <a:ext cx="77724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&lt;prog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2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3: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5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6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7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9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0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48006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4600" y="4876920"/>
            <a:ext cx="3962520" cy="1677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read i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j := add(i, 1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write j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4800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53080" y="5181480"/>
            <a:ext cx="2210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SPL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426708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P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L  gram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533520" y="1143000"/>
            <a:ext cx="76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without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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-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2096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2209680"/>
            <a:ext cx="8534160" cy="25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n ad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4648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502920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4572000"/>
            <a:ext cx="243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38680" y="5105520"/>
            <a:ext cx="1600200" cy="1143000"/>
          </a:xfrm>
          <a:custGeom>
            <a:avLst/>
            <a:gdLst/>
            <a:ahLst/>
            <a:rect l="l" t="t" r="r" b="b"/>
            <a:pathLst>
              <a:path w="1384" h="656">
                <a:moveTo>
                  <a:pt x="1248" y="656"/>
                </a:moveTo>
                <a:cubicBezTo>
                  <a:pt x="1236" y="584"/>
                  <a:pt x="1384" y="333"/>
                  <a:pt x="1176" y="224"/>
                </a:cubicBezTo>
                <a:cubicBezTo>
                  <a:pt x="968" y="115"/>
                  <a:pt x="245" y="47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5715000" y="4648320"/>
            <a:ext cx="2819520" cy="581400"/>
            <a:chOff x="5715000" y="4648320"/>
            <a:chExt cx="2819520" cy="581400"/>
          </a:xfrm>
        </p:grpSpPr>
        <p:sp>
          <p:nvSpPr>
            <p:cNvPr id="309" name=""/>
            <p:cNvSpPr/>
            <p:nvPr/>
          </p:nvSpPr>
          <p:spPr>
            <a:xfrm>
              <a:off x="5715000" y="49528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00800" y="4648320"/>
              <a:ext cx="213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038480" y="4800600"/>
            <a:ext cx="2590920" cy="1189080"/>
            <a:chOff x="4038480" y="4800600"/>
            <a:chExt cx="2590920" cy="1189080"/>
          </a:xfrm>
        </p:grpSpPr>
        <p:sp>
          <p:nvSpPr>
            <p:cNvPr id="312" name=""/>
            <p:cNvSpPr/>
            <p:nvPr/>
          </p:nvSpPr>
          <p:spPr>
            <a:xfrm>
              <a:off x="4724280" y="5486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34120" y="54864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81480" y="4800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95880" y="54864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181480" y="4800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4832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5780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4952880" y="5257800"/>
              <a:ext cx="4572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10080" y="525780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10080" y="5257800"/>
              <a:ext cx="914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1500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1992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38480" y="5029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952880" y="6172200"/>
            <a:ext cx="2438640" cy="553680"/>
            <a:chOff x="4952880" y="6172200"/>
            <a:chExt cx="2438640" cy="553680"/>
          </a:xfrm>
        </p:grpSpPr>
        <p:sp>
          <p:nvSpPr>
            <p:cNvPr id="326" name=""/>
            <p:cNvSpPr/>
            <p:nvPr/>
          </p:nvSpPr>
          <p:spPr>
            <a:xfrm>
              <a:off x="4952880" y="6477120"/>
              <a:ext cx="3812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257800" y="6172200"/>
              <a:ext cx="2133720" cy="55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4343400" y="5943240"/>
            <a:ext cx="1447920" cy="916560"/>
            <a:chOff x="4343400" y="5943240"/>
            <a:chExt cx="1447920" cy="916560"/>
          </a:xfrm>
        </p:grpSpPr>
        <p:sp>
          <p:nvSpPr>
            <p:cNvPr id="329" name=""/>
            <p:cNvSpPr/>
            <p:nvPr/>
          </p:nvSpPr>
          <p:spPr>
            <a:xfrm>
              <a:off x="4343400" y="627840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43400" y="62485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4343400" y="5942880"/>
              <a:ext cx="1219320" cy="304920"/>
            </a:xfrm>
            <a:custGeom>
              <a:avLst/>
              <a:gdLst>
                <a:gd name="textAreaLeft" fmla="*/ 309600 w 1219320"/>
                <a:gd name="textAreaRight" fmla="*/ 909720 w 1219320"/>
                <a:gd name="textAreaTop" fmla="*/ 77400 h 304920"/>
                <a:gd name="textAreaBottom" fmla="*/ 2275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879" y="21600"/>
                  </a:lnTo>
                  <a:lnTo>
                    <a:pt x="6721" y="21600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 for SP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11430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629400" y="1143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73200" y="5359320"/>
            <a:ext cx="8153280" cy="916920"/>
            <a:chOff x="673200" y="5359320"/>
            <a:chExt cx="8153280" cy="916920"/>
          </a:xfrm>
        </p:grpSpPr>
        <p:sp>
          <p:nvSpPr>
            <p:cNvPr id="338" name=""/>
            <p:cNvSpPr/>
            <p:nvPr/>
          </p:nvSpPr>
          <p:spPr>
            <a:xfrm>
              <a:off x="749160" y="62737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3200" y="5359320"/>
              <a:ext cx="815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685800" y="6264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86200" y="11430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85800" y="2362320"/>
            <a:ext cx="8001000" cy="916920"/>
            <a:chOff x="685800" y="2362320"/>
            <a:chExt cx="8001000" cy="916920"/>
          </a:xfrm>
        </p:grpSpPr>
        <p:sp>
          <p:nvSpPr>
            <p:cNvPr id="343" name=""/>
            <p:cNvSpPr/>
            <p:nvPr/>
          </p:nvSpPr>
          <p:spPr>
            <a:xfrm>
              <a:off x="685800" y="2362320"/>
              <a:ext cx="8001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2120" y="327672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85800" y="3276720"/>
            <a:ext cx="8077320" cy="916920"/>
            <a:chOff x="685800" y="3276720"/>
            <a:chExt cx="8077320" cy="916920"/>
          </a:xfrm>
        </p:grpSpPr>
        <p:sp>
          <p:nvSpPr>
            <p:cNvPr id="346" name=""/>
            <p:cNvSpPr/>
            <p:nvPr/>
          </p:nvSpPr>
          <p:spPr>
            <a:xfrm>
              <a:off x="685800" y="3276720"/>
              <a:ext cx="8077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62120" y="419112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85800" y="4191120"/>
            <a:ext cx="7848720" cy="1191240"/>
            <a:chOff x="685800" y="4191120"/>
            <a:chExt cx="7848720" cy="1191240"/>
          </a:xfrm>
        </p:grpSpPr>
        <p:sp>
          <p:nvSpPr>
            <p:cNvPr id="349" name=""/>
            <p:cNvSpPr/>
            <p:nvPr/>
          </p:nvSpPr>
          <p:spPr>
            <a:xfrm>
              <a:off x="685800" y="4191120"/>
              <a:ext cx="784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9160" y="53593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on of LL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685800" y="1143000"/>
            <a:ext cx="3809880" cy="1942560"/>
            <a:chOff x="685800" y="1143000"/>
            <a:chExt cx="3809880" cy="1942560"/>
          </a:xfrm>
        </p:grpSpPr>
        <p:sp>
          <p:nvSpPr>
            <p:cNvPr id="354" name=""/>
            <p:cNvSpPr/>
            <p:nvPr/>
          </p:nvSpPr>
          <p:spPr>
            <a:xfrm>
              <a:off x="160020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14600" y="121896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58128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5800" y="2603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5800" y="1701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5800" y="213336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14600" y="21333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71800" y="1701720"/>
              <a:ext cx="1440" cy="914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00200" y="2361960"/>
              <a:ext cx="91440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14600" y="1701720"/>
              <a:ext cx="1066680" cy="138384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00200" y="2133360"/>
              <a:ext cx="28954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00200" y="1701720"/>
              <a:ext cx="2895480" cy="1383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14600" y="212076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38080" y="11430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3581280" y="1752480"/>
            <a:ext cx="5257800" cy="1391400"/>
            <a:chOff x="3581280" y="1752480"/>
            <a:chExt cx="5257800" cy="1391400"/>
          </a:xfrm>
        </p:grpSpPr>
        <p:sp>
          <p:nvSpPr>
            <p:cNvPr id="369" name=""/>
            <p:cNvSpPr/>
            <p:nvPr/>
          </p:nvSpPr>
          <p:spPr>
            <a:xfrm>
              <a:off x="4572000" y="1752480"/>
              <a:ext cx="4267080" cy="139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is blank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ERRO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581280" y="2057400"/>
              <a:ext cx="106704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0880" y="60357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457200" y="3200400"/>
            <a:ext cx="8686800" cy="3505320"/>
            <a:chOff x="457200" y="3200400"/>
            <a:chExt cx="8686800" cy="3505320"/>
          </a:xfrm>
        </p:grpSpPr>
        <p:sp>
          <p:nvSpPr>
            <p:cNvPr id="374" name=""/>
            <p:cNvSpPr/>
            <p:nvPr/>
          </p:nvSpPr>
          <p:spPr>
            <a:xfrm>
              <a:off x="6934320" y="3581280"/>
              <a:ext cx="2209680" cy="31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begin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en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write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,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)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n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38480" y="3200400"/>
              <a:ext cx="495324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n    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7200" y="3733920"/>
              <a:ext cx="335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7200" y="4114800"/>
              <a:ext cx="1447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prog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720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57200" y="4191120"/>
              <a:ext cx="335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7200" y="601992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38480" y="3581280"/>
              <a:ext cx="3200400" cy="31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: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&lt;prog&gt;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begin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2: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3: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n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4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5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write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6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7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8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9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n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0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9480" y="32004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L table for SP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47920" y="3733920"/>
              <a:ext cx="990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0968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81080" y="373392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14600" y="373392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4320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7672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200400" y="358128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14800" y="365760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1028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9154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1148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114800" y="670572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4114440" y="327672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600200" y="4114800"/>
            <a:ext cx="2666880" cy="858240"/>
            <a:chOff x="1600200" y="4114800"/>
            <a:chExt cx="2666880" cy="858240"/>
          </a:xfrm>
        </p:grpSpPr>
        <p:sp>
          <p:nvSpPr>
            <p:cNvPr id="398" name=""/>
            <p:cNvSpPr/>
            <p:nvPr/>
          </p:nvSpPr>
          <p:spPr>
            <a:xfrm>
              <a:off x="2286000" y="4343400"/>
              <a:ext cx="1981080" cy="62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&lt;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2057040" y="4724280"/>
              <a:ext cx="3049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00200" y="4495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3886200" y="4114800"/>
              <a:ext cx="380880" cy="685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600200" y="4876920"/>
            <a:ext cx="2666880" cy="489960"/>
            <a:chOff x="1600200" y="4876920"/>
            <a:chExt cx="2666880" cy="489960"/>
          </a:xfrm>
        </p:grpSpPr>
        <p:sp>
          <p:nvSpPr>
            <p:cNvPr id="403" name=""/>
            <p:cNvSpPr/>
            <p:nvPr/>
          </p:nvSpPr>
          <p:spPr>
            <a:xfrm>
              <a:off x="2286000" y="4876920"/>
              <a:ext cx="1981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2057400" y="5105520"/>
              <a:ext cx="38088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600200" y="4876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flipV="1">
              <a:off x="3962520" y="5181480"/>
              <a:ext cx="304560" cy="763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1600200" y="5486400"/>
            <a:ext cx="2743200" cy="914400"/>
            <a:chOff x="1600200" y="5486400"/>
            <a:chExt cx="2743200" cy="914400"/>
          </a:xfrm>
        </p:grpSpPr>
        <p:sp>
          <p:nvSpPr>
            <p:cNvPr id="408" name=""/>
            <p:cNvSpPr/>
            <p:nvPr/>
          </p:nvSpPr>
          <p:spPr>
            <a:xfrm>
              <a:off x="2286000" y="5486400"/>
              <a:ext cx="2057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133720" y="5791320"/>
              <a:ext cx="30456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002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3962520" y="5867280"/>
              <a:ext cx="304560" cy="5335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3:27Z</dcterms:modified>
  <cp:revision>268</cp:revision>
  <dc:subject/>
  <dc:title>Top-Down Parsing</dc:title>
</cp:coreProperties>
</file>