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2F0-A170-4235-81DE-D90E1F4B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2A2-DA1C-46F8-B323-A92A22C5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BEE-D915-47DE-ACC9-1CA0A1DC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C86-ECFF-4FC9-861D-9B117D91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083-5A33-407B-B708-E4D6DCC8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C58-BAC5-4EB0-8A37-C2BE6511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EFA-0A61-434C-A013-BDB7B538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216-4D40-447D-A889-51F6117A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ADF-2A65-401F-A1F2-86363AA9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B8C-55E6-4F87-BAA4-E89E9665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A09-4E51-413A-89D0-AADB77B6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9EC-1A9D-4C9E-9AA7-AF3017D8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9791-E871-4CB1-9301-0184E17E0C8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5:20Z</dcterms:modified>
  <cp:revision>209</cp:revision>
  <dc:subject/>
  <dc:title>Syntax Directed Translation and Intermediate Code</dc:title>
</cp:coreProperties>
</file>