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EBA-F434-4641-A64B-B4B80A18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0D6-B229-42CA-9A1B-D32CB9E3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B0F-A4DB-4D76-9B4D-8B52D1F1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F6E-DDD0-4C5A-B50E-00FC8897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BD2-9304-4D9E-A9B1-86D231C6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092-A405-4CA2-A6CC-63145821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F89-19BF-4CBD-969B-927F9F05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E4A-CD6F-4204-8EA5-9081B7AB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F2F-9FA0-4B9D-844B-E20DB027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971-8DDB-442D-BF09-EFA9B942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56A-B0AD-40AC-83A6-C35EE285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9EB-7FF8-488E-A513-00A49297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13F9-E221-4566-A74E-2B7E0D4D02A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0840" y="5256720"/>
            <a:ext cx="29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CVT</cp:lastModifiedBy>
  <dcterms:modified xsi:type="dcterms:W3CDTF">2006-08-30T14:10:07Z</dcterms:modified>
  <cp:revision>98</cp:revision>
  <dc:subject/>
  <dc:title>Bez nadpisu</dc:title>
</cp:coreProperties>
</file>