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747-001E-4DE5-B2D1-35FEF229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240-E062-490F-92E5-5BE87F4B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219-DB2B-491A-B623-93F021C8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327-1A76-4013-9697-6A0C758D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77D-9965-4C45-B025-126A8D0C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2E23-2795-48BE-B6B6-B0B4BE64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6B6-F9A0-416E-9D18-06A0CD5B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EA7-81AA-460A-9EEE-221BEAD6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C48-B26A-4D07-8EDA-EE4F37FB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E2C2-6E37-4419-A56C-C238EB4D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D4E-8863-4FA0-AE94-CFC305D9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9E0-A306-4A29-93D9-52066EC1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5F0B-4D97-469E-A2E8-67F3C57FC37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50840" y="5256720"/>
            <a:ext cx="290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43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CVT</cp:lastModifiedBy>
  <dcterms:modified xsi:type="dcterms:W3CDTF">2006-08-30T14:10:07Z</dcterms:modified>
  <cp:revision>98</cp:revision>
  <dc:subject/>
  <dc:title>Bez nadpisu</dc:title>
</cp:coreProperties>
</file>