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422-29E0-4DAA-9BE0-B8BF2D3D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ABE-6A7D-4821-A8A2-7168287C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ED2-0502-41E7-A2AD-A8FDA51E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F82-3268-491D-8B00-638F6AE3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71A-AF14-4F1F-A20C-C8C0FC9F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7FC-6F61-40B5-97EA-97CE6F66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29C-9D24-45CD-B834-48A8C225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E43-5A91-4F70-B452-931F40E2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066-7A1A-42ED-A943-9E56C2E2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7AA-1C96-412F-B295-2629B016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7AB-44EC-4C8B-968B-E3C9B8D4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0DB-06EC-450E-AC2A-47D6176A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0404-9781-444B-9145-FEB94455259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57:10Z</dcterms:modified>
  <cp:revision>125</cp:revision>
  <dc:subject/>
  <dc:title>Introduction to Compilers</dc:title>
</cp:coreProperties>
</file>