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94C-F443-4B44-BB51-372DD41F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8B9-0F07-4E05-AC8E-2C33E0E2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830-C721-492A-8553-C5650E53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C43-4DB8-483B-A0A9-432086E3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0A9-DE3A-4B30-A4DD-A94C01D0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5FC-579D-4FB1-822E-359B71E9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106-120F-4C71-ACB1-5EB1AE09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F39-EC69-4765-8F7B-D0BABF96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603-FA4F-4686-BA51-22B17D75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072-B7FD-4ECA-B303-D53EC0DF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E7E-F8CA-4E80-87A4-1173DFBB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99B8-3B21-42F1-A517-2BB9DC7B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5105-3E02-4A4A-AA84-EDC67ED9252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III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Beyo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Context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gh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1219320"/>
            <a:ext cx="7772400" cy="2209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1219320"/>
            <a:ext cx="77724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672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8862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2388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1800" y="42670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8092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581280" y="44956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13372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3372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053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40384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742480" y="41148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5400000">
            <a:off x="2781000" y="3314880"/>
            <a:ext cx="152280" cy="281916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666880"/>
            <a:ext cx="79250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65760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3372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38098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3526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4382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35053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5812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5812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548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43200" y="38098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343400" y="3505320"/>
            <a:ext cx="4419720" cy="1602720"/>
            <a:chOff x="4343400" y="3505320"/>
            <a:chExt cx="4419720" cy="1602720"/>
          </a:xfrm>
        </p:grpSpPr>
        <p:sp>
          <p:nvSpPr>
            <p:cNvPr id="607" name=""/>
            <p:cNvSpPr/>
            <p:nvPr/>
          </p:nvSpPr>
          <p:spPr>
            <a:xfrm>
              <a:off x="4343400" y="38862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9608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83059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4360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2485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0" y="42670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800100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552720" y="42670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553080" y="4495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81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722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24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388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38880" y="40384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467480" y="411480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400000">
              <a:off x="7200720" y="3314520"/>
              <a:ext cx="152280" cy="2819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3600" y="4648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6748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807732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4852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55308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2920" y="38098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7724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8580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86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771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9608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5520" y="35053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4120" y="35812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7280" y="358128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67480" y="38098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89548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80880" y="4267080"/>
            <a:ext cx="3810240" cy="2593440"/>
            <a:chOff x="380880" y="4267080"/>
            <a:chExt cx="3810240" cy="2593440"/>
          </a:xfrm>
        </p:grpSpPr>
        <p:sp>
          <p:nvSpPr>
            <p:cNvPr id="648" name=""/>
            <p:cNvSpPr/>
            <p:nvPr/>
          </p:nvSpPr>
          <p:spPr>
            <a:xfrm>
              <a:off x="152388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182880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82880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18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1337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1337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95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52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14600" y="60199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1460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742480" y="58672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5400000">
              <a:off x="2286000" y="5562360"/>
              <a:ext cx="152280" cy="1828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95280" y="6400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2880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3372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13372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43200" y="55627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382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4382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668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5800" y="52578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440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53341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9548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4320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880" y="4267080"/>
              <a:ext cx="762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48120" y="55627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18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526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5760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5760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5760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767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343400" y="5257800"/>
            <a:ext cx="4267080" cy="1602720"/>
            <a:chOff x="4343400" y="5257800"/>
            <a:chExt cx="4267080" cy="1602720"/>
          </a:xfrm>
        </p:grpSpPr>
        <p:sp>
          <p:nvSpPr>
            <p:cNvPr id="683" name=""/>
            <p:cNvSpPr/>
            <p:nvPr/>
          </p:nvSpPr>
          <p:spPr>
            <a:xfrm>
              <a:off x="74674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240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7732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7732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43400" y="56386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4360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2485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2485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80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6552720" y="60199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553080" y="62481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816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220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38880" y="6019920"/>
              <a:ext cx="38124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3888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467480" y="586728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6895800" y="5371920"/>
              <a:ext cx="152280" cy="22100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38680" y="64008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4852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0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5530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2920" y="55627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5800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85800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71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5520" y="52578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3412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67280" y="53341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2012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15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960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6748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773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96080" y="60199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0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f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219320"/>
            <a:ext cx="80773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767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8862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15235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5238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1800" y="4038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5809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5812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8288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5053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4038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14600" y="38098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742480" y="38862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2628720" y="2933640"/>
            <a:ext cx="228600" cy="3047760"/>
          </a:xfrm>
          <a:custGeom>
            <a:avLst/>
            <a:gdLst>
              <a:gd name="textAreaLeft" fmla="*/ 0 w 228600"/>
              <a:gd name="textAreaRight" fmla="*/ 8244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4812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57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38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8288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3526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337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524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767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2767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3526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33526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9548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4920" y="23623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35812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43200" y="35812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33720" y="40384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057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343400" y="3276720"/>
            <a:ext cx="4267080" cy="1678680"/>
            <a:chOff x="4343400" y="3276720"/>
            <a:chExt cx="4267080" cy="1678680"/>
          </a:xfrm>
        </p:grpSpPr>
        <p:sp>
          <p:nvSpPr>
            <p:cNvPr id="769" name=""/>
            <p:cNvSpPr/>
            <p:nvPr/>
          </p:nvSpPr>
          <p:spPr>
            <a:xfrm>
              <a:off x="4343400" y="36576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7048080" y="300996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15000" y="44956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05520" y="32767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34120" y="3352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67280" y="3352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102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960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83059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386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9436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436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91520" y="40384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80010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2485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52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67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246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29400" y="40384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38098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857280" y="388620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6748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773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4360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485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2485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62920" y="35812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7240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5308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866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22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580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816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0" y="35812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4038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10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04920" y="4191120"/>
            <a:ext cx="3886200" cy="2517120"/>
            <a:chOff x="304920" y="4191120"/>
            <a:chExt cx="3886200" cy="2517120"/>
          </a:xfrm>
        </p:grpSpPr>
        <p:sp>
          <p:nvSpPr>
            <p:cNvPr id="813" name=""/>
            <p:cNvSpPr/>
            <p:nvPr/>
          </p:nvSpPr>
          <p:spPr>
            <a:xfrm>
              <a:off x="36576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5800" y="50292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1440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7920" y="51055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54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4920" y="4191120"/>
              <a:ext cx="7617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1932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523520" y="57913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523880" y="60195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7180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8288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8288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954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4792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146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146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7424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5400000">
              <a:off x="2171520" y="5219640"/>
              <a:ext cx="152280" cy="2057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71600" y="6248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388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880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182880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3200" y="53341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1337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668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524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623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33720" y="57913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48120" y="53341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526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76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5760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718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767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343400" y="5029200"/>
            <a:ext cx="4267080" cy="1679040"/>
            <a:chOff x="4343400" y="5029200"/>
            <a:chExt cx="4267080" cy="1679040"/>
          </a:xfrm>
        </p:grpSpPr>
        <p:sp>
          <p:nvSpPr>
            <p:cNvPr id="852" name=""/>
            <p:cNvSpPr/>
            <p:nvPr/>
          </p:nvSpPr>
          <p:spPr>
            <a:xfrm>
              <a:off x="4343400" y="54100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05520" y="50292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412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5400000">
              <a:off x="6438600" y="5371920"/>
              <a:ext cx="152280" cy="17528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34120" y="624852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67280" y="51055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102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63868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9436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9436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24852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24852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67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294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294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8572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485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2485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2920" y="53341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55308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55308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866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22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580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816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86600" y="57913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10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74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724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07732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07732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077320" y="5257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915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960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5800" y="114300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a rule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as a Language Acce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20574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800" y="1981080"/>
            <a:ext cx="784872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00200" y="1066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09480" y="38862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57400" y="5105520"/>
            <a:ext cx="914400" cy="3045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36232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36232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971800" y="5105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668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266688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4800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209680" y="4876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38480" y="49528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7816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3915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3915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8672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1722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866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70866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771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58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102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24280" y="4876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029200" y="4952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38680" y="49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93432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09480" y="4343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954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053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9608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201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9246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2296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0592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05920" y="5181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6172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14400" y="5867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219320" y="5943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28800" y="5943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09680" y="5943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7816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3915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3915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672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1722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1722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86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086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4771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95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72428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02920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638680" y="6019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810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62320" y="6172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90920" y="6095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66880" y="6477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66880" y="6172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9608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20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00100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24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229600" y="6172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305920" y="6553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05920" y="6248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as an Acceptor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8954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0384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6668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14300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2004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098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1148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956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100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2952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672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436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816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0552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1600" y="20574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530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8580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480" y="32004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33520" y="3200400"/>
            <a:ext cx="87627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81080" y="4419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abb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088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33520" y="5029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0800000">
            <a:off x="3046680" y="1995120"/>
            <a:ext cx="3810960" cy="9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63"/>
                </a:moveTo>
                <a:arcTo wR="10800" hR="10800" stAng="10748076" swAng="10709882"/>
                <a:lnTo>
                  <a:pt x="10800" y="10800"/>
                </a:lnTo>
                <a:close/>
              </a:path>
              <a:path fill="none" w="21600" h="21600">
                <a:moveTo>
                  <a:pt x="1" y="10963"/>
                </a:moveTo>
                <a:arcTo wR="10800" hR="10800" stAng="10748076" swAng="10709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7524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8288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M as a Computational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948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-place 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nc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ompu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d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9480" y="32004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952560" y="44575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05520" y="4038480"/>
            <a:ext cx="53316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905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5740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43828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3733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90720" y="3809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765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76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05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004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00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382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819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38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96252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2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434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62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434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1992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0080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386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638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816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00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8487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24680" y="4419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24680" y="4038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38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5438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29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162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242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24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5120" y="5181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057400" y="54100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438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85800" y="51055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90720" y="5181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7652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195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3828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1952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8620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625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6252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95680" y="5181480"/>
            <a:ext cx="3886200" cy="718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 as a Computational Model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2120" y="1752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909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19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765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57200" y="10666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7524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5909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481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240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077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4197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4956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41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7913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8672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153280" y="1600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7057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629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388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09480" y="2666880"/>
            <a:ext cx="85345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62320" y="4343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49528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4952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9625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6576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eterministic Turing Machi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TM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85800" y="20574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5800" y="19810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9480" y="4419720"/>
            <a:ext cx="79250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or every 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948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3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42670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41480" y="42670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257800" y="4267080"/>
            <a:ext cx="534960" cy="510120"/>
            <a:chOff x="5257800" y="4267080"/>
            <a:chExt cx="534960" cy="510120"/>
          </a:xfrm>
        </p:grpSpPr>
        <p:sp>
          <p:nvSpPr>
            <p:cNvPr id="47" name=""/>
            <p:cNvSpPr/>
            <p:nvPr/>
          </p:nvSpPr>
          <p:spPr>
            <a:xfrm>
              <a:off x="52578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59240" y="426708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191120" y="4267080"/>
            <a:ext cx="1066680" cy="459720"/>
            <a:chOff x="4191120" y="4267080"/>
            <a:chExt cx="1066680" cy="459720"/>
          </a:xfrm>
        </p:grpSpPr>
        <p:sp>
          <p:nvSpPr>
            <p:cNvPr id="50" name=""/>
            <p:cNvSpPr/>
            <p:nvPr/>
          </p:nvSpPr>
          <p:spPr>
            <a:xfrm>
              <a:off x="41911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1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523880" y="4267080"/>
            <a:ext cx="534960" cy="510120"/>
            <a:chOff x="1523880" y="4267080"/>
            <a:chExt cx="534960" cy="510120"/>
          </a:xfrm>
        </p:grpSpPr>
        <p:sp>
          <p:nvSpPr>
            <p:cNvPr id="53" name=""/>
            <p:cNvSpPr/>
            <p:nvPr/>
          </p:nvSpPr>
          <p:spPr>
            <a:xfrm>
              <a:off x="15238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568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055960" y="4267080"/>
            <a:ext cx="534960" cy="510120"/>
            <a:chOff x="2055960" y="4267080"/>
            <a:chExt cx="534960" cy="510120"/>
          </a:xfrm>
        </p:grpSpPr>
        <p:sp>
          <p:nvSpPr>
            <p:cNvPr id="56" name=""/>
            <p:cNvSpPr/>
            <p:nvPr/>
          </p:nvSpPr>
          <p:spPr>
            <a:xfrm>
              <a:off x="20559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776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90920" y="4267080"/>
            <a:ext cx="1066680" cy="459720"/>
            <a:chOff x="2590920" y="4267080"/>
            <a:chExt cx="1066680" cy="459720"/>
          </a:xfrm>
        </p:grpSpPr>
        <p:sp>
          <p:nvSpPr>
            <p:cNvPr id="59" name=""/>
            <p:cNvSpPr/>
            <p:nvPr/>
          </p:nvSpPr>
          <p:spPr>
            <a:xfrm>
              <a:off x="25909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0060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057400"/>
            <a:ext cx="184140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198108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</a:rPr>
              <a:t>The most powerful computational mod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3240" y="495288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58000" y="4267080"/>
            <a:ext cx="534960" cy="459720"/>
            <a:chOff x="6858000" y="4267080"/>
            <a:chExt cx="534960" cy="459720"/>
          </a:xfrm>
        </p:grpSpPr>
        <p:sp>
          <p:nvSpPr>
            <p:cNvPr id="70" name=""/>
            <p:cNvSpPr/>
            <p:nvPr/>
          </p:nvSpPr>
          <p:spPr>
            <a:xfrm>
              <a:off x="68580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944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2760" y="4267080"/>
            <a:ext cx="534960" cy="459720"/>
            <a:chOff x="5792760" y="4267080"/>
            <a:chExt cx="534960" cy="459720"/>
          </a:xfrm>
        </p:grpSpPr>
        <p:sp>
          <p:nvSpPr>
            <p:cNvPr id="73" name=""/>
            <p:cNvSpPr/>
            <p:nvPr/>
          </p:nvSpPr>
          <p:spPr>
            <a:xfrm>
              <a:off x="57927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420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26280" y="4267080"/>
            <a:ext cx="534960" cy="459720"/>
            <a:chOff x="6326280" y="4267080"/>
            <a:chExt cx="534960" cy="459720"/>
          </a:xfrm>
        </p:grpSpPr>
        <p:sp>
          <p:nvSpPr>
            <p:cNvPr id="76" name=""/>
            <p:cNvSpPr/>
            <p:nvPr/>
          </p:nvSpPr>
          <p:spPr>
            <a:xfrm>
              <a:off x="63262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772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2388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4267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429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809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1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= blan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Tape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t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85800" y="1676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48640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609588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6708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57200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7913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7913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8769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48769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0552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9568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1500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048120" y="1828800"/>
            <a:ext cx="99036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0040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38480" y="1905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41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48640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09588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09588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26708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7200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57200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913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57913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8769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48769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0552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49568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71500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038480" y="25146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8640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5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0958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670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5720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5720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148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7913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7913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76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8769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10552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49568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71500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38480" y="33526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2880" y="2819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" y="4267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ape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5410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7816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78168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78168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16292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00800" y="2133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008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008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00800" y="2743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008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400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4008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0080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" y="41148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4114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3352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7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7180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911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85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5800" y="1600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42900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0384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038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0968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5146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514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1240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7339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733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195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28195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481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6576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8080" y="220968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90720" y="236232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828800" y="2895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76720" y="2895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483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2578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257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3434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28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4952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267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769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627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627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3152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73152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102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70102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7220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9436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1722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244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2880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82880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553080" y="2286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rot="5400000">
            <a:off x="2041200" y="2300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01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620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with Two-way Infinite T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09480" y="1143000"/>
            <a:ext cx="8077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Turing machine with tape infinite both to the right and to the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4419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with two-way infinite tape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3352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7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905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236232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6252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1972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2920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502920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20040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50532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50532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7242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47242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38098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42900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64832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34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3581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3412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7432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7180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67080" y="3276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a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9480" y="1143000"/>
            <a:ext cx="7848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representation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 string ov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0,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3520" y="2057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sume that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the for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so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3520" y="289548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the mapping from 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) to {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efined 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362320" y="3429000"/>
            <a:ext cx="5029200" cy="139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3520" y="472428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362320" y="5181480"/>
            <a:ext cx="502920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638680"/>
            <a:ext cx="571500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. T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9480" y="6172200"/>
            <a:ext cx="800100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description of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9480" y="1066680"/>
            <a:ext cx="82296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09480" y="2362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ip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828800" y="2895480"/>
            <a:ext cx="5562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4130640"/>
            <a:ext cx="716292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0100101000100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01000101001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01001010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versal TM can simulate every D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1646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9480" y="15699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62120" y="2484360"/>
            <a:ext cx="251460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76720" y="29415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0600" y="294156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62120" y="24084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al T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3780000"/>
            <a:ext cx="312444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05520" y="3780000"/>
            <a:ext cx="198108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 string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467480" y="3703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543800" y="3780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543800" y="4275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86600" y="3780000"/>
            <a:ext cx="457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47640" y="4419720"/>
            <a:ext cx="80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versal T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ds the description of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input string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n simulates the moves that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with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685800" y="160020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800" y="152388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unrestrict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UR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520" y="5105520"/>
            <a:ext cx="82296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finite relation from            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ization of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R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45840" y="3886200"/>
            <a:ext cx="21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267080" y="358128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242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1814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7242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814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8954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3526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09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3526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809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6386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095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5530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095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5530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2438280" y="4114440"/>
            <a:ext cx="5031000" cy="1371960"/>
            <a:chOff x="2438280" y="4114440"/>
            <a:chExt cx="5031000" cy="1371960"/>
          </a:xfrm>
        </p:grpSpPr>
        <p:sp>
          <p:nvSpPr>
            <p:cNvPr id="1367" name=""/>
            <p:cNvSpPr/>
            <p:nvPr/>
          </p:nvSpPr>
          <p:spPr>
            <a:xfrm flipV="1">
              <a:off x="3886200" y="4114080"/>
              <a:ext cx="2133720" cy="838440"/>
            </a:xfrm>
            <a:custGeom>
              <a:avLst/>
              <a:gdLst>
                <a:gd name="textAreaLeft" fmla="*/ 401040 w 2133720"/>
                <a:gd name="textAreaRight" fmla="*/ 1732680 w 2133720"/>
                <a:gd name="textAreaTop" fmla="*/ 157680 h 838440"/>
                <a:gd name="textAreaBottom" fmla="*/ 68076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438" y="21600"/>
                  </a:lnTo>
                  <a:lnTo>
                    <a:pt x="416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1460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819520" y="419112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124080" y="426744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72000" y="426744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571428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365724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436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400080" y="426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8580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09880" y="50292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67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724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67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724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382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5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2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95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52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0958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53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010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53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010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81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638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181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638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533520" y="5562720"/>
            <a:ext cx="7924680" cy="940680"/>
            <a:chOff x="533520" y="5562720"/>
            <a:chExt cx="7924680" cy="940680"/>
          </a:xfrm>
        </p:grpSpPr>
        <p:sp>
          <p:nvSpPr>
            <p:cNvPr id="1397" name=""/>
            <p:cNvSpPr/>
            <p:nvPr/>
          </p:nvSpPr>
          <p:spPr>
            <a:xfrm>
              <a:off x="533520" y="556272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by analogy with the corresponding definitions in terms of CFG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948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0948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6840" y="25909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9480" y="3048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118400" y="4876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09480" y="3581280"/>
            <a:ext cx="7848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685800" y="5410080"/>
            <a:ext cx="7848720" cy="618840"/>
            <a:chOff x="685800" y="5410080"/>
            <a:chExt cx="7848720" cy="618840"/>
          </a:xfrm>
        </p:grpSpPr>
        <p:sp>
          <p:nvSpPr>
            <p:cNvPr id="1408" name=""/>
            <p:cNvSpPr/>
            <p:nvPr/>
          </p:nvSpPr>
          <p:spPr>
            <a:xfrm>
              <a:off x="685800" y="5410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85800" y="5410080"/>
              <a:ext cx="7848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000" spc="-1" strike="noStrike" baseline="6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0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Recursively Enumerabl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85800" y="5241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umerable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93720" y="6171480"/>
            <a:ext cx="41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restricted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054040" y="6171480"/>
            <a:ext cx="31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uring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urcively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umerabl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Turing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ring machin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M) is a 6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 alphab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5562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e wri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85800" y="160020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Sensitive Gramm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523880"/>
            <a:ext cx="7788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nrestricted grammar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sensitiv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ength-increas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S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striction of 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9480" y="3581280"/>
            <a:ext cx="8077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*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defined by analogy with the definitions of the corresponding notions on URG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731840" y="46483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6248520" y="4648320"/>
            <a:ext cx="534960" cy="510120"/>
            <a:chOff x="6248520" y="4648320"/>
            <a:chExt cx="534960" cy="510120"/>
          </a:xfrm>
        </p:grpSpPr>
        <p:sp>
          <p:nvSpPr>
            <p:cNvPr id="1440" name=""/>
            <p:cNvSpPr/>
            <p:nvPr/>
          </p:nvSpPr>
          <p:spPr>
            <a:xfrm>
              <a:off x="62485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49960" y="464832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181480" y="4648320"/>
            <a:ext cx="1066680" cy="459720"/>
            <a:chOff x="5181480" y="4648320"/>
            <a:chExt cx="1066680" cy="459720"/>
          </a:xfrm>
        </p:grpSpPr>
        <p:sp>
          <p:nvSpPr>
            <p:cNvPr id="1443" name=""/>
            <p:cNvSpPr/>
            <p:nvPr/>
          </p:nvSpPr>
          <p:spPr>
            <a:xfrm>
              <a:off x="51814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814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2514600" y="4648320"/>
            <a:ext cx="534960" cy="510120"/>
            <a:chOff x="2514600" y="4648320"/>
            <a:chExt cx="534960" cy="510120"/>
          </a:xfrm>
        </p:grpSpPr>
        <p:sp>
          <p:nvSpPr>
            <p:cNvPr id="1446" name=""/>
            <p:cNvSpPr/>
            <p:nvPr/>
          </p:nvSpPr>
          <p:spPr>
            <a:xfrm>
              <a:off x="251460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1640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046320" y="4648320"/>
            <a:ext cx="534960" cy="510120"/>
            <a:chOff x="3046320" y="4648320"/>
            <a:chExt cx="534960" cy="510120"/>
          </a:xfrm>
        </p:grpSpPr>
        <p:sp>
          <p:nvSpPr>
            <p:cNvPr id="1449" name=""/>
            <p:cNvSpPr/>
            <p:nvPr/>
          </p:nvSpPr>
          <p:spPr>
            <a:xfrm>
              <a:off x="30463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04812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3581280" y="4648320"/>
            <a:ext cx="1066680" cy="459720"/>
            <a:chOff x="3581280" y="4648320"/>
            <a:chExt cx="1066680" cy="459720"/>
          </a:xfrm>
        </p:grpSpPr>
        <p:sp>
          <p:nvSpPr>
            <p:cNvPr id="1452" name=""/>
            <p:cNvSpPr/>
            <p:nvPr/>
          </p:nvSpPr>
          <p:spPr>
            <a:xfrm>
              <a:off x="35812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5812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4952880" y="4191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52680" y="2438280"/>
            <a:ext cx="184176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52680" y="236232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38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" y="1066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 Turing machine with a Tape Bounded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y the Length of the Input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3960" y="533412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038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6783480" y="4648320"/>
            <a:ext cx="534960" cy="459720"/>
            <a:chOff x="6783480" y="4648320"/>
            <a:chExt cx="534960" cy="459720"/>
          </a:xfrm>
        </p:grpSpPr>
        <p:sp>
          <p:nvSpPr>
            <p:cNvPr id="1462" name=""/>
            <p:cNvSpPr/>
            <p:nvPr/>
          </p:nvSpPr>
          <p:spPr>
            <a:xfrm>
              <a:off x="678348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784920" y="46483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4267080" y="3809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26708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95288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near Bounded Automaton: Defini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2057400"/>
            <a:ext cx="77724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inear bounded automato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LBA) is a TM that cannot extend its tape by any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ith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on its tape,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M’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tape is restricted to |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|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squares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31240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ccepted language: Illu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905120" y="4114800"/>
            <a:ext cx="18288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22093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2096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733920" y="41148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25146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25146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4382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8098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066680" y="38862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76520" y="388620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57400" y="38862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9720" y="38862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2388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78487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8487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3244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66294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6294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75438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5438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69343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69343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530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7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81480" y="38862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486400" y="39625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095880" y="3962520"/>
            <a:ext cx="129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391520" y="3962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6576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153280" y="41911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0773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281952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81952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31237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1240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34290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4290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905120" y="4495680"/>
            <a:ext cx="1828800" cy="1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324480" y="4572000"/>
            <a:ext cx="1828800" cy="14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971800" y="5029200"/>
            <a:ext cx="40384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am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2971440" y="45720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6629400" y="4648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text-sensitiv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85800" y="5257080"/>
            <a:ext cx="807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-sensitiv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66080" y="5790600"/>
            <a:ext cx="517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text-sensitive gramm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62480" y="6171480"/>
            <a:ext cx="48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ear bounded autom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-sensitive gramm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685800" y="24382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Right-Linear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85800" y="2362320"/>
            <a:ext cx="7788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right-linear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RL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00200" y="1066680"/>
            <a:ext cx="739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FG in which every rule has a string of terminals followed by no more that one nonterminal on the right-hand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809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09480" y="41911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09480" y="495288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18400" y="6019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9480" y="63086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09480" y="5334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9480" y="57150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85800" y="12193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5800" y="11430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09480" y="1981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7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3885480"/>
            <a:ext cx="807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rammars for regular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832040" y="4190400"/>
            <a:ext cx="50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ight-linear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" y="251460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5800" y="243828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09480" y="3276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8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6668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7692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m of r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819520" y="22096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restric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876920" y="19051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8195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76920" y="2895480"/>
            <a:ext cx="36576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8195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876920" y="38098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1952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ight-Lin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876920" y="47242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094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1981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621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621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8580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743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87692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858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458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53352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 rot="16200000">
            <a:off x="-1302480" y="381708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861048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 rot="5400000">
            <a:off x="7290360" y="335952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utomata: 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62520" y="1523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cepting De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5720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91120" y="3124080"/>
            <a:ext cx="297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572000" y="40384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572000" y="49528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nite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905120" y="1523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0574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57400" y="3124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057400" y="42670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81080" y="51814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0384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31520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81080" y="1523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81080" y="21337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981080" y="30481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1980720" y="40384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80720" y="4952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81080" y="58672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182880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16200000">
            <a:off x="-7200" y="396936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48332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 rot="5400000">
            <a:off x="6163200" y="351180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homsky Hierarch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219320" y="12193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447920" y="14479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76520" y="16002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05120" y="1828800"/>
            <a:ext cx="1828800" cy="1143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920" y="3276720"/>
            <a:ext cx="327636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gular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1600200" y="27432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2096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19112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410080" y="2590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010280" y="2438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010280" y="1219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391520" y="129528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295280" y="449568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free languages 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876920" y="4495680"/>
            <a:ext cx="327636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sensitiv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10080" y="320040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cursive enumerabl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3962160" y="31240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724280" y="3276720"/>
            <a:ext cx="38124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7480" y="28195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80880" y="586728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04920" y="6019920"/>
            <a:ext cx="8534160" cy="7034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629400" y="1905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53080" y="2666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685800" y="22096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68360" y="1125360"/>
            <a:ext cx="8496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7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is the language over {0, 1}</a:t>
            </a:r>
            <a:r>
              <a:rPr b="1" lang="en-US" sz="27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, which contains a string </a:t>
            </a:r>
            <a:r>
              <a:rPr b="1" lang="cs-CZ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, if and only DTM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85800" y="22096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DTM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09480" y="3124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971800" y="3262320"/>
            <a:ext cx="13716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971800" y="3276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648320" y="33526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659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533520" y="5334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4114800" y="4495680"/>
            <a:ext cx="4724280" cy="1175760"/>
            <a:chOff x="4114800" y="4495680"/>
            <a:chExt cx="4724280" cy="1175760"/>
          </a:xfrm>
        </p:grpSpPr>
        <p:sp>
          <p:nvSpPr>
            <p:cNvPr id="1663" name=""/>
            <p:cNvSpPr/>
            <p:nvPr/>
          </p:nvSpPr>
          <p:spPr>
            <a:xfrm>
              <a:off x="80773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14800" y="4495680"/>
              <a:ext cx="13716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86400" y="45720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172200" y="4572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001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150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386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8580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93432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3432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14800" y="4495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99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436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32448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4852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629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53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152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54380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5438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72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696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30592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38188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38188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 rot="5400000">
              <a:off x="6819840" y="3999240"/>
              <a:ext cx="152280" cy="2362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553080" y="518148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914400" y="5867280"/>
            <a:ext cx="7391520" cy="1055160"/>
            <a:chOff x="914400" y="5867280"/>
            <a:chExt cx="7391520" cy="1055160"/>
          </a:xfrm>
        </p:grpSpPr>
        <p:sp>
          <p:nvSpPr>
            <p:cNvPr id="1691" name=""/>
            <p:cNvSpPr/>
            <p:nvPr/>
          </p:nvSpPr>
          <p:spPr>
            <a:xfrm>
              <a:off x="91440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7692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1904760" y="586728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2004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724280" y="586728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0292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3809880" y="403848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of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971800"/>
            <a:ext cx="83059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h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800600"/>
            <a:ext cx="8153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1337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419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3526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382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1911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191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1911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0773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4419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7724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580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41911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337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6248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526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6019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0773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62485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7724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60199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6019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14300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keep the he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6576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5909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3526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4382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2362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73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0773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5530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25909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7724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80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23623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85800" y="1219320"/>
            <a:ext cx="815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 some 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1905120"/>
            <a:ext cx="784872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idea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truct a D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n input str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ulate an activity of a universal 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us theorem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9480" y="3886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7913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4495680"/>
            <a:ext cx="1295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20040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15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4290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5720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64832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64832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828800" y="4495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7339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6576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9625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343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267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029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25780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25780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86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410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0199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588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81532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200400" y="563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5638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0773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4290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3526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5720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6483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6483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7339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6576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384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962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343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0292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2578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2578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86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410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3818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4582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4582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7913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7150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9343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01028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01028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0958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0199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4008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324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629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3915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6201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6201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848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772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05120" y="5562720"/>
            <a:ext cx="129528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0512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rot="5400000">
            <a:off x="4533840" y="4991040"/>
            <a:ext cx="152640" cy="236232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rot="5400000">
            <a:off x="6895440" y="4991040"/>
            <a:ext cx="152640" cy="236196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191120" y="617220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477120" y="6172200"/>
            <a:ext cx="16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648320" y="5181480"/>
            <a:ext cx="7617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209680" y="48769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76520" y="44956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09480" y="5105520"/>
            <a:ext cx="9907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0948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9480" y="12193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19810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0, 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48320" y="12952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971800" y="3110040"/>
            <a:ext cx="13716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971800" y="3124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648320" y="320040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352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4114800" y="4343400"/>
            <a:ext cx="4724280" cy="1175400"/>
            <a:chOff x="4114800" y="4343400"/>
            <a:chExt cx="4724280" cy="1175400"/>
          </a:xfrm>
        </p:grpSpPr>
        <p:sp>
          <p:nvSpPr>
            <p:cNvPr id="1794" name=""/>
            <p:cNvSpPr/>
            <p:nvPr/>
          </p:nvSpPr>
          <p:spPr>
            <a:xfrm>
              <a:off x="80773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114800" y="4343400"/>
              <a:ext cx="13716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486400" y="4419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172200" y="441936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0010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150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386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580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3432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93432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14800" y="4343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0199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436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32448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24852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629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553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3152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54380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54380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772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96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305920" y="45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8188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38188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 rot="5400000">
              <a:off x="6820200" y="3847680"/>
              <a:ext cx="151920" cy="236232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553080" y="502884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914400" y="5715000"/>
            <a:ext cx="7391520" cy="986040"/>
            <a:chOff x="914400" y="5715000"/>
            <a:chExt cx="7391520" cy="986040"/>
          </a:xfrm>
        </p:grpSpPr>
        <p:sp>
          <p:nvSpPr>
            <p:cNvPr id="1822" name=""/>
            <p:cNvSpPr/>
            <p:nvPr/>
          </p:nvSpPr>
          <p:spPr>
            <a:xfrm>
              <a:off x="91440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onS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7692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NonS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904760" y="571500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2004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24280" y="571500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0292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3809880" y="388620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830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85800" y="121932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09480" y="182880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contradic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2286000"/>
            <a:ext cx="8001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a 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is infinite tab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90720" y="3657600"/>
            <a:ext cx="76176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07064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990720" y="373392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rot="16200000">
            <a:off x="-73440" y="4111920"/>
            <a:ext cx="1752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 T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66680" y="3200400"/>
            <a:ext cx="746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82880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63868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914400" y="36576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828800" y="3657600"/>
            <a:ext cx="3733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100110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10101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01010001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638680" y="3657600"/>
            <a:ext cx="12193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2803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7949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85800" y="5029200"/>
            <a:ext cx="79246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33520" y="1143000"/>
            <a:ext cx="8153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1, 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33520" y="20574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33520" y="41148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33520" y="61722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3429000" y="2743200"/>
            <a:ext cx="3048120" cy="1404360"/>
            <a:chOff x="3429000" y="2743200"/>
            <a:chExt cx="3048120" cy="1404360"/>
          </a:xfrm>
        </p:grpSpPr>
        <p:sp>
          <p:nvSpPr>
            <p:cNvPr id="1859" name=""/>
            <p:cNvSpPr/>
            <p:nvPr/>
          </p:nvSpPr>
          <p:spPr>
            <a:xfrm>
              <a:off x="3809880" y="36576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3581280" y="35053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429000" y="27432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3429000" y="4800600"/>
            <a:ext cx="3048120" cy="1404360"/>
            <a:chOff x="3429000" y="4800600"/>
            <a:chExt cx="3048120" cy="1404360"/>
          </a:xfrm>
        </p:grpSpPr>
        <p:sp>
          <p:nvSpPr>
            <p:cNvPr id="1863" name=""/>
            <p:cNvSpPr/>
            <p:nvPr/>
          </p:nvSpPr>
          <p:spPr>
            <a:xfrm>
              <a:off x="3809880" y="57150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3581280" y="55627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3429000" y="48006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20560" y="1104840"/>
            <a:ext cx="80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Gist: Recursive Language accepts TM that always ha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09480" y="2362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62120" y="1600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TM that always halts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73200" y="332748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3200" y="33274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 languages is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8580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09480" y="4419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9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510552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5800" y="51055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ly enumerable languages is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22440" y="6197760"/>
            <a:ext cx="78357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ther Hierarchy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219320" y="32767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447920" y="35053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76520" y="36576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04920" y="1219320"/>
            <a:ext cx="304776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ursiv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 that always hal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 flipV="1">
            <a:off x="1676520" y="259092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038480" y="1219320"/>
            <a:ext cx="289584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. enumerbale language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20120" y="1219320"/>
            <a:ext cx="1066680" cy="1440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ll La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4800600" y="259056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7086600" y="259056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24080" y="5867280"/>
            <a:ext cx="266724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943600" y="5867280"/>
            <a:ext cx="266688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 flipV="1">
            <a:off x="7009920" y="4572000"/>
            <a:ext cx="3812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5181480" y="4572000"/>
            <a:ext cx="457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97180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55308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438280" y="4419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89548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124080" y="4572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88620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962520" y="4648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362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5760" y="3886200"/>
            <a:ext cx="39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809880"/>
            <a:ext cx="7772400" cy="259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6120" y="4724280"/>
            <a:ext cx="39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05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64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6120" y="563868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6019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219320"/>
            <a:ext cx="3429000" cy="548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286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1600200"/>
            <a:ext cx="1752480" cy="914400"/>
            <a:chOff x="3429000" y="1600200"/>
            <a:chExt cx="1752480" cy="914400"/>
          </a:xfrm>
        </p:grpSpPr>
        <p:sp>
          <p:nvSpPr>
            <p:cNvPr id="243" name=""/>
            <p:cNvSpPr/>
            <p:nvPr/>
          </p:nvSpPr>
          <p:spPr>
            <a:xfrm>
              <a:off x="4724280" y="25146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9000" y="1600200"/>
              <a:ext cx="11430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62120" y="2666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2120" y="1905120"/>
            <a:ext cx="7315200" cy="3504960"/>
            <a:chOff x="762120" y="1905120"/>
            <a:chExt cx="7315200" cy="3504960"/>
          </a:xfrm>
        </p:grpSpPr>
        <p:sp>
          <p:nvSpPr>
            <p:cNvPr id="247" name=""/>
            <p:cNvSpPr/>
            <p:nvPr/>
          </p:nvSpPr>
          <p:spPr>
            <a:xfrm>
              <a:off x="518148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9152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62120" y="2209680"/>
            <a:ext cx="7238880" cy="4483080"/>
            <a:chOff x="762120" y="2209680"/>
            <a:chExt cx="7238880" cy="4483080"/>
          </a:xfrm>
        </p:grpSpPr>
        <p:sp>
          <p:nvSpPr>
            <p:cNvPr id="253" name=""/>
            <p:cNvSpPr/>
            <p:nvPr/>
          </p:nvSpPr>
          <p:spPr>
            <a:xfrm>
              <a:off x="762120" y="61722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67480" y="220968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66680" y="4343400"/>
            <a:ext cx="6019920" cy="1066320"/>
            <a:chOff x="1066680" y="4343400"/>
            <a:chExt cx="6019920" cy="1066320"/>
          </a:xfrm>
        </p:grpSpPr>
        <p:grpSp>
          <p:nvGrpSpPr>
            <p:cNvPr id="256" name=""/>
            <p:cNvGrpSpPr/>
            <p:nvPr/>
          </p:nvGrpSpPr>
          <p:grpSpPr>
            <a:xfrm>
              <a:off x="5761080" y="4343400"/>
              <a:ext cx="1325520" cy="1066320"/>
              <a:chOff x="5761080" y="4343400"/>
              <a:chExt cx="1325520" cy="1066320"/>
            </a:xfrm>
          </p:grpSpPr>
          <p:sp>
            <p:nvSpPr>
              <p:cNvPr id="257" name=""/>
              <p:cNvSpPr/>
              <p:nvPr/>
            </p:nvSpPr>
            <p:spPr>
              <a:xfrm rot="5400000">
                <a:off x="566208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1992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066680" y="4572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43000" y="2787840"/>
            <a:ext cx="4647240" cy="1936800"/>
            <a:chOff x="1143000" y="2787840"/>
            <a:chExt cx="4647240" cy="1936800"/>
          </a:xfrm>
        </p:grpSpPr>
        <p:sp>
          <p:nvSpPr>
            <p:cNvPr id="261" name=""/>
            <p:cNvSpPr/>
            <p:nvPr/>
          </p:nvSpPr>
          <p:spPr>
            <a:xfrm>
              <a:off x="1143000" y="3429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5716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191120" y="2787840"/>
              <a:ext cx="1599120" cy="1936800"/>
              <a:chOff x="4191120" y="2787840"/>
              <a:chExt cx="1599120" cy="1936800"/>
            </a:xfrm>
          </p:grpSpPr>
          <p:sp>
            <p:nvSpPr>
              <p:cNvPr id="263" name=""/>
              <p:cNvSpPr/>
              <p:nvPr/>
            </p:nvSpPr>
            <p:spPr>
              <a:xfrm flipH="1" rot="16200000">
                <a:off x="4516560" y="3451320"/>
                <a:ext cx="19368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066680" y="2787840"/>
            <a:ext cx="5715000" cy="1936800"/>
            <a:chOff x="1066680" y="2787840"/>
            <a:chExt cx="5715000" cy="1936800"/>
          </a:xfrm>
        </p:grpSpPr>
        <p:sp>
          <p:nvSpPr>
            <p:cNvPr id="266" name=""/>
            <p:cNvSpPr/>
            <p:nvPr/>
          </p:nvSpPr>
          <p:spPr>
            <a:xfrm>
              <a:off x="1066680" y="380988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334120" y="2787840"/>
              <a:ext cx="1447560" cy="1936800"/>
              <a:chOff x="5334120" y="2787840"/>
              <a:chExt cx="1447560" cy="1936800"/>
            </a:xfrm>
          </p:grpSpPr>
          <p:sp>
            <p:nvSpPr>
              <p:cNvPr id="268" name=""/>
              <p:cNvSpPr/>
              <p:nvPr/>
            </p:nvSpPr>
            <p:spPr>
              <a:xfrm rot="5400000">
                <a:off x="4593960" y="352764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500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990720" y="2818800"/>
            <a:ext cx="8001000" cy="3035880"/>
            <a:chOff x="990720" y="2818800"/>
            <a:chExt cx="8001000" cy="3035880"/>
          </a:xfrm>
        </p:grpSpPr>
        <p:sp>
          <p:nvSpPr>
            <p:cNvPr id="271" name=""/>
            <p:cNvSpPr/>
            <p:nvPr/>
          </p:nvSpPr>
          <p:spPr>
            <a:xfrm>
              <a:off x="9907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543440" y="2818800"/>
              <a:ext cx="1448280" cy="1936800"/>
              <a:chOff x="7543440" y="2818800"/>
              <a:chExt cx="1448280" cy="193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7924680" y="350532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6200000">
                <a:off x="680328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990720" y="2818800"/>
            <a:ext cx="6933240" cy="3416760"/>
            <a:chOff x="990720" y="2818800"/>
            <a:chExt cx="6933240" cy="3416760"/>
          </a:xfrm>
        </p:grpSpPr>
        <p:sp>
          <p:nvSpPr>
            <p:cNvPr id="276" name=""/>
            <p:cNvSpPr/>
            <p:nvPr/>
          </p:nvSpPr>
          <p:spPr>
            <a:xfrm>
              <a:off x="990720" y="57150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477120" y="2818800"/>
              <a:ext cx="1446840" cy="1936800"/>
              <a:chOff x="6477120" y="2818800"/>
              <a:chExt cx="1446840" cy="1936800"/>
            </a:xfrm>
          </p:grpSpPr>
          <p:sp>
            <p:nvSpPr>
              <p:cNvPr id="278" name=""/>
              <p:cNvSpPr/>
              <p:nvPr/>
            </p:nvSpPr>
            <p:spPr>
              <a:xfrm flipH="1" flipV="1" rot="5400000">
                <a:off x="672660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77120" y="35053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990720" y="4952880"/>
            <a:ext cx="6705360" cy="609480"/>
            <a:chOff x="990720" y="4952880"/>
            <a:chExt cx="6705360" cy="609480"/>
          </a:xfrm>
        </p:grpSpPr>
        <p:sp>
          <p:nvSpPr>
            <p:cNvPr id="281" name=""/>
            <p:cNvSpPr/>
            <p:nvPr/>
          </p:nvSpPr>
          <p:spPr>
            <a:xfrm>
              <a:off x="990720" y="49528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529600" y="5029200"/>
              <a:ext cx="2166480" cy="533160"/>
              <a:chOff x="5529600" y="5029200"/>
              <a:chExt cx="2166480" cy="533160"/>
            </a:xfrm>
          </p:grpSpPr>
          <p:sp>
            <p:nvSpPr>
              <p:cNvPr id="283" name=""/>
              <p:cNvSpPr/>
              <p:nvPr/>
            </p:nvSpPr>
            <p:spPr>
              <a:xfrm flipH="1" rot="10800000">
                <a:off x="5529240" y="5105520"/>
                <a:ext cx="20142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24480" y="50292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L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1066680" y="4191120"/>
            <a:ext cx="4221360" cy="1218600"/>
            <a:chOff x="1066680" y="4191120"/>
            <a:chExt cx="4221360" cy="1218600"/>
          </a:xfrm>
        </p:grpSpPr>
        <p:sp>
          <p:nvSpPr>
            <p:cNvPr id="286" name=""/>
            <p:cNvSpPr/>
            <p:nvPr/>
          </p:nvSpPr>
          <p:spPr>
            <a:xfrm>
              <a:off x="1066680" y="41911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114800" y="4343400"/>
              <a:ext cx="1173240" cy="1066320"/>
              <a:chOff x="4114800" y="4343400"/>
              <a:chExt cx="1173240" cy="1066320"/>
            </a:xfrm>
          </p:grpSpPr>
          <p:sp>
            <p:nvSpPr>
              <p:cNvPr id="288" name=""/>
              <p:cNvSpPr/>
              <p:nvPr/>
            </p:nvSpPr>
            <p:spPr>
              <a:xfrm flipH="1" rot="16200000">
                <a:off x="470160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1480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762120" y="1828800"/>
            <a:ext cx="6629400" cy="1739880"/>
            <a:chOff x="762120" y="1828800"/>
            <a:chExt cx="6629400" cy="1739880"/>
          </a:xfrm>
        </p:grpSpPr>
        <p:sp>
          <p:nvSpPr>
            <p:cNvPr id="291" name=""/>
            <p:cNvSpPr/>
            <p:nvPr/>
          </p:nvSpPr>
          <p:spPr>
            <a:xfrm>
              <a:off x="762120" y="304812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841720" y="1828800"/>
              <a:ext cx="1549800" cy="761040"/>
              <a:chOff x="5841720" y="1828800"/>
              <a:chExt cx="1549800" cy="761040"/>
            </a:xfrm>
          </p:grpSpPr>
          <p:sp>
            <p:nvSpPr>
              <p:cNvPr id="293" name=""/>
              <p:cNvSpPr/>
              <p:nvPr/>
            </p:nvSpPr>
            <p:spPr>
              <a:xfrm>
                <a:off x="6019920" y="18288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 rot="10800000">
                <a:off x="5841360" y="2285280"/>
                <a:ext cx="15498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23623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24382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132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26668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1143000"/>
            <a:ext cx="4419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letes a symbol before the first occurrence of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25146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85184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2209680"/>
            <a:ext cx="53352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3581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783720" y="352764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89172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rot="16200000">
            <a:off x="706680" y="3451320"/>
            <a:ext cx="1936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3048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 rot="16200000">
            <a:off x="268848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 rot="5400000">
            <a:off x="261180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rot="10800000">
            <a:off x="1724040" y="5105520"/>
            <a:ext cx="17046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581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3372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 rot="10800000">
            <a:off x="2036520" y="2285280"/>
            <a:ext cx="1239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1828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371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5200" y="2971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876920" y="2971800"/>
            <a:ext cx="2971800" cy="993240"/>
            <a:chOff x="4876920" y="2971800"/>
            <a:chExt cx="2971800" cy="993240"/>
          </a:xfrm>
        </p:grpSpPr>
        <p:sp>
          <p:nvSpPr>
            <p:cNvPr id="338" name=""/>
            <p:cNvSpPr/>
            <p:nvPr/>
          </p:nvSpPr>
          <p:spPr>
            <a:xfrm>
              <a:off x="731520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58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99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76920" y="32767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33526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132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30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244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35812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3581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5200" y="38862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343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29718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876920" y="3886200"/>
            <a:ext cx="2971800" cy="993240"/>
            <a:chOff x="4876920" y="3886200"/>
            <a:chExt cx="2971800" cy="993240"/>
          </a:xfrm>
        </p:grpSpPr>
        <p:sp>
          <p:nvSpPr>
            <p:cNvPr id="355" name=""/>
            <p:cNvSpPr/>
            <p:nvPr/>
          </p:nvSpPr>
          <p:spPr>
            <a:xfrm>
              <a:off x="60958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199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6920" y="41911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814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91320" y="4267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0" y="4267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080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448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5720" y="44956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940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200" y="4495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152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4419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43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81480" y="38862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876920" y="4800600"/>
            <a:ext cx="2971800" cy="993240"/>
            <a:chOff x="4876920" y="4800600"/>
            <a:chExt cx="2971800" cy="993240"/>
          </a:xfrm>
        </p:grpSpPr>
        <p:sp>
          <p:nvSpPr>
            <p:cNvPr id="372" name=""/>
            <p:cNvSpPr/>
            <p:nvPr/>
          </p:nvSpPr>
          <p:spPr>
            <a:xfrm>
              <a:off x="60958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199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51055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1480" y="51814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1814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53080" y="5181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0080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2448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54100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102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5200" y="5410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715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15200" y="5334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148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876920" y="5715000"/>
            <a:ext cx="2971800" cy="993240"/>
            <a:chOff x="4876920" y="5715000"/>
            <a:chExt cx="2971800" cy="993240"/>
          </a:xfrm>
        </p:grpSpPr>
        <p:sp>
          <p:nvSpPr>
            <p:cNvPr id="389" name=""/>
            <p:cNvSpPr/>
            <p:nvPr/>
          </p:nvSpPr>
          <p:spPr>
            <a:xfrm>
              <a:off x="60958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199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60199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60958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1320" y="6095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3080" y="6095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0080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2448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05720" y="63244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940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102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15200" y="6324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15200" y="6629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15200" y="6248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343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57150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4479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523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does a configuration describ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rent stat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nts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502920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95288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p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1409760" y="3009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8480 h 1676520"/>
              <a:gd name="textAreaBottom" fmla="*/ 159804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33640" y="3161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4080 h 1371600"/>
              <a:gd name="textAreaBottom" fmla="*/ 1307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362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25146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3352680"/>
            <a:ext cx="5335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868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38680" y="31240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7240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6210360" y="26287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4120 h 2438280"/>
              <a:gd name="textAreaBottom" fmla="*/ 23241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7619760" y="3657240"/>
            <a:ext cx="228600" cy="380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380880"/>
              <a:gd name="textAreaBottom" fmla="*/ 363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2514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400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059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00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81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62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24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24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3352680"/>
            <a:ext cx="45720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276720"/>
            <a:ext cx="6858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19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5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438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4267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3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33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onary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1219320"/>
            <a:ext cx="7772400" cy="23619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048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3392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0968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20968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80060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290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290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5146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4495680"/>
            <a:ext cx="76176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45720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4572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480060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9625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9625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0020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9051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9051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5562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65760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65760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09320" y="556272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209680" y="579096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5627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0920" y="5105520"/>
            <a:ext cx="228600" cy="5331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818800" y="5181480"/>
            <a:ext cx="152280" cy="4572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2857320" y="4609800"/>
            <a:ext cx="152280" cy="281952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419720" y="4572000"/>
            <a:ext cx="4419360" cy="1983600"/>
            <a:chOff x="4419720" y="4572000"/>
            <a:chExt cx="4419360" cy="1983600"/>
          </a:xfrm>
        </p:grpSpPr>
        <p:sp>
          <p:nvSpPr>
            <p:cNvPr id="523" name=""/>
            <p:cNvSpPr/>
            <p:nvPr/>
          </p:nvSpPr>
          <p:spPr>
            <a:xfrm>
              <a:off x="4419720" y="4724280"/>
              <a:ext cx="68580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012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2960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22960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0080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72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70572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5200" y="4876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246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9246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102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0102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3888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29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87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57800" y="45720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9920" y="4648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67480" y="4648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15200" y="48769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4872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84582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4582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9588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4008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4008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3800" y="56386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152920" y="5638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8153280" y="58672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70572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70572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67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4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7732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5638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600" y="5181480"/>
              <a:ext cx="228600" cy="53352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314480" y="5257800"/>
              <a:ext cx="152280" cy="4572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7353000" y="4686480"/>
              <a:ext cx="152280" cy="2819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160"/>
                <a:gd name="textAreaBottom" fmla="*/ 2745720 h 28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9920" y="60958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23:41Z</dcterms:modified>
  <cp:revision>245</cp:revision>
  <dc:subject/>
  <dc:title>Beyond the Context-Free Languages</dc:title>
</cp:coreProperties>
</file>