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F4E0-6B44-4F22-8503-5751C41B8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FD27-B2E8-4895-8BE7-2977B686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284C-D68F-4553-A852-D26534EC2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0CCE-B17E-4288-92A4-47BB485FC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FB26-4DC2-472A-BD73-A69F061F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CD4F-A133-4A45-8802-3F3EAE6D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AFED-AC3F-4884-A005-E5B1F969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6515-B9E0-4CD4-A7AD-77281749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FF24-4616-4017-8C71-3BECD210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BEB0-B221-4A11-A07F-1668DF82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4948-8FE7-4FC2-9758-4AA97415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C677-62C2-4B23-971E-8B6F209B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CD31-42A1-45AF-8263-C61B7CC8C48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3822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XIII.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Beyond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the 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Context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Free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ight 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85800" y="1219320"/>
            <a:ext cx="7772400" cy="2209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85800" y="1219320"/>
            <a:ext cx="7772400" cy="16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be two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if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895480" y="3352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276720" y="42670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88620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3886200" y="44956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523880" y="42670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182880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1828800" y="44956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971800" y="42670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3580920" y="42670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3581280" y="44956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213372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133720" y="44956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89548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75248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50532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514600" y="42670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514600" y="4038480"/>
            <a:ext cx="228600" cy="26676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2742480" y="4114800"/>
            <a:ext cx="152280" cy="22860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rot="5400000">
            <a:off x="2781000" y="3314880"/>
            <a:ext cx="152280" cy="2819160"/>
          </a:xfrm>
          <a:custGeom>
            <a:avLst/>
            <a:gdLst>
              <a:gd name="textAreaLeft" fmla="*/ 0 w 152280"/>
              <a:gd name="textAreaRight" fmla="*/ 55080 w 15228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752480" y="46483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0880" y="2666880"/>
            <a:ext cx="79250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048120" y="38098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65760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3657600" y="4038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828800" y="38098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13372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133720" y="4038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743200" y="38098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35268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3352680" y="4038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43828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2438280" y="4038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66688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05740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7672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5800" y="3505320"/>
            <a:ext cx="76212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914400" y="35812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447920" y="35812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895480" y="3581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743200" y="3809880"/>
            <a:ext cx="0" cy="304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4343400" y="3505320"/>
            <a:ext cx="4419720" cy="1602720"/>
            <a:chOff x="4343400" y="3505320"/>
            <a:chExt cx="4419720" cy="1602720"/>
          </a:xfrm>
        </p:grpSpPr>
        <p:sp>
          <p:nvSpPr>
            <p:cNvPr id="607" name=""/>
            <p:cNvSpPr/>
            <p:nvPr/>
          </p:nvSpPr>
          <p:spPr>
            <a:xfrm>
              <a:off x="4343400" y="3886200"/>
              <a:ext cx="533520" cy="762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696080" y="42670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830592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8305920" y="4495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943600" y="42670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624852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6248520" y="4495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858000" y="4267080"/>
              <a:ext cx="30492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800100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8001000" y="4495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552720" y="4267080"/>
              <a:ext cx="180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6553080" y="4495680"/>
              <a:ext cx="180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781680" y="4191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172200" y="4191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924680" y="4191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238880" y="42670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238880" y="403848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467480" y="4114800"/>
              <a:ext cx="15264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5400000">
              <a:off x="7200720" y="3314520"/>
              <a:ext cx="152280" cy="28195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3440 h 2819520"/>
                <a:gd name="textAreaBottom" fmla="*/ 2746080 h 281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43600" y="464832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467480" y="38098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07732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8077320" y="40384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248520" y="38098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55308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6553080" y="40384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162920" y="3809880"/>
              <a:ext cx="30456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77240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7772400" y="40384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85800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6858000" y="40384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08660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47712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69608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105520" y="3505320"/>
              <a:ext cx="76176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334120" y="3581280"/>
              <a:ext cx="38088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867280" y="3581280"/>
              <a:ext cx="175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0120" y="35812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467480" y="3809880"/>
              <a:ext cx="0" cy="304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289548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380880" y="4267080"/>
            <a:ext cx="3810240" cy="2593440"/>
            <a:chOff x="380880" y="4267080"/>
            <a:chExt cx="3810240" cy="2593440"/>
          </a:xfrm>
        </p:grpSpPr>
        <p:sp>
          <p:nvSpPr>
            <p:cNvPr id="648" name=""/>
            <p:cNvSpPr/>
            <p:nvPr/>
          </p:nvSpPr>
          <p:spPr>
            <a:xfrm>
              <a:off x="1523880" y="60199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1828800" y="60199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1828800" y="62481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971800" y="60199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2133720" y="60199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2133720" y="62481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8954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7524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514600" y="60199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514600" y="579132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2742480" y="5867280"/>
              <a:ext cx="15228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rot="5400000">
              <a:off x="2286000" y="5562360"/>
              <a:ext cx="152280" cy="18288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295280" y="64008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828800" y="55627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133720" y="55627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2133720" y="57909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743200" y="55627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438280" y="55627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2438280" y="57909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66688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05740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85800" y="5257800"/>
              <a:ext cx="76212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914400" y="53341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447920" y="533412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89548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743200" y="55627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80880" y="4267080"/>
              <a:ext cx="76212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048120" y="556272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97180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352680" y="55627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65760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657600" y="58672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657600" y="5486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2767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4343400" y="5257800"/>
            <a:ext cx="4267080" cy="1602720"/>
            <a:chOff x="4343400" y="5257800"/>
            <a:chExt cx="4267080" cy="1602720"/>
          </a:xfrm>
        </p:grpSpPr>
        <p:sp>
          <p:nvSpPr>
            <p:cNvPr id="683" name=""/>
            <p:cNvSpPr/>
            <p:nvPr/>
          </p:nvSpPr>
          <p:spPr>
            <a:xfrm>
              <a:off x="7467480" y="55627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772400" y="55627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07732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077320" y="58672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343400" y="5638680"/>
              <a:ext cx="533520" cy="8384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43600" y="60199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6248520" y="60199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6248520" y="62481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858000" y="60199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6552720" y="6019920"/>
              <a:ext cx="18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6553080" y="6248160"/>
              <a:ext cx="18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7816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17220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238880" y="6019920"/>
              <a:ext cx="38124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238880" y="579132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7467480" y="5867280"/>
              <a:ext cx="15264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5400000">
              <a:off x="6895800" y="5371920"/>
              <a:ext cx="152280" cy="22100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0 h 2210040"/>
                <a:gd name="textAreaBottom" fmla="*/ 21524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638680" y="640080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248520" y="55627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553080" y="55627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6553080" y="57909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162920" y="5562720"/>
              <a:ext cx="30456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858000" y="55627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6858000" y="57909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08660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4771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105520" y="5257800"/>
              <a:ext cx="76176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334120" y="53341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867280" y="5334120"/>
              <a:ext cx="175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62012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3915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69608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467480" y="55627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077320" y="5486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696080" y="60199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62012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ft 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" y="1219320"/>
            <a:ext cx="8077320" cy="12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be two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ef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imply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if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895480" y="3124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276720" y="40384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3886200" y="40384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388620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219320" y="40384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1523520" y="40384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1523880" y="42670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971800" y="4038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3580920" y="40384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3581280" y="42670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1828800" y="40384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182880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89548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4479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5053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514600" y="40384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14600" y="3809880"/>
            <a:ext cx="228600" cy="26676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2742480" y="3886200"/>
            <a:ext cx="152280" cy="22860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rot="5400000">
            <a:off x="2628720" y="2933640"/>
            <a:ext cx="228600" cy="3047760"/>
          </a:xfrm>
          <a:custGeom>
            <a:avLst/>
            <a:gdLst>
              <a:gd name="textAreaLeft" fmla="*/ 0 w 228600"/>
              <a:gd name="textAreaRight" fmla="*/ 82440 w 228600"/>
              <a:gd name="textAreaTop" fmla="*/ 79200 h 3047760"/>
              <a:gd name="textAreaBottom" fmla="*/ 2968560 h 304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752480" y="4419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048120" y="35812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6576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365760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523880" y="35812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8288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182880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74320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3526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335268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1337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213372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6668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7524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27672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3276720"/>
            <a:ext cx="76212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914400" y="33526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447920" y="33526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895480" y="3352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895480" y="48769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04920" y="236232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xc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xc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438280" y="35812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36232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743200" y="3581280"/>
            <a:ext cx="0" cy="304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133720" y="403848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05740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4343400" y="3276720"/>
            <a:ext cx="4267080" cy="1678680"/>
            <a:chOff x="4343400" y="3276720"/>
            <a:chExt cx="4267080" cy="1678680"/>
          </a:xfrm>
        </p:grpSpPr>
        <p:sp>
          <p:nvSpPr>
            <p:cNvPr id="769" name=""/>
            <p:cNvSpPr/>
            <p:nvPr/>
          </p:nvSpPr>
          <p:spPr>
            <a:xfrm>
              <a:off x="4343400" y="3657600"/>
              <a:ext cx="533520" cy="762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5400000">
              <a:off x="7048080" y="3009960"/>
              <a:ext cx="152280" cy="29718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715000" y="449568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05520" y="3276720"/>
              <a:ext cx="76176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334120" y="3352680"/>
              <a:ext cx="38088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867280" y="335268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010280" y="3352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696080" y="40384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8305920" y="40384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830592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638680" y="40384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5943600" y="40384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594360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391520" y="4038480"/>
              <a:ext cx="30456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8001000" y="40384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800100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6248520" y="40384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624852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31520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86728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92468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629400" y="4038480"/>
              <a:ext cx="38088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629400" y="380988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6857280" y="3886200"/>
              <a:ext cx="15228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467480" y="35812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077320" y="35812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807732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943600" y="35812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248520" y="35812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624852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162920" y="3581280"/>
              <a:ext cx="30456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772400" y="35812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777240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553080" y="35812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655308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08660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17220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6960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858000" y="35812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7816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858000" y="3581280"/>
              <a:ext cx="0" cy="304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86600" y="40384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01028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304920" y="4191120"/>
            <a:ext cx="3886200" cy="2517120"/>
            <a:chOff x="304920" y="4191120"/>
            <a:chExt cx="3886200" cy="2517120"/>
          </a:xfrm>
        </p:grpSpPr>
        <p:sp>
          <p:nvSpPr>
            <p:cNvPr id="813" name=""/>
            <p:cNvSpPr/>
            <p:nvPr/>
          </p:nvSpPr>
          <p:spPr>
            <a:xfrm>
              <a:off x="3657600" y="5257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85800" y="5029200"/>
              <a:ext cx="76212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914400" y="51055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447920" y="510552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895480" y="51055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04920" y="4191120"/>
              <a:ext cx="76176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219320" y="57913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1523520" y="5791320"/>
              <a:ext cx="18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1523880" y="6019560"/>
              <a:ext cx="18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971800" y="57913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1828800" y="57913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1828800" y="60195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89548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44792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514600" y="57913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514600" y="556272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2742480" y="5638680"/>
              <a:ext cx="15228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rot="5400000">
              <a:off x="2171520" y="5219640"/>
              <a:ext cx="152280" cy="2057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371600" y="62485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523880" y="53341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828800" y="53341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1828800" y="55623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743200" y="53341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133720" y="53341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2133720" y="55623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66688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75248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43828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36232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53341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133720" y="579132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05740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048120" y="533412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35268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65760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65760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97180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27672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4343400" y="5029200"/>
            <a:ext cx="4267080" cy="1679040"/>
            <a:chOff x="4343400" y="5029200"/>
            <a:chExt cx="4267080" cy="1679040"/>
          </a:xfrm>
        </p:grpSpPr>
        <p:sp>
          <p:nvSpPr>
            <p:cNvPr id="852" name=""/>
            <p:cNvSpPr/>
            <p:nvPr/>
          </p:nvSpPr>
          <p:spPr>
            <a:xfrm>
              <a:off x="4343400" y="5410080"/>
              <a:ext cx="533520" cy="8384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105520" y="5029200"/>
              <a:ext cx="76176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334120" y="51055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rot="5400000">
              <a:off x="6438600" y="5371920"/>
              <a:ext cx="152280" cy="17528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334120" y="624852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867280" y="510552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010280" y="51055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638680" y="57913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5943600" y="57913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5943600" y="60195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6248520" y="57913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6248520" y="60195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86728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629400" y="57913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629400" y="556272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6857280" y="5638680"/>
              <a:ext cx="15228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943600" y="53341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248520" y="53341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6248520" y="55623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162920" y="5334120"/>
              <a:ext cx="30456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553080" y="53341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6553080" y="55623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08660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17220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85800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78168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858000" y="53341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086600" y="57913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01028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46748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77240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07732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07732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077320" y="5257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9152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69608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85800" y="121932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85800" y="1143000"/>
            <a:ext cx="78487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be two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according to a rule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imply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if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configuratio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symbol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85800" y="3352680"/>
            <a:ext cx="7772400" cy="3124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quence of configura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 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600200" y="472428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85800" y="533412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mo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85800" y="57913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computational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85800" y="3733920"/>
            <a:ext cx="78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M as a Language Accep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205740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85800" y="1981080"/>
            <a:ext cx="7848720" cy="23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anguage accepted b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defined as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600200" y="10666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ccept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by a sequence of moves 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o a final st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09480" y="3886200"/>
            <a:ext cx="266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057400" y="5105520"/>
            <a:ext cx="914400" cy="30456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362320" y="5105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2362320" y="5333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971800" y="51055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666880" y="5105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2666880" y="5333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286000" y="5029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914400" y="48006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219320" y="48769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828800" y="4876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209680" y="4876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038480" y="495288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781680" y="51814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391520" y="5181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7391520" y="54100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867280" y="51814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172200" y="5181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6172200" y="54100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086600" y="5181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7086600" y="54100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477120" y="5181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6477120" y="54100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9588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01028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724280" y="4876920"/>
            <a:ext cx="914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029200" y="49528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638680" y="49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934320" y="4952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09480" y="43434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895480" y="5029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276720" y="51055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200400" y="5029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505320" y="5029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581280" y="5410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581280" y="5105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696080" y="51814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62012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8001000" y="51814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92468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8229600" y="5105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8305920" y="54864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8305920" y="51814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057400" y="6172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914400" y="586728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219320" y="594360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828800" y="59436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209680" y="59436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60199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78168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39152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V="1">
            <a:off x="739152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86728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1722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61722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70866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70866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47712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V="1">
            <a:off x="647712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0958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102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724280" y="59436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029200" y="60199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638680" y="601992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6019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09480" y="5410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98108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362320" y="61722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28600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590920" y="6095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666880" y="64771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666880" y="61722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696080" y="62485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6201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8001000" y="62485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9246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8229600" y="6172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8305920" y="6553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8305920" y="6248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M as an Acceptor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895480" y="15238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114800" y="1676520"/>
            <a:ext cx="4186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0384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6668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124080" y="1752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09480" y="114300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200400" y="2209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809880" y="1219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4114800" y="2412000"/>
            <a:ext cx="4186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495680" y="2362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495680" y="1752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572000" y="2209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4100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2952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867280" y="1752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943600" y="2209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7816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105520" y="27432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371600" y="20574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858000" y="1676520"/>
            <a:ext cx="4186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553080" y="1219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6858000" y="2412000"/>
            <a:ext cx="4186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705720" y="2666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09480" y="3200400"/>
            <a:ext cx="792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33520" y="3200400"/>
            <a:ext cx="876276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abb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981080" y="441972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abb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80880" y="4495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33520" y="50292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09480" y="5029200"/>
            <a:ext cx="792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rot="10800000">
            <a:off x="3046680" y="1995120"/>
            <a:ext cx="3810960" cy="90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963"/>
                </a:moveTo>
                <a:arcTo wR="10800" hR="10800" stAng="10748076" swAng="10709882"/>
                <a:lnTo>
                  <a:pt x="10800" y="10800"/>
                </a:lnTo>
                <a:close/>
              </a:path>
              <a:path fill="none" w="21600" h="21600">
                <a:moveTo>
                  <a:pt x="1" y="10963"/>
                </a:moveTo>
                <a:arcTo wR="10800" hR="10800" stAng="10748076" swAng="1070988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752480" y="1752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1828800" y="2209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M as a Computational Mode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09480" y="1143000"/>
            <a:ext cx="807732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-place f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nctio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omputed b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ovided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if and only if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09480" y="3200400"/>
            <a:ext cx="266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rot="5400000">
            <a:off x="952560" y="4457520"/>
            <a:ext cx="533160" cy="457200"/>
          </a:xfrm>
          <a:prstGeom prst="rightArrow">
            <a:avLst>
              <a:gd name="adj1" fmla="val 50000"/>
              <a:gd name="adj2" fmla="val 291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105520" y="4038480"/>
            <a:ext cx="53316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600200" y="38098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905120" y="3809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057400" y="4038480"/>
            <a:ext cx="114300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438280" y="39625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85800" y="3733920"/>
            <a:ext cx="914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990720" y="38098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676520" y="40384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6765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1055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200400" y="40384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20040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43828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81952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43828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81952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581280" y="4038480"/>
            <a:ext cx="114300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962520" y="39625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96252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34340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96252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34340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019920" y="4038480"/>
            <a:ext cx="114300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400800" y="39625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638680" y="40384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63868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40080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78168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40080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78168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8487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924680" y="44197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924680" y="40384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543800" y="40384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754380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162920" y="40384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1629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724280" y="40384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72428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600200" y="51814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905120" y="51814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057400" y="5410080"/>
            <a:ext cx="114300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43828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85800" y="5105520"/>
            <a:ext cx="914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990720" y="51814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676520" y="54100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67652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200400" y="54100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20040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43828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81952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438280" y="5638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819520" y="5638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886200" y="5334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96252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62520" y="5410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581280" y="54100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58128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495680" y="5181480"/>
            <a:ext cx="3886200" cy="718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M as a Computational Model: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62120" y="17524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5909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2193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6765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57200" y="106668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7524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V="1">
            <a:off x="2590920" y="1954800"/>
            <a:ext cx="49500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286000" y="2209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0481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1240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9625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80773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4197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4956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3341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7913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8672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7057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8153280" y="16002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6705720" y="1954800"/>
            <a:ext cx="49500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400800" y="2209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1629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2388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09480" y="2666880"/>
            <a:ext cx="853452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362320" y="43434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57200" y="4419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09480" y="4952880"/>
            <a:ext cx="81536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esents a natural number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esents a natural number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85800" y="4952880"/>
            <a:ext cx="7924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V="1">
            <a:off x="3962520" y="1954800"/>
            <a:ext cx="49500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657600" y="2209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Deterministic Turing Machine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DTM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85800" y="205740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600200" y="10666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terministic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T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makes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no more th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one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ove from an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configu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85800" y="1981080"/>
            <a:ext cx="7924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M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ach rule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b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 holds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b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ontains no rule with the left-hand side equal to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85800" y="44197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09480" y="4419720"/>
            <a:ext cx="792504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For every T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re is an equivalen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09480" y="55627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34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uring Machin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57600" y="426708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741480" y="426708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257800" y="4267080"/>
            <a:ext cx="534960" cy="510120"/>
            <a:chOff x="5257800" y="4267080"/>
            <a:chExt cx="534960" cy="510120"/>
          </a:xfrm>
        </p:grpSpPr>
        <p:sp>
          <p:nvSpPr>
            <p:cNvPr id="47" name=""/>
            <p:cNvSpPr/>
            <p:nvPr/>
          </p:nvSpPr>
          <p:spPr>
            <a:xfrm>
              <a:off x="525780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259240" y="4267080"/>
              <a:ext cx="532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191120" y="4267080"/>
            <a:ext cx="1066680" cy="459720"/>
            <a:chOff x="4191120" y="4267080"/>
            <a:chExt cx="1066680" cy="459720"/>
          </a:xfrm>
        </p:grpSpPr>
        <p:sp>
          <p:nvSpPr>
            <p:cNvPr id="50" name=""/>
            <p:cNvSpPr/>
            <p:nvPr/>
          </p:nvSpPr>
          <p:spPr>
            <a:xfrm>
              <a:off x="4191120" y="4267080"/>
              <a:ext cx="106668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191120" y="42670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1523880" y="4267080"/>
            <a:ext cx="534960" cy="510120"/>
            <a:chOff x="1523880" y="4267080"/>
            <a:chExt cx="534960" cy="510120"/>
          </a:xfrm>
        </p:grpSpPr>
        <p:sp>
          <p:nvSpPr>
            <p:cNvPr id="53" name=""/>
            <p:cNvSpPr/>
            <p:nvPr/>
          </p:nvSpPr>
          <p:spPr>
            <a:xfrm>
              <a:off x="152388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25680" y="4267080"/>
              <a:ext cx="53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055960" y="4267080"/>
            <a:ext cx="534960" cy="510120"/>
            <a:chOff x="2055960" y="4267080"/>
            <a:chExt cx="534960" cy="510120"/>
          </a:xfrm>
        </p:grpSpPr>
        <p:sp>
          <p:nvSpPr>
            <p:cNvPr id="56" name=""/>
            <p:cNvSpPr/>
            <p:nvPr/>
          </p:nvSpPr>
          <p:spPr>
            <a:xfrm>
              <a:off x="205596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57760" y="4267080"/>
              <a:ext cx="53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2590920" y="4267080"/>
            <a:ext cx="1066680" cy="459720"/>
            <a:chOff x="2590920" y="4267080"/>
            <a:chExt cx="1066680" cy="459720"/>
          </a:xfrm>
        </p:grpSpPr>
        <p:sp>
          <p:nvSpPr>
            <p:cNvPr id="59" name=""/>
            <p:cNvSpPr/>
            <p:nvPr/>
          </p:nvSpPr>
          <p:spPr>
            <a:xfrm>
              <a:off x="2590920" y="4267080"/>
              <a:ext cx="106668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590920" y="42670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4800600" y="3733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wri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2057400"/>
            <a:ext cx="1841400" cy="1371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1981080"/>
            <a:ext cx="18288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 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3809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0666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</a:rPr>
              <a:t>The most powerful computational mode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3240" y="495288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5029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6858000" y="4267080"/>
            <a:ext cx="534960" cy="459720"/>
            <a:chOff x="6858000" y="4267080"/>
            <a:chExt cx="534960" cy="459720"/>
          </a:xfrm>
        </p:grpSpPr>
        <p:sp>
          <p:nvSpPr>
            <p:cNvPr id="70" name=""/>
            <p:cNvSpPr/>
            <p:nvPr/>
          </p:nvSpPr>
          <p:spPr>
            <a:xfrm>
              <a:off x="685800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9440" y="42670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792760" y="4267080"/>
            <a:ext cx="534960" cy="459720"/>
            <a:chOff x="5792760" y="4267080"/>
            <a:chExt cx="534960" cy="459720"/>
          </a:xfrm>
        </p:grpSpPr>
        <p:sp>
          <p:nvSpPr>
            <p:cNvPr id="73" name=""/>
            <p:cNvSpPr/>
            <p:nvPr/>
          </p:nvSpPr>
          <p:spPr>
            <a:xfrm>
              <a:off x="579276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94200" y="42670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326280" y="4267080"/>
            <a:ext cx="534960" cy="459720"/>
            <a:chOff x="6326280" y="4267080"/>
            <a:chExt cx="534960" cy="459720"/>
          </a:xfrm>
        </p:grpSpPr>
        <p:sp>
          <p:nvSpPr>
            <p:cNvPr id="76" name=""/>
            <p:cNvSpPr/>
            <p:nvPr/>
          </p:nvSpPr>
          <p:spPr>
            <a:xfrm>
              <a:off x="632628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27720" y="42670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7238880" y="4267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91520" y="42670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91520" y="4724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3429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3809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3809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638680"/>
            <a:ext cx="518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= blan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Tape Turing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ur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chine with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ta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685800" y="16765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486400" y="2133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5880" y="2133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6095880" y="2361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267080" y="2133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572000" y="2133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V="1">
            <a:off x="4572000" y="2361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181480" y="21337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791320" y="2133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5791320" y="2361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876920" y="2133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V="1">
            <a:off x="4876920" y="2361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105520" y="20574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495680" y="20574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715000" y="20574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048120" y="1828800"/>
            <a:ext cx="99036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200400" y="2514600"/>
            <a:ext cx="6858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038480" y="190512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3341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5486400" y="27432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6095880" y="2743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V="1">
            <a:off x="6095880" y="29718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267080" y="27432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572000" y="2743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572000" y="29718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181480" y="274320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791320" y="2743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V="1">
            <a:off x="5791320" y="29718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876920" y="2743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4876920" y="29718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105520" y="26668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495680" y="26668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5715000" y="26668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038480" y="251460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334120" y="25146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486400" y="35812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60958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609588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267080" y="35812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5720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457200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18148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7913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579132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8769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487692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105520" y="35053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495680" y="35053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715000" y="35053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038480" y="33526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952880" y="28195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85800" y="4267080"/>
            <a:ext cx="7772400" cy="10670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85800" y="42670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tape 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33520" y="54100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62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78168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a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78168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a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781680" y="350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ape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7162920" y="2971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400800" y="21337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40080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400800" y="2438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400800" y="27432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400800" y="2666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400800" y="30481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4008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40080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400800" y="38862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d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Turing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ur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chine with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e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85800" y="411480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85800" y="41148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33520" y="5257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67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97180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ea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19112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ea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24852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ead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85800" y="16002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429000" y="33526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03848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40384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209680" y="33526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51460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25146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12408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373392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37339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81952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28195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04812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4382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65760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838080" y="2209680"/>
            <a:ext cx="99072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990720" y="2362320"/>
            <a:ext cx="6858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828800" y="28954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276720" y="2895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648320" y="33526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25780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52578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34340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95288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49528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2670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87692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56272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5627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56272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705720" y="33526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31520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73152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40080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01028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70102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93432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17220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594360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617220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63244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828800" y="274320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828800" y="2286000"/>
            <a:ext cx="4724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553080" y="228600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rot="5400000">
            <a:off x="2041200" y="230004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62012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6201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62012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M with Two-way Infinite Ta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609480" y="1143000"/>
            <a:ext cx="80773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Turing machine with tape infinite both to the right and to the le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685800" y="44197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85800" y="441972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M with two-way infinite tape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equivalen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33520" y="55627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73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85800" y="19051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809880" y="2362320"/>
            <a:ext cx="99072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962520" y="2514600"/>
            <a:ext cx="6858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419720" y="36576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029200" y="3657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5029200" y="3886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200400" y="36576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505320" y="3657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3505320" y="3886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114800" y="365760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4724280" y="3657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V="1">
            <a:off x="4724280" y="3886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809880" y="3657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3809880" y="3886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038480" y="35812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429000" y="35812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648320" y="35812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33412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334120" y="3581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334120" y="3962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97180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743200" y="3581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971800" y="3962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267080" y="3276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scription of a Turing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09480" y="1143000"/>
            <a:ext cx="78487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ur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chine representation us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 string ove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0,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33520" y="205740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ssume that T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has the for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 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 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 so that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33520" y="2895480"/>
            <a:ext cx="830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is the mapping from (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27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) to {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efined a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362320" y="3429000"/>
            <a:ext cx="5029200" cy="139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1" i="1" lang="en-US" sz="26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2600" spc="-1" strike="noStrike" baseline="30000">
                <a:solidFill>
                  <a:srgbClr val="ff66ff"/>
                </a:solidFill>
                <a:latin typeface="Times New Roman"/>
              </a:rPr>
              <a:t>+1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0 …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1" i="1" lang="en-US" sz="26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2600" spc="-1" strike="noStrike" baseline="30000">
                <a:solidFill>
                  <a:srgbClr val="ff66ff"/>
                </a:solidFill>
                <a:latin typeface="Times New Roman"/>
              </a:rPr>
              <a:t>+1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0 …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533520" y="4724280"/>
            <a:ext cx="5715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27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1" i="1" lang="en-US" sz="27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defin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362320" y="5181480"/>
            <a:ext cx="5029200" cy="489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33520" y="5638680"/>
            <a:ext cx="5715000" cy="5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 ,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i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. The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609480" y="6172200"/>
            <a:ext cx="800100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1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i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the description of T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scription o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M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09480" y="1066680"/>
            <a:ext cx="822960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09480" y="23623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crip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828800" y="2895480"/>
            <a:ext cx="55627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85800" y="4130640"/>
            <a:ext cx="7162920" cy="28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1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1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101001010001000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01000101001000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010010101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versal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5720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Universal TM can simulate every D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85800" y="1646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09480" y="156996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762120" y="2484360"/>
            <a:ext cx="251460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276720" y="294156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800600" y="294156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762120" y="240840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versal TM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981080" y="3780000"/>
            <a:ext cx="3124440" cy="459720"/>
          </a:xfrm>
          <a:prstGeom prst="rect">
            <a:avLst/>
          </a:prstGeom>
          <a:solidFill>
            <a:srgbClr val="b2b2b2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cription of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105520" y="3780000"/>
            <a:ext cx="1981080" cy="459720"/>
          </a:xfrm>
          <a:prstGeom prst="rect">
            <a:avLst/>
          </a:prstGeom>
          <a:solidFill>
            <a:srgbClr val="b2b2b2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put string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7467480" y="37036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543800" y="3780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543800" y="4275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086600" y="3780000"/>
            <a:ext cx="457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47640" y="4419720"/>
            <a:ext cx="803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versal TM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ads the description of T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the input string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then simulates the moves that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with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"/>
          <p:cNvSpPr/>
          <p:nvPr/>
        </p:nvSpPr>
        <p:spPr>
          <a:xfrm>
            <a:off x="685800" y="1600200"/>
            <a:ext cx="7772400" cy="3200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Unrestricted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85800" y="1523880"/>
            <a:ext cx="77882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unrestricted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URG) is a quadrup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ontermina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the for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tart nonterm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33520" y="5105520"/>
            <a:ext cx="822960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 finite relation from            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write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85800" y="4800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Note on R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600200" y="10666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eneralization of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85800" y="160020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85800" y="152388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n URG. Le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directly deri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hange of a string by a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45840" y="3886200"/>
            <a:ext cx="212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267080" y="358128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7242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1814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7242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1814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895480" y="358128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3526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8098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3526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38098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638680" y="358128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60958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5530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0958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5530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6" name=""/>
          <p:cNvGrpSpPr/>
          <p:nvPr/>
        </p:nvGrpSpPr>
        <p:grpSpPr>
          <a:xfrm>
            <a:off x="2438280" y="4114440"/>
            <a:ext cx="5031000" cy="1371960"/>
            <a:chOff x="2438280" y="4114440"/>
            <a:chExt cx="5031000" cy="1371960"/>
          </a:xfrm>
        </p:grpSpPr>
        <p:sp>
          <p:nvSpPr>
            <p:cNvPr id="1367" name=""/>
            <p:cNvSpPr/>
            <p:nvPr/>
          </p:nvSpPr>
          <p:spPr>
            <a:xfrm flipV="1">
              <a:off x="3886200" y="4114080"/>
              <a:ext cx="2133720" cy="838440"/>
            </a:xfrm>
            <a:custGeom>
              <a:avLst/>
              <a:gdLst>
                <a:gd name="textAreaLeft" fmla="*/ 401040 w 2133720"/>
                <a:gd name="textAreaRight" fmla="*/ 1732680 w 2133720"/>
                <a:gd name="textAreaTop" fmla="*/ 157680 h 838440"/>
                <a:gd name="textAreaBottom" fmla="*/ 68076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438" y="21600"/>
                  </a:lnTo>
                  <a:lnTo>
                    <a:pt x="4162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514600" y="411480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>
              <a:off x="2819520" y="419112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124080" y="426744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572000" y="426744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H="1">
              <a:off x="5714280" y="411480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>
              <a:off x="3657240" y="419112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943600" y="419112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6400080" y="426744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858000" y="419112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809880" y="5029200"/>
              <a:ext cx="2286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2670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7242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2670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7242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438280" y="502920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8954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3526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8954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3526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095880" y="502920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5530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0102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5530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0102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1814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6386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1814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6386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6" name=""/>
          <p:cNvGrpSpPr/>
          <p:nvPr/>
        </p:nvGrpSpPr>
        <p:grpSpPr>
          <a:xfrm>
            <a:off x="533520" y="5562720"/>
            <a:ext cx="7924680" cy="940680"/>
            <a:chOff x="533520" y="5562720"/>
            <a:chExt cx="7924680" cy="940680"/>
          </a:xfrm>
        </p:grpSpPr>
        <p:sp>
          <p:nvSpPr>
            <p:cNvPr id="1397" name=""/>
            <p:cNvSpPr/>
            <p:nvPr/>
          </p:nvSpPr>
          <p:spPr>
            <a:xfrm>
              <a:off x="533520" y="5562720"/>
              <a:ext cx="792468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49"/>
                </a:spcBef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e: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i="1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* and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are defined by analogy with the corresponding definitions in terms of CFGs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09480" y="55627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Unrestricted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609480" y="114300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S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36840" y="2590920"/>
            <a:ext cx="182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09480" y="3048120"/>
            <a:ext cx="792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118400" y="4876920"/>
            <a:ext cx="66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09480" y="3581280"/>
            <a:ext cx="78487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a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7" name=""/>
          <p:cNvGrpSpPr/>
          <p:nvPr/>
        </p:nvGrpSpPr>
        <p:grpSpPr>
          <a:xfrm>
            <a:off x="685800" y="5410080"/>
            <a:ext cx="7848720" cy="618840"/>
            <a:chOff x="685800" y="5410080"/>
            <a:chExt cx="7848720" cy="618840"/>
          </a:xfrm>
        </p:grpSpPr>
        <p:sp>
          <p:nvSpPr>
            <p:cNvPr id="1408" name=""/>
            <p:cNvSpPr/>
            <p:nvPr/>
          </p:nvSpPr>
          <p:spPr>
            <a:xfrm>
              <a:off x="685800" y="54100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85800" y="5410080"/>
              <a:ext cx="784872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Note: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3000" spc="-1" strike="noStrike" baseline="6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0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"/>
          <p:cNvSpPr/>
          <p:nvPr/>
        </p:nvSpPr>
        <p:spPr>
          <a:xfrm>
            <a:off x="685800" y="52578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Recursively Enumerable Languag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685800" y="2666880"/>
            <a:ext cx="7772400" cy="838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85800" y="259092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T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09480" y="34290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714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6212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685800" y="52416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he fundamental models 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vel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enumerable language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93720" y="6171480"/>
            <a:ext cx="414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Unrestricted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5054040" y="6171480"/>
            <a:ext cx="318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uring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685800" y="121932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685800" y="114300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be a language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surcively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numerabl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there exists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Turing machin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685800" y="3962520"/>
            <a:ext cx="7772400" cy="838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85800" y="388620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UR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09480" y="47242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715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143000"/>
            <a:ext cx="777240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ring machin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TM) is a 6-tup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pe alphabe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b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55627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hematically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relation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b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e wri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52578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"/>
          <p:cNvSpPr/>
          <p:nvPr/>
        </p:nvSpPr>
        <p:spPr>
          <a:xfrm>
            <a:off x="685800" y="1600200"/>
            <a:ext cx="7772400" cy="19051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ntext-Sensitive Grammar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85800" y="1523880"/>
            <a:ext cx="77882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n unrestricted grammar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text-sensitiv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or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length-increasi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CSG) if every rule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atisfie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y|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1600200" y="10666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striction of U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609480" y="3581280"/>
            <a:ext cx="80773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*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 defined by analogy with the definitions of the corresponding notions on URG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Bounded Automa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4648320" y="464832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731840" y="464832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9" name=""/>
          <p:cNvGrpSpPr/>
          <p:nvPr/>
        </p:nvGrpSpPr>
        <p:grpSpPr>
          <a:xfrm>
            <a:off x="6248520" y="4648320"/>
            <a:ext cx="534960" cy="510120"/>
            <a:chOff x="6248520" y="4648320"/>
            <a:chExt cx="534960" cy="510120"/>
          </a:xfrm>
        </p:grpSpPr>
        <p:sp>
          <p:nvSpPr>
            <p:cNvPr id="1440" name=""/>
            <p:cNvSpPr/>
            <p:nvPr/>
          </p:nvSpPr>
          <p:spPr>
            <a:xfrm>
              <a:off x="6248520" y="464832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249960" y="4648320"/>
              <a:ext cx="532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2" name=""/>
          <p:cNvGrpSpPr/>
          <p:nvPr/>
        </p:nvGrpSpPr>
        <p:grpSpPr>
          <a:xfrm>
            <a:off x="5181480" y="4648320"/>
            <a:ext cx="1066680" cy="459720"/>
            <a:chOff x="5181480" y="4648320"/>
            <a:chExt cx="1066680" cy="459720"/>
          </a:xfrm>
        </p:grpSpPr>
        <p:sp>
          <p:nvSpPr>
            <p:cNvPr id="1443" name=""/>
            <p:cNvSpPr/>
            <p:nvPr/>
          </p:nvSpPr>
          <p:spPr>
            <a:xfrm>
              <a:off x="5181480" y="4648320"/>
              <a:ext cx="106668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181480" y="4648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5" name=""/>
          <p:cNvGrpSpPr/>
          <p:nvPr/>
        </p:nvGrpSpPr>
        <p:grpSpPr>
          <a:xfrm>
            <a:off x="2514600" y="4648320"/>
            <a:ext cx="534960" cy="510120"/>
            <a:chOff x="2514600" y="4648320"/>
            <a:chExt cx="534960" cy="510120"/>
          </a:xfrm>
        </p:grpSpPr>
        <p:sp>
          <p:nvSpPr>
            <p:cNvPr id="1446" name=""/>
            <p:cNvSpPr/>
            <p:nvPr/>
          </p:nvSpPr>
          <p:spPr>
            <a:xfrm>
              <a:off x="2514600" y="464832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516400" y="4648320"/>
              <a:ext cx="53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8" name=""/>
          <p:cNvGrpSpPr/>
          <p:nvPr/>
        </p:nvGrpSpPr>
        <p:grpSpPr>
          <a:xfrm>
            <a:off x="3046320" y="4648320"/>
            <a:ext cx="534960" cy="510120"/>
            <a:chOff x="3046320" y="4648320"/>
            <a:chExt cx="534960" cy="510120"/>
          </a:xfrm>
        </p:grpSpPr>
        <p:sp>
          <p:nvSpPr>
            <p:cNvPr id="1449" name=""/>
            <p:cNvSpPr/>
            <p:nvPr/>
          </p:nvSpPr>
          <p:spPr>
            <a:xfrm>
              <a:off x="3046320" y="464832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048120" y="4648320"/>
              <a:ext cx="53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1" name=""/>
          <p:cNvGrpSpPr/>
          <p:nvPr/>
        </p:nvGrpSpPr>
        <p:grpSpPr>
          <a:xfrm>
            <a:off x="3581280" y="4648320"/>
            <a:ext cx="1066680" cy="459720"/>
            <a:chOff x="3581280" y="4648320"/>
            <a:chExt cx="1066680" cy="459720"/>
          </a:xfrm>
        </p:grpSpPr>
        <p:sp>
          <p:nvSpPr>
            <p:cNvPr id="1452" name=""/>
            <p:cNvSpPr/>
            <p:nvPr/>
          </p:nvSpPr>
          <p:spPr>
            <a:xfrm>
              <a:off x="3581280" y="4648320"/>
              <a:ext cx="106668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581280" y="4648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4" name=""/>
          <p:cNvSpPr/>
          <p:nvPr/>
        </p:nvSpPr>
        <p:spPr>
          <a:xfrm>
            <a:off x="4952880" y="41911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wri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352680" y="2438280"/>
            <a:ext cx="1841760" cy="1371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352680" y="2362320"/>
            <a:ext cx="18288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 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438280" y="4191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57200" y="10666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 Turing machine with a Tape Bounded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by the Length of the Input St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963960" y="5334120"/>
            <a:ext cx="19810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038480" y="5410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1" name=""/>
          <p:cNvGrpSpPr/>
          <p:nvPr/>
        </p:nvGrpSpPr>
        <p:grpSpPr>
          <a:xfrm>
            <a:off x="6783480" y="4648320"/>
            <a:ext cx="534960" cy="459720"/>
            <a:chOff x="6783480" y="4648320"/>
            <a:chExt cx="534960" cy="459720"/>
          </a:xfrm>
        </p:grpSpPr>
        <p:sp>
          <p:nvSpPr>
            <p:cNvPr id="1462" name=""/>
            <p:cNvSpPr/>
            <p:nvPr/>
          </p:nvSpPr>
          <p:spPr>
            <a:xfrm>
              <a:off x="6783480" y="464832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784920" y="464832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4" name=""/>
          <p:cNvSpPr/>
          <p:nvPr/>
        </p:nvSpPr>
        <p:spPr>
          <a:xfrm>
            <a:off x="4267080" y="3809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267080" y="41911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952880" y="41911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near Bounded Automaton: Defini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762120" y="213372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62120" y="2057400"/>
            <a:ext cx="777240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inear bounded automato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LBA) is a TM that cannot extend its tape by any ru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160020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With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on its tape,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M’s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tape is restricted to |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w|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squares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76212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685800" y="3124080"/>
            <a:ext cx="579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Accepted language: Illust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905120" y="4114800"/>
            <a:ext cx="182880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H="1">
            <a:off x="2209320" y="411480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flipV="1">
            <a:off x="2209680" y="434340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3733920" y="41148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 flipH="1">
            <a:off x="2514600" y="41148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flipV="1">
            <a:off x="2514600" y="43434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243828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62120" y="380988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1066680" y="388620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676520" y="388620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057400" y="3886200"/>
            <a:ext cx="1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419720" y="3886200"/>
            <a:ext cx="533160" cy="457200"/>
          </a:xfrm>
          <a:prstGeom prst="rightArrow">
            <a:avLst>
              <a:gd name="adj1" fmla="val 50000"/>
              <a:gd name="adj2" fmla="val 291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7238880" y="41911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7848720" y="41911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V="1">
            <a:off x="7848720" y="44193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6324480" y="41911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>
            <a:off x="6629400" y="41911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flipV="1">
            <a:off x="6629400" y="44193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flipH="1">
            <a:off x="7543800" y="41911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flipV="1">
            <a:off x="7543800" y="44193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 flipH="1">
            <a:off x="6934320" y="41911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 flipV="1">
            <a:off x="6934320" y="44193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55308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746748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5181480" y="38862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5486400" y="39625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095880" y="3962520"/>
            <a:ext cx="1295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7391520" y="3962520"/>
            <a:ext cx="1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365760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8153280" y="41911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807732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flipH="1">
            <a:off x="2819520" y="41148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V="1">
            <a:off x="2819520" y="43434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 flipH="1">
            <a:off x="3123720" y="411480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3124080" y="434340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flipH="1">
            <a:off x="3429000" y="41148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3429000" y="43434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1905120" y="4495680"/>
            <a:ext cx="1828800" cy="180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324480" y="4572000"/>
            <a:ext cx="1828800" cy="144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971800" y="5029200"/>
            <a:ext cx="403848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same leng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H="1" flipV="1">
            <a:off x="2971440" y="45720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 flipV="1">
            <a:off x="6629400" y="464832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"/>
          <p:cNvSpPr/>
          <p:nvPr/>
        </p:nvSpPr>
        <p:spPr>
          <a:xfrm>
            <a:off x="685800" y="52578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Context-sensitive Languag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685800" y="2666880"/>
            <a:ext cx="7772400" cy="838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85800" y="259092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S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LB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09480" y="34290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732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6212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685800" y="5257080"/>
            <a:ext cx="80773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he fundamental models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xt-sensitiv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nguage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766080" y="5790600"/>
            <a:ext cx="517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ntext-sensitive gramm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762480" y="6171480"/>
            <a:ext cx="484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inear bounded automat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685800" y="121932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85800" y="114300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be a language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ext-sensitiv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there exists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xt-sensitive gramma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685800" y="3962520"/>
            <a:ext cx="7772400" cy="838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85800" y="388620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B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CS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609480" y="47242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734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"/>
          <p:cNvSpPr/>
          <p:nvPr/>
        </p:nvSpPr>
        <p:spPr>
          <a:xfrm>
            <a:off x="685800" y="243828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Right-Linear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685800" y="2362320"/>
            <a:ext cx="7788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right-linear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RLG) if every rule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atisfie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 </a:t>
            </a:r>
            <a:r>
              <a:rPr b="1" lang="en-US" sz="3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1600200" y="1066680"/>
            <a:ext cx="73915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FG in which every rule has a string of terminals followed by no more that one nonterminal on the right-hand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09480" y="38098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609480" y="4191120"/>
            <a:ext cx="8534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609480" y="4952880"/>
            <a:ext cx="792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118400" y="6019920"/>
            <a:ext cx="66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609480" y="630864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09480" y="5334120"/>
            <a:ext cx="792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09480" y="5715000"/>
            <a:ext cx="792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"/>
          <p:cNvSpPr/>
          <p:nvPr/>
        </p:nvSpPr>
        <p:spPr>
          <a:xfrm>
            <a:off x="685800" y="3809880"/>
            <a:ext cx="7772400" cy="1143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mmars for Regular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85800" y="1219320"/>
            <a:ext cx="7772400" cy="838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85800" y="114300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L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F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609480" y="1981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575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76212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685800" y="3885480"/>
            <a:ext cx="80773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Grammars for regular language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1832040" y="4190400"/>
            <a:ext cx="501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ight-linear gramm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685800" y="2514600"/>
            <a:ext cx="7772400" cy="838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685800" y="243828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 RL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609480" y="32767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583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mmars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2666880" y="1371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ramm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4876920" y="1371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orm of rul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2819520" y="220968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Unrestric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4876920" y="190512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2819520" y="297180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sensit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4876920" y="2895480"/>
            <a:ext cx="36576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y|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819520" y="41148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4876920" y="380988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2819520" y="50292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ight-Line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4876920" y="472428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609480" y="1371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anguage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762120" y="198108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cursively enumer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762120" y="297180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sensit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762120" y="41148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85800" y="50292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743200" y="13716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876920" y="13716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685800" y="13716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685800" y="1371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8458200" y="13716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 flipH="1"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flipH="1"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685800" y="5715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 flipV="1">
            <a:off x="533520" y="1981080"/>
            <a:ext cx="0" cy="37339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 flipH="1" rot="16200000">
            <a:off x="-1302480" y="3817080"/>
            <a:ext cx="315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General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 flipV="1">
            <a:off x="8610480" y="1981080"/>
            <a:ext cx="0" cy="3733920"/>
          </a:xfrm>
          <a:prstGeom prst="line">
            <a:avLst/>
          </a:prstGeom>
          <a:ln w="7632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flipH="1" rot="5400000">
            <a:off x="7290360" y="3359520"/>
            <a:ext cx="315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Restri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utomata: Summar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962520" y="15238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ccepting Devi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572000" y="213372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191120" y="3124080"/>
            <a:ext cx="2971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inear bounded automat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572000" y="403848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ushdown automat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572000" y="495288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inite automat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1905120" y="1523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anguage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2057400" y="213372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cursively enumer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057400" y="312408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sensit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2057400" y="426708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1981080" y="518148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038480" y="15238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7315200" y="15238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1981080" y="15238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1981080" y="152388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981080" y="213372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981080" y="304812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flipH="1">
            <a:off x="1980720" y="403848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1980720" y="495288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981080" y="586728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 flipV="1">
            <a:off x="1828800" y="2133360"/>
            <a:ext cx="0" cy="37335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 flipH="1" rot="16200000">
            <a:off x="-7200" y="3969360"/>
            <a:ext cx="315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General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flipV="1">
            <a:off x="7483320" y="2133360"/>
            <a:ext cx="0" cy="3733560"/>
          </a:xfrm>
          <a:prstGeom prst="line">
            <a:avLst/>
          </a:prstGeom>
          <a:ln w="7632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H="1" rot="5400000">
            <a:off x="6163200" y="3511800"/>
            <a:ext cx="315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Restri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Chomsky Hierarch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1219320" y="1219320"/>
            <a:ext cx="6476760" cy="236196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1447920" y="1447920"/>
            <a:ext cx="5029200" cy="190476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1676520" y="1600200"/>
            <a:ext cx="3581280" cy="160020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1905120" y="1828800"/>
            <a:ext cx="1828800" cy="11430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04920" y="3276720"/>
            <a:ext cx="327636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regular languages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ype 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 flipH="1">
            <a:off x="1600200" y="274320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2209680" y="22096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666880" y="1981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2895480" y="2362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4191120" y="1981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4038480" y="25146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5638680" y="20574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5410080" y="25909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7010280" y="24382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7010280" y="1219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7391520" y="15238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7391520" y="1295280"/>
            <a:ext cx="838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1295280" y="4495680"/>
            <a:ext cx="3276720" cy="1044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context-free languages 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ype 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4876920" y="4495680"/>
            <a:ext cx="3276360" cy="1044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context-sensitive languages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ype 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410080" y="3200400"/>
            <a:ext cx="3276720" cy="1044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recursive enumerable languages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ype 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flipH="1">
            <a:off x="3962160" y="3124080"/>
            <a:ext cx="22860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724280" y="3276720"/>
            <a:ext cx="38124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7467480" y="2819520"/>
            <a:ext cx="38124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380880" y="5867280"/>
            <a:ext cx="838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304920" y="6019920"/>
            <a:ext cx="8534160" cy="7034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ype 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ype 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ype 1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ype 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6629400" y="1905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553080" y="26668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"/>
          <p:cNvSpPr/>
          <p:nvPr/>
        </p:nvSpPr>
        <p:spPr>
          <a:xfrm>
            <a:off x="685800" y="220968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468360" y="1125360"/>
            <a:ext cx="849636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700" spc="-1" strike="noStrike" baseline="-25000">
                <a:solidFill>
                  <a:srgbClr val="ff0000"/>
                </a:solidFill>
                <a:latin typeface="Times New Roman"/>
              </a:rPr>
              <a:t>SelfAcceptance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 is the language over {0, 1}</a:t>
            </a:r>
            <a:r>
              <a:rPr b="1" lang="en-US" sz="27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, which contains a string </a:t>
            </a:r>
            <a:r>
              <a:rPr b="1" lang="cs-CZ" sz="27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), if and only DTM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 accepts </a:t>
            </a:r>
            <a:r>
              <a:rPr b="1" lang="en-US" sz="27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85800" y="2209680"/>
            <a:ext cx="7924680" cy="8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SelfAcceptance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DTM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09480" y="31240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2971800" y="3262320"/>
            <a:ext cx="13716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2971800" y="3276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648320" y="3352680"/>
            <a:ext cx="990360" cy="457200"/>
          </a:xfrm>
          <a:prstGeom prst="rightArrow">
            <a:avLst>
              <a:gd name="adj1" fmla="val 50000"/>
              <a:gd name="adj2" fmla="val 541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8" name=""/>
          <p:cNvGrpSpPr/>
          <p:nvPr/>
        </p:nvGrpSpPr>
        <p:grpSpPr>
          <a:xfrm>
            <a:off x="5562720" y="3124080"/>
            <a:ext cx="2971800" cy="826920"/>
            <a:chOff x="5562720" y="3124080"/>
            <a:chExt cx="2971800" cy="826920"/>
          </a:xfrm>
        </p:grpSpPr>
        <p:sp>
          <p:nvSpPr>
            <p:cNvPr id="1659" name=""/>
            <p:cNvSpPr/>
            <p:nvPr/>
          </p:nvSpPr>
          <p:spPr>
            <a:xfrm>
              <a:off x="5638680" y="312408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scription o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5562720" y="3430440"/>
              <a:ext cx="29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110…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1" name=""/>
          <p:cNvSpPr/>
          <p:nvPr/>
        </p:nvSpPr>
        <p:spPr>
          <a:xfrm>
            <a:off x="533520" y="53341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ept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110…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2" name=""/>
          <p:cNvGrpSpPr/>
          <p:nvPr/>
        </p:nvGrpSpPr>
        <p:grpSpPr>
          <a:xfrm>
            <a:off x="4114800" y="4495680"/>
            <a:ext cx="4724280" cy="1175760"/>
            <a:chOff x="4114800" y="4495680"/>
            <a:chExt cx="4724280" cy="1175760"/>
          </a:xfrm>
        </p:grpSpPr>
        <p:sp>
          <p:nvSpPr>
            <p:cNvPr id="1663" name=""/>
            <p:cNvSpPr/>
            <p:nvPr/>
          </p:nvSpPr>
          <p:spPr>
            <a:xfrm>
              <a:off x="8077320" y="480060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114800" y="4495680"/>
              <a:ext cx="13716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486400" y="457200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6172200" y="45720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0010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715000" y="480060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63868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858000" y="4724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93432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93432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114800" y="44956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M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019920" y="480060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9436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324480" y="480060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24852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629400" y="480060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55308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315200" y="4724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54380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54380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772400" y="480060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69608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8305920" y="4724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838188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838188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V="1" rot="5400000">
              <a:off x="6819840" y="3999240"/>
              <a:ext cx="152280" cy="23623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61560 h 2362320"/>
                <a:gd name="textAreaBottom" fmla="*/ 230076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553080" y="518148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0" name=""/>
          <p:cNvGrpSpPr/>
          <p:nvPr/>
        </p:nvGrpSpPr>
        <p:grpSpPr>
          <a:xfrm>
            <a:off x="914400" y="5867280"/>
            <a:ext cx="7391520" cy="1055160"/>
            <a:chOff x="914400" y="5867280"/>
            <a:chExt cx="7391520" cy="1055160"/>
          </a:xfrm>
        </p:grpSpPr>
        <p:sp>
          <p:nvSpPr>
            <p:cNvPr id="1691" name=""/>
            <p:cNvSpPr/>
            <p:nvPr/>
          </p:nvSpPr>
          <p:spPr>
            <a:xfrm>
              <a:off x="914400" y="6308640"/>
              <a:ext cx="3429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SelfAcceptanc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876920" y="6308640"/>
              <a:ext cx="3429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SelfAcceptanc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>
              <a:off x="1904760" y="5867280"/>
              <a:ext cx="251460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3200400" y="5943600"/>
              <a:ext cx="9144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724280" y="5867280"/>
              <a:ext cx="2362320" cy="609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>
              <a:off x="5029200" y="5943600"/>
              <a:ext cx="9144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7" name=""/>
          <p:cNvSpPr/>
          <p:nvPr/>
        </p:nvSpPr>
        <p:spPr>
          <a:xfrm>
            <a:off x="3809880" y="4038480"/>
            <a:ext cx="2667240" cy="304920"/>
          </a:xfrm>
          <a:prstGeom prst="downArrow">
            <a:avLst>
              <a:gd name="adj1" fmla="val 49278"/>
              <a:gd name="adj2" fmla="val 5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pretation of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2971800"/>
            <a:ext cx="8305920" cy="10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80000"/>
              </a:lnSpc>
              <a:spcAft>
                <a:spcPts val="601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current state and tape symbol ar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spectively, then replace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hift the head a square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ht, and chang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4800600"/>
            <a:ext cx="815364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80000"/>
              </a:lnSpc>
              <a:spcAft>
                <a:spcPts val="601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current state and tape symbol ar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spectively, then replace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hift the head a square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t, and chang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4419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4419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372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13372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44197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35268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43828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41148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41911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41911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4191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41911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67480" y="4419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7732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807732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4419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55308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62920" y="44197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7240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77240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85800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71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9608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41148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10080" y="419112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920" y="41911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0120" y="4191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576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6576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3372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13372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43200" y="62485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35268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828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43828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9436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60199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60199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6019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67080" y="60199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6748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07732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807732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4852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55308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62485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724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77724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8580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8660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771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960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59436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601992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60199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10280" y="6019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1143000"/>
            <a:ext cx="82296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80000"/>
              </a:lnSpc>
              <a:spcAft>
                <a:spcPts val="601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current state and tape symbol ar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spectively, then replace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hang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keep the he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ion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8120" y="25909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65760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25909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13372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5909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5268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35268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3828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43828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6688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740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7672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22860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23623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23623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95480" y="2362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67080" y="23623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467480" y="25909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07732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807732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25909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5308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55308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62920" y="25909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77240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77240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85800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9608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05520" y="22860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10080" y="236232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9920" y="23623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15200" y="2362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685800" y="1219320"/>
            <a:ext cx="7772400" cy="609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685800" y="1219320"/>
            <a:ext cx="8153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ccept by some T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09480" y="1905120"/>
            <a:ext cx="7848720" cy="20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idea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nstruct a DT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i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ace an input str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imulate an activity of a universal T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us theorem ho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09480" y="38862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791320" y="48006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1905120" y="4495680"/>
            <a:ext cx="129528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3200400" y="4572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3886200" y="4572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71500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3429000" y="48006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33526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572000" y="4724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4648320" y="5105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648320" y="4800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1828800" y="4495680"/>
            <a:ext cx="129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3733920" y="48006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365760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038480" y="48006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396252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343400" y="48006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42670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5029200" y="4724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5257800" y="5105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5257800" y="4800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5486400" y="48006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54100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019920" y="4724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095880" y="4800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815328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3200400" y="5638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3886200" y="5638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80773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342900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3526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4572000" y="5715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64832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464832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3733920" y="57913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365760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403848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39625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34340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2670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5029200" y="5715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525780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525780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548640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54100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8381880" y="5715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845820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845820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5791320" y="57913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571500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6934320" y="5715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701028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01028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09588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0199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640080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3244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705720" y="57913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62940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7391520" y="5715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762012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762012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7848720" y="57913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777240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1905120" y="5562720"/>
            <a:ext cx="129528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1905120" y="5562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 rot="5400000">
            <a:off x="4533840" y="4991040"/>
            <a:ext cx="152640" cy="2362320"/>
          </a:xfrm>
          <a:custGeom>
            <a:avLst/>
            <a:gdLst>
              <a:gd name="textAreaLeft" fmla="*/ 0 w 152640"/>
              <a:gd name="textAreaRight" fmla="*/ 55080 w 15264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 rot="5400000">
            <a:off x="6895440" y="4991040"/>
            <a:ext cx="152640" cy="2361960"/>
          </a:xfrm>
          <a:custGeom>
            <a:avLst/>
            <a:gdLst>
              <a:gd name="textAreaLeft" fmla="*/ 0 w 152640"/>
              <a:gd name="textAreaRight" fmla="*/ 55080 w 15264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4191120" y="6172200"/>
            <a:ext cx="99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477120" y="6172200"/>
            <a:ext cx="1676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648320" y="5181480"/>
            <a:ext cx="76176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2209680" y="487692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1676520" y="4495680"/>
            <a:ext cx="152280" cy="167652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609480" y="5105520"/>
            <a:ext cx="99072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609480" y="51055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"/>
          <p:cNvSpPr/>
          <p:nvPr/>
        </p:nvSpPr>
        <p:spPr>
          <a:xfrm>
            <a:off x="685800" y="198108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Non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609480" y="121932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NonSelfAcceptanc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SelfAccep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685800" y="1981080"/>
            <a:ext cx="7924680" cy="8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NonSelfAcceptance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0, 1}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4648320" y="129528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2971800" y="3110040"/>
            <a:ext cx="13716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2971800" y="31240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4648320" y="3200400"/>
            <a:ext cx="990360" cy="457200"/>
          </a:xfrm>
          <a:prstGeom prst="rightArrow">
            <a:avLst>
              <a:gd name="adj1" fmla="val 50000"/>
              <a:gd name="adj2" fmla="val 541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533520" y="51814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ept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110…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3" name=""/>
          <p:cNvGrpSpPr/>
          <p:nvPr/>
        </p:nvGrpSpPr>
        <p:grpSpPr>
          <a:xfrm>
            <a:off x="4114800" y="4343400"/>
            <a:ext cx="4724280" cy="1175400"/>
            <a:chOff x="4114800" y="4343400"/>
            <a:chExt cx="4724280" cy="1175400"/>
          </a:xfrm>
        </p:grpSpPr>
        <p:sp>
          <p:nvSpPr>
            <p:cNvPr id="1794" name=""/>
            <p:cNvSpPr/>
            <p:nvPr/>
          </p:nvSpPr>
          <p:spPr>
            <a:xfrm>
              <a:off x="8077320" y="464796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4114800" y="4343400"/>
              <a:ext cx="13716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486400" y="441936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172200" y="4419360"/>
              <a:ext cx="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800100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715000" y="464796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63868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858000" y="45716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934320" y="4952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934320" y="46479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114800" y="434340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M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6019920" y="464796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94360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324480" y="464796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624852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629400" y="464796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655308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7315200" y="45716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7543800" y="4952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7543800" y="46479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772400" y="464796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69608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8305920" y="45716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8381880" y="4952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8381880" y="46479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 flipV="1" rot="5400000">
              <a:off x="6820200" y="3847680"/>
              <a:ext cx="151920" cy="236232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61560 h 2362320"/>
                <a:gd name="textAreaBottom" fmla="*/ 230076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6553080" y="502884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1" name=""/>
          <p:cNvGrpSpPr/>
          <p:nvPr/>
        </p:nvGrpSpPr>
        <p:grpSpPr>
          <a:xfrm>
            <a:off x="914400" y="5715000"/>
            <a:ext cx="7391520" cy="986040"/>
            <a:chOff x="914400" y="5715000"/>
            <a:chExt cx="7391520" cy="986040"/>
          </a:xfrm>
        </p:grpSpPr>
        <p:sp>
          <p:nvSpPr>
            <p:cNvPr id="1822" name=""/>
            <p:cNvSpPr/>
            <p:nvPr/>
          </p:nvSpPr>
          <p:spPr>
            <a:xfrm>
              <a:off x="914400" y="6156360"/>
              <a:ext cx="34290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onSelfAcceptanc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876920" y="6156360"/>
              <a:ext cx="34290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NonS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elfAcceptanc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H="1">
              <a:off x="1904760" y="5715000"/>
              <a:ext cx="251460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3200400" y="5791320"/>
              <a:ext cx="9144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4724280" y="5715000"/>
              <a:ext cx="2362320" cy="609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>
              <a:off x="5029200" y="5791320"/>
              <a:ext cx="9144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8" name=""/>
          <p:cNvSpPr/>
          <p:nvPr/>
        </p:nvSpPr>
        <p:spPr>
          <a:xfrm>
            <a:off x="3809880" y="3886200"/>
            <a:ext cx="2667240" cy="304920"/>
          </a:xfrm>
          <a:prstGeom prst="downArrow">
            <a:avLst>
              <a:gd name="adj1" fmla="val 49278"/>
              <a:gd name="adj2" fmla="val 5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9" name=""/>
          <p:cNvGrpSpPr/>
          <p:nvPr/>
        </p:nvGrpSpPr>
        <p:grpSpPr>
          <a:xfrm>
            <a:off x="5562720" y="3124080"/>
            <a:ext cx="2971800" cy="826920"/>
            <a:chOff x="5562720" y="3124080"/>
            <a:chExt cx="2971800" cy="826920"/>
          </a:xfrm>
        </p:grpSpPr>
        <p:sp>
          <p:nvSpPr>
            <p:cNvPr id="1830" name=""/>
            <p:cNvSpPr/>
            <p:nvPr/>
          </p:nvSpPr>
          <p:spPr>
            <a:xfrm>
              <a:off x="5638680" y="312408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scription o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562720" y="3430440"/>
              <a:ext cx="29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110…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Non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685800" y="1219320"/>
            <a:ext cx="7772400" cy="609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685800" y="1219320"/>
            <a:ext cx="7696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ccept b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n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609480" y="1828800"/>
            <a:ext cx="518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o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y contradic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609480" y="2286000"/>
            <a:ext cx="8001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ccepted by a T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is infinite table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990720" y="3657600"/>
            <a:ext cx="761760" cy="10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1070640" y="4495680"/>
            <a:ext cx="66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990720" y="3733920"/>
            <a:ext cx="0" cy="10666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 rot="16200000">
            <a:off x="-73440" y="4111920"/>
            <a:ext cx="17524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ll T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1066680" y="3200400"/>
            <a:ext cx="7467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1828800" y="32767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5638680" y="32767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914400" y="3657600"/>
            <a:ext cx="739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1828800" y="3657600"/>
            <a:ext cx="37339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100100100110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1010101111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10010001010001001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5638680" y="3657600"/>
            <a:ext cx="12193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3280320" y="4495680"/>
            <a:ext cx="66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5794920" y="4495680"/>
            <a:ext cx="66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685800" y="5029200"/>
            <a:ext cx="792468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Ye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No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Non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533520" y="1143000"/>
            <a:ext cx="81532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i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 1, …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533520" y="2057400"/>
            <a:ext cx="838188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N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533520" y="4114800"/>
            <a:ext cx="838188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Y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533520" y="617220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ccepted b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8" name=""/>
          <p:cNvGrpSpPr/>
          <p:nvPr/>
        </p:nvGrpSpPr>
        <p:grpSpPr>
          <a:xfrm>
            <a:off x="3429000" y="2743200"/>
            <a:ext cx="3048120" cy="1404360"/>
            <a:chOff x="3429000" y="2743200"/>
            <a:chExt cx="3048120" cy="1404360"/>
          </a:xfrm>
        </p:grpSpPr>
        <p:sp>
          <p:nvSpPr>
            <p:cNvPr id="1859" name=""/>
            <p:cNvSpPr/>
            <p:nvPr/>
          </p:nvSpPr>
          <p:spPr>
            <a:xfrm>
              <a:off x="3809880" y="3657600"/>
              <a:ext cx="2667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H="1">
              <a:off x="3581280" y="3505320"/>
              <a:ext cx="379440" cy="37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4785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478595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 flipH="1">
              <a:off x="3429000" y="2743200"/>
              <a:ext cx="636480" cy="1141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4785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478595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2" name=""/>
          <p:cNvGrpSpPr/>
          <p:nvPr/>
        </p:nvGrpSpPr>
        <p:grpSpPr>
          <a:xfrm>
            <a:off x="3429000" y="4800600"/>
            <a:ext cx="3048120" cy="1404360"/>
            <a:chOff x="3429000" y="4800600"/>
            <a:chExt cx="3048120" cy="1404360"/>
          </a:xfrm>
        </p:grpSpPr>
        <p:sp>
          <p:nvSpPr>
            <p:cNvPr id="1863" name=""/>
            <p:cNvSpPr/>
            <p:nvPr/>
          </p:nvSpPr>
          <p:spPr>
            <a:xfrm>
              <a:off x="3809880" y="5715000"/>
              <a:ext cx="2667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H="1">
              <a:off x="3581280" y="5562720"/>
              <a:ext cx="379440" cy="37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4785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478595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3429000" y="4800600"/>
              <a:ext cx="636480" cy="1141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4785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478595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520560" y="1104840"/>
            <a:ext cx="8077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Gist: Recursive Language accepts TM that always hal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09480" y="23623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762120" y="160020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language.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DTM that always halts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cursive langu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673200" y="3327480"/>
            <a:ext cx="7772400" cy="1054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73200" y="332748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family of recursive languages is closed under complemen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685800" y="4952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609480" y="44197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9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685800" y="5105520"/>
            <a:ext cx="7772400" cy="1054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685800" y="510552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family of recursively enumerable languages is </a:t>
            </a:r>
            <a:r>
              <a:rPr b="1" lang="cs-CZ" sz="3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closed under complemen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622440" y="6197760"/>
            <a:ext cx="78357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ther Hierarchy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1219320" y="3276720"/>
            <a:ext cx="6476760" cy="236196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1447920" y="3505320"/>
            <a:ext cx="5029200" cy="190476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1676520" y="3657600"/>
            <a:ext cx="3581280" cy="160020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304920" y="1219320"/>
            <a:ext cx="3047760" cy="1361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e family of 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cursive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accepted by TMs that always hal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 flipH="1" flipV="1">
            <a:off x="1676520" y="2590920"/>
            <a:ext cx="457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4038480" y="1219320"/>
            <a:ext cx="2895840" cy="1361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e family of 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c. enumerbale language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accepted by TM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7620120" y="1219320"/>
            <a:ext cx="1066680" cy="1440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ll La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 flipV="1">
            <a:off x="4800600" y="259056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 flipV="1">
            <a:off x="7086600" y="2590560"/>
            <a:ext cx="1143000" cy="1143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3124080" y="5867280"/>
            <a:ext cx="2667240" cy="61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5943600" y="5867280"/>
            <a:ext cx="2666880" cy="61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 flipH="1" flipV="1">
            <a:off x="7009920" y="4572000"/>
            <a:ext cx="3812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 flipV="1">
            <a:off x="5181480" y="4572000"/>
            <a:ext cx="457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2971800" y="129528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6553080" y="129528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2438280" y="44197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2895480" y="4191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3124080" y="45720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3886200" y="4191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3962520" y="4648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219320" y="27432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03320" y="1371600"/>
            <a:ext cx="303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01520" y="2057400"/>
            <a:ext cx="54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the initi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2362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1520" y="2819520"/>
            <a:ext cx="48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a fin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45760" y="3886200"/>
            <a:ext cx="393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b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3809880"/>
            <a:ext cx="7772400" cy="259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952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526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28800" y="42670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81080" y="38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46120" y="4724280"/>
            <a:ext cx="39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b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4800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52680" y="4800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055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46483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46120" y="5638680"/>
            <a:ext cx="395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b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60199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1080" y="5562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1219320"/>
            <a:ext cx="3429000" cy="5486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22860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429000" y="1600200"/>
            <a:ext cx="1752480" cy="914400"/>
            <a:chOff x="3429000" y="1600200"/>
            <a:chExt cx="1752480" cy="914400"/>
          </a:xfrm>
        </p:grpSpPr>
        <p:sp>
          <p:nvSpPr>
            <p:cNvPr id="243" name=""/>
            <p:cNvSpPr/>
            <p:nvPr/>
          </p:nvSpPr>
          <p:spPr>
            <a:xfrm>
              <a:off x="4724280" y="251460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9000" y="1600200"/>
              <a:ext cx="114300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762120" y="26668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2120" y="1905120"/>
            <a:ext cx="7315200" cy="3504960"/>
            <a:chOff x="762120" y="1905120"/>
            <a:chExt cx="7315200" cy="3504960"/>
          </a:xfrm>
        </p:grpSpPr>
        <p:sp>
          <p:nvSpPr>
            <p:cNvPr id="247" name=""/>
            <p:cNvSpPr/>
            <p:nvPr/>
          </p:nvSpPr>
          <p:spPr>
            <a:xfrm>
              <a:off x="5181480" y="21337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18148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9152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2120" y="190512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91520" y="21337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762120" y="2209680"/>
            <a:ext cx="7238880" cy="4483080"/>
            <a:chOff x="762120" y="2209680"/>
            <a:chExt cx="7238880" cy="4483080"/>
          </a:xfrm>
        </p:grpSpPr>
        <p:sp>
          <p:nvSpPr>
            <p:cNvPr id="253" name=""/>
            <p:cNvSpPr/>
            <p:nvPr/>
          </p:nvSpPr>
          <p:spPr>
            <a:xfrm>
              <a:off x="762120" y="617220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467480" y="220968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066680" y="4343400"/>
            <a:ext cx="6019920" cy="1066320"/>
            <a:chOff x="1066680" y="4343400"/>
            <a:chExt cx="6019920" cy="1066320"/>
          </a:xfrm>
        </p:grpSpPr>
        <p:grpSp>
          <p:nvGrpSpPr>
            <p:cNvPr id="256" name=""/>
            <p:cNvGrpSpPr/>
            <p:nvPr/>
          </p:nvGrpSpPr>
          <p:grpSpPr>
            <a:xfrm>
              <a:off x="5761080" y="4343400"/>
              <a:ext cx="1325520" cy="1066320"/>
              <a:chOff x="5761080" y="4343400"/>
              <a:chExt cx="1325520" cy="1066320"/>
            </a:xfrm>
          </p:grpSpPr>
          <p:sp>
            <p:nvSpPr>
              <p:cNvPr id="257" name=""/>
              <p:cNvSpPr/>
              <p:nvPr/>
            </p:nvSpPr>
            <p:spPr>
              <a:xfrm rot="5400000">
                <a:off x="5662080" y="4823280"/>
                <a:ext cx="685440" cy="48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019920" y="434340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R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1066680" y="457200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67320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143000" y="2787840"/>
            <a:ext cx="4647240" cy="1936800"/>
            <a:chOff x="1143000" y="2787840"/>
            <a:chExt cx="4647240" cy="1936800"/>
          </a:xfrm>
        </p:grpSpPr>
        <p:sp>
          <p:nvSpPr>
            <p:cNvPr id="261" name=""/>
            <p:cNvSpPr/>
            <p:nvPr/>
          </p:nvSpPr>
          <p:spPr>
            <a:xfrm>
              <a:off x="1143000" y="342900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57168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4191120" y="2787840"/>
              <a:ext cx="1599120" cy="1936800"/>
              <a:chOff x="4191120" y="2787840"/>
              <a:chExt cx="1599120" cy="1936800"/>
            </a:xfrm>
          </p:grpSpPr>
          <p:sp>
            <p:nvSpPr>
              <p:cNvPr id="263" name=""/>
              <p:cNvSpPr/>
              <p:nvPr/>
            </p:nvSpPr>
            <p:spPr>
              <a:xfrm flipH="1" rot="16200000">
                <a:off x="4516560" y="3451320"/>
                <a:ext cx="193680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304812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R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5" name=""/>
          <p:cNvGrpSpPr/>
          <p:nvPr/>
        </p:nvGrpSpPr>
        <p:grpSpPr>
          <a:xfrm>
            <a:off x="1066680" y="2787840"/>
            <a:ext cx="5715000" cy="1936800"/>
            <a:chOff x="1066680" y="2787840"/>
            <a:chExt cx="5715000" cy="1936800"/>
          </a:xfrm>
        </p:grpSpPr>
        <p:sp>
          <p:nvSpPr>
            <p:cNvPr id="266" name=""/>
            <p:cNvSpPr/>
            <p:nvPr/>
          </p:nvSpPr>
          <p:spPr>
            <a:xfrm>
              <a:off x="1066680" y="3809880"/>
              <a:ext cx="2667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67320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5334120" y="2787840"/>
              <a:ext cx="1447560" cy="1936800"/>
              <a:chOff x="5334120" y="2787840"/>
              <a:chExt cx="1447560" cy="1936800"/>
            </a:xfrm>
          </p:grpSpPr>
          <p:sp>
            <p:nvSpPr>
              <p:cNvPr id="268" name=""/>
              <p:cNvSpPr/>
              <p:nvPr/>
            </p:nvSpPr>
            <p:spPr>
              <a:xfrm rot="5400000">
                <a:off x="4593960" y="3527640"/>
                <a:ext cx="193680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715000" y="304812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R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0" name=""/>
          <p:cNvGrpSpPr/>
          <p:nvPr/>
        </p:nvGrpSpPr>
        <p:grpSpPr>
          <a:xfrm>
            <a:off x="990720" y="2818800"/>
            <a:ext cx="8001000" cy="3035880"/>
            <a:chOff x="990720" y="2818800"/>
            <a:chExt cx="8001000" cy="3035880"/>
          </a:xfrm>
        </p:grpSpPr>
        <p:sp>
          <p:nvSpPr>
            <p:cNvPr id="271" name=""/>
            <p:cNvSpPr/>
            <p:nvPr/>
          </p:nvSpPr>
          <p:spPr>
            <a:xfrm>
              <a:off x="990720" y="53341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7543440" y="2818800"/>
              <a:ext cx="1448280" cy="1936800"/>
              <a:chOff x="7543440" y="2818800"/>
              <a:chExt cx="1448280" cy="1936800"/>
            </a:xfrm>
          </p:grpSpPr>
          <p:sp>
            <p:nvSpPr>
              <p:cNvPr id="273" name=""/>
              <p:cNvSpPr/>
              <p:nvPr/>
            </p:nvSpPr>
            <p:spPr>
              <a:xfrm>
                <a:off x="7924680" y="3505320"/>
                <a:ext cx="106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 rot="16200000">
                <a:off x="6803280" y="3558600"/>
                <a:ext cx="193680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990720" y="2818800"/>
            <a:ext cx="6933240" cy="3416760"/>
            <a:chOff x="990720" y="2818800"/>
            <a:chExt cx="6933240" cy="3416760"/>
          </a:xfrm>
        </p:grpSpPr>
        <p:sp>
          <p:nvSpPr>
            <p:cNvPr id="276" name=""/>
            <p:cNvSpPr/>
            <p:nvPr/>
          </p:nvSpPr>
          <p:spPr>
            <a:xfrm>
              <a:off x="990720" y="571500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6477120" y="2818800"/>
              <a:ext cx="1446840" cy="1936800"/>
              <a:chOff x="6477120" y="2818800"/>
              <a:chExt cx="1446840" cy="1936800"/>
            </a:xfrm>
          </p:grpSpPr>
          <p:sp>
            <p:nvSpPr>
              <p:cNvPr id="278" name=""/>
              <p:cNvSpPr/>
              <p:nvPr/>
            </p:nvSpPr>
            <p:spPr>
              <a:xfrm flipH="1" flipV="1" rot="5400000">
                <a:off x="6726600" y="3558600"/>
                <a:ext cx="193680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477120" y="350532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0" name=""/>
          <p:cNvGrpSpPr/>
          <p:nvPr/>
        </p:nvGrpSpPr>
        <p:grpSpPr>
          <a:xfrm>
            <a:off x="990720" y="4952880"/>
            <a:ext cx="6705360" cy="609480"/>
            <a:chOff x="990720" y="4952880"/>
            <a:chExt cx="6705360" cy="609480"/>
          </a:xfrm>
        </p:grpSpPr>
        <p:sp>
          <p:nvSpPr>
            <p:cNvPr id="281" name=""/>
            <p:cNvSpPr/>
            <p:nvPr/>
          </p:nvSpPr>
          <p:spPr>
            <a:xfrm>
              <a:off x="990720" y="495288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5529600" y="5029200"/>
              <a:ext cx="2166480" cy="533160"/>
              <a:chOff x="5529600" y="5029200"/>
              <a:chExt cx="2166480" cy="533160"/>
            </a:xfrm>
          </p:grpSpPr>
          <p:sp>
            <p:nvSpPr>
              <p:cNvPr id="283" name=""/>
              <p:cNvSpPr/>
              <p:nvPr/>
            </p:nvSpPr>
            <p:spPr>
              <a:xfrm flipH="1" rot="10800000">
                <a:off x="5529240" y="5105520"/>
                <a:ext cx="201420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324480" y="5029200"/>
                <a:ext cx="1371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L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5" name=""/>
          <p:cNvGrpSpPr/>
          <p:nvPr/>
        </p:nvGrpSpPr>
        <p:grpSpPr>
          <a:xfrm>
            <a:off x="1066680" y="4191120"/>
            <a:ext cx="4221360" cy="1218600"/>
            <a:chOff x="1066680" y="4191120"/>
            <a:chExt cx="4221360" cy="1218600"/>
          </a:xfrm>
        </p:grpSpPr>
        <p:sp>
          <p:nvSpPr>
            <p:cNvPr id="286" name=""/>
            <p:cNvSpPr/>
            <p:nvPr/>
          </p:nvSpPr>
          <p:spPr>
            <a:xfrm>
              <a:off x="1066680" y="419112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67320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4114800" y="4343400"/>
              <a:ext cx="1173240" cy="1066320"/>
              <a:chOff x="4114800" y="4343400"/>
              <a:chExt cx="1173240" cy="1066320"/>
            </a:xfrm>
          </p:grpSpPr>
          <p:sp>
            <p:nvSpPr>
              <p:cNvPr id="288" name=""/>
              <p:cNvSpPr/>
              <p:nvPr/>
            </p:nvSpPr>
            <p:spPr>
              <a:xfrm flipH="1" rot="16200000">
                <a:off x="4701600" y="4823280"/>
                <a:ext cx="685440" cy="48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114800" y="434340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R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0" name=""/>
          <p:cNvGrpSpPr/>
          <p:nvPr/>
        </p:nvGrpSpPr>
        <p:grpSpPr>
          <a:xfrm>
            <a:off x="762120" y="1828800"/>
            <a:ext cx="6629400" cy="1739880"/>
            <a:chOff x="762120" y="1828800"/>
            <a:chExt cx="6629400" cy="1739880"/>
          </a:xfrm>
        </p:grpSpPr>
        <p:sp>
          <p:nvSpPr>
            <p:cNvPr id="291" name=""/>
            <p:cNvSpPr/>
            <p:nvPr/>
          </p:nvSpPr>
          <p:spPr>
            <a:xfrm>
              <a:off x="762120" y="304812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5841720" y="1828800"/>
              <a:ext cx="1549800" cy="761040"/>
              <a:chOff x="5841720" y="1828800"/>
              <a:chExt cx="1549800" cy="761040"/>
            </a:xfrm>
          </p:grpSpPr>
          <p:sp>
            <p:nvSpPr>
              <p:cNvPr id="293" name=""/>
              <p:cNvSpPr/>
              <p:nvPr/>
            </p:nvSpPr>
            <p:spPr>
              <a:xfrm>
                <a:off x="6019920" y="1828800"/>
                <a:ext cx="1371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 flipV="1" rot="10800000">
                <a:off x="5841360" y="2285280"/>
                <a:ext cx="15498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5880" y="26668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199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76920" y="2362320"/>
            <a:ext cx="914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181480" y="2438280"/>
            <a:ext cx="38124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91320" y="2438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248520" y="2438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400800" y="26668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244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05720" y="266688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2940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010280" y="26668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15200" y="2666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315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9343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1143000"/>
            <a:ext cx="44197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deletes a symbol before the first occurrence of 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251460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1851840" y="4823280"/>
            <a:ext cx="685440" cy="48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4343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7160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7672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371600" y="21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6720" y="21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52680" y="2209680"/>
            <a:ext cx="533520" cy="5335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9880" y="35812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5400000">
            <a:off x="783720" y="3527640"/>
            <a:ext cx="19368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rot="16200000">
            <a:off x="891720" y="4823280"/>
            <a:ext cx="685440" cy="48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4343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 rot="16200000">
            <a:off x="706680" y="3451320"/>
            <a:ext cx="19368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30481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05120" y="3048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 rot="16200000">
            <a:off x="2688480" y="3558600"/>
            <a:ext cx="19368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flipV="1" rot="5400000">
            <a:off x="2611800" y="3558600"/>
            <a:ext cx="19368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 rot="10800000">
            <a:off x="1724040" y="5105520"/>
            <a:ext cx="17046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62320" y="3581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133720" y="54864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09680" y="1828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 flipV="1" rot="10800000">
            <a:off x="2036520" y="2285280"/>
            <a:ext cx="12394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14800" y="18288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5800" y="137160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315200" y="29718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876920" y="2971800"/>
            <a:ext cx="2971800" cy="993240"/>
            <a:chOff x="4876920" y="2971800"/>
            <a:chExt cx="2971800" cy="993240"/>
          </a:xfrm>
        </p:grpSpPr>
        <p:sp>
          <p:nvSpPr>
            <p:cNvPr id="338" name=""/>
            <p:cNvSpPr/>
            <p:nvPr/>
          </p:nvSpPr>
          <p:spPr>
            <a:xfrm>
              <a:off x="7315200" y="3505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95880" y="35812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1992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76920" y="3276720"/>
              <a:ext cx="9144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81480" y="33526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791320" y="33526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553080" y="3352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00800" y="35812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3244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5720" y="358128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2940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010280" y="35812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15200" y="35812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15200" y="38862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93432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81480" y="29718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4876920" y="3886200"/>
            <a:ext cx="2971800" cy="993240"/>
            <a:chOff x="4876920" y="3886200"/>
            <a:chExt cx="2971800" cy="993240"/>
          </a:xfrm>
        </p:grpSpPr>
        <p:sp>
          <p:nvSpPr>
            <p:cNvPr id="355" name=""/>
            <p:cNvSpPr/>
            <p:nvPr/>
          </p:nvSpPr>
          <p:spPr>
            <a:xfrm>
              <a:off x="6095880" y="44956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019920" y="4419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76920" y="4191120"/>
              <a:ext cx="9144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181480" y="42670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791320" y="426708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58000" y="42670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400800" y="44956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324480" y="4419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705720" y="449568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629400" y="4419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10280" y="44956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315200" y="4495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31520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15200" y="4419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34320" y="4419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81480" y="38862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4876920" y="4800600"/>
            <a:ext cx="2971800" cy="993240"/>
            <a:chOff x="4876920" y="4800600"/>
            <a:chExt cx="2971800" cy="993240"/>
          </a:xfrm>
        </p:grpSpPr>
        <p:sp>
          <p:nvSpPr>
            <p:cNvPr id="372" name=""/>
            <p:cNvSpPr/>
            <p:nvPr/>
          </p:nvSpPr>
          <p:spPr>
            <a:xfrm>
              <a:off x="6095880" y="54100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01992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876920" y="5105520"/>
              <a:ext cx="9144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81480" y="51814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791320" y="51814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553080" y="51814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400800" y="54100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32448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705720" y="541008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62940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10280" y="54100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315200" y="54100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315200" y="57150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15200" y="5334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93432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181480" y="48006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876920" y="5715000"/>
            <a:ext cx="2971800" cy="993240"/>
            <a:chOff x="4876920" y="5715000"/>
            <a:chExt cx="2971800" cy="993240"/>
          </a:xfrm>
        </p:grpSpPr>
        <p:sp>
          <p:nvSpPr>
            <p:cNvPr id="389" name=""/>
            <p:cNvSpPr/>
            <p:nvPr/>
          </p:nvSpPr>
          <p:spPr>
            <a:xfrm>
              <a:off x="6095880" y="63244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019920" y="6248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876920" y="6019920"/>
              <a:ext cx="9144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81480" y="60958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791320" y="60958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553080" y="60958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00800" y="63244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324480" y="6248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705720" y="632448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629400" y="6248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010280" y="63244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315200" y="6324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315200" y="66294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315200" y="6248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34320" y="6248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57150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447920" y="3352680"/>
            <a:ext cx="53316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M 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nsta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neous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scription of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15238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What does a configuration describe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9480" y="1905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rent state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Ta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ents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Pos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49568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447920" y="2971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47920" y="31240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90920" y="3124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2120" y="502920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495288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figur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string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p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16200000">
            <a:off x="1409760" y="3009600"/>
            <a:ext cx="228600" cy="1676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78480 h 1676520"/>
              <a:gd name="textAreaBottom" fmla="*/ 159804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7"/>
                  <a:pt x="10800" y="3234"/>
                </a:cubicBezTo>
                <a:lnTo>
                  <a:pt x="10800" y="7566"/>
                </a:lnTo>
                <a:cubicBezTo>
                  <a:pt x="10800" y="9183"/>
                  <a:pt x="5400" y="10800"/>
                  <a:pt x="0" y="10800"/>
                </a:cubicBezTo>
                <a:cubicBezTo>
                  <a:pt x="5400" y="10800"/>
                  <a:pt x="10800" y="12417"/>
                  <a:pt x="10800" y="14034"/>
                </a:cubicBezTo>
                <a:lnTo>
                  <a:pt x="10800" y="18366"/>
                </a:lnTo>
                <a:cubicBezTo>
                  <a:pt x="10800" y="1998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2933640" y="3161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64080 h 1371600"/>
              <a:gd name="textAreaBottom" fmla="*/ 13075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7"/>
                  <a:pt x="10800" y="3234"/>
                </a:cubicBezTo>
                <a:lnTo>
                  <a:pt x="10800" y="7566"/>
                </a:lnTo>
                <a:cubicBezTo>
                  <a:pt x="10800" y="9183"/>
                  <a:pt x="5400" y="10800"/>
                  <a:pt x="0" y="10800"/>
                </a:cubicBezTo>
                <a:cubicBezTo>
                  <a:pt x="5400" y="10800"/>
                  <a:pt x="10800" y="12417"/>
                  <a:pt x="10800" y="14034"/>
                </a:cubicBezTo>
                <a:lnTo>
                  <a:pt x="10800" y="18366"/>
                </a:lnTo>
                <a:cubicBezTo>
                  <a:pt x="10800" y="1998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2362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90720" y="243828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251460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9810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0666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526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95680" y="37339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49568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0666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810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3526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1148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1148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8195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479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19520" y="3352680"/>
            <a:ext cx="53316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867280" y="3352680"/>
            <a:ext cx="53352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3059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638680" y="2971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638680" y="312408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772400" y="3124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rot="16200000">
            <a:off x="6210360" y="2628720"/>
            <a:ext cx="228600" cy="2438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4120 h 2438280"/>
              <a:gd name="textAreaBottom" fmla="*/ 232416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7"/>
                  <a:pt x="10800" y="3234"/>
                </a:cubicBezTo>
                <a:lnTo>
                  <a:pt x="10800" y="7566"/>
                </a:lnTo>
                <a:cubicBezTo>
                  <a:pt x="10800" y="9183"/>
                  <a:pt x="5400" y="10800"/>
                  <a:pt x="0" y="10800"/>
                </a:cubicBezTo>
                <a:cubicBezTo>
                  <a:pt x="5400" y="10800"/>
                  <a:pt x="10800" y="12417"/>
                  <a:pt x="10800" y="14034"/>
                </a:cubicBezTo>
                <a:lnTo>
                  <a:pt x="10800" y="18366"/>
                </a:lnTo>
                <a:cubicBezTo>
                  <a:pt x="10800" y="1998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rot="16200000">
            <a:off x="7619760" y="3657240"/>
            <a:ext cx="228600" cy="380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380880"/>
              <a:gd name="textAreaBottom" fmla="*/ 36324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7"/>
                  <a:pt x="10800" y="3234"/>
                </a:cubicBezTo>
                <a:lnTo>
                  <a:pt x="10800" y="7566"/>
                </a:lnTo>
                <a:cubicBezTo>
                  <a:pt x="10800" y="9183"/>
                  <a:pt x="5400" y="10800"/>
                  <a:pt x="0" y="10800"/>
                </a:cubicBezTo>
                <a:cubicBezTo>
                  <a:pt x="5400" y="10800"/>
                  <a:pt x="10800" y="12417"/>
                  <a:pt x="10800" y="14034"/>
                </a:cubicBezTo>
                <a:lnTo>
                  <a:pt x="10800" y="18366"/>
                </a:lnTo>
                <a:cubicBezTo>
                  <a:pt x="10800" y="1998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0552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10552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86400" y="243828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715000" y="251460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4864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4008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305920" y="37339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30592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8640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0080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7816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78168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6728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16292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16292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5438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5438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9246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92468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362320" y="3352680"/>
            <a:ext cx="45720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86000" y="3276720"/>
            <a:ext cx="68580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81952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958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54380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02920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71800" y="42670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tio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6212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73392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73392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ationary 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5800" y="1219320"/>
            <a:ext cx="7772400" cy="23619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1143000"/>
            <a:ext cx="807732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be two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tationar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imply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if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3048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48006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733920" y="4800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733920" y="5029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905120" y="48006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209680" y="4800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209680" y="5029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819520" y="480060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429000" y="4800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429000" y="5029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514600" y="4800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2514600" y="5029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74320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13372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3526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62120" y="4495680"/>
            <a:ext cx="76176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990720" y="457200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523880" y="4572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971800" y="4572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19520" y="4800600"/>
            <a:ext cx="0" cy="304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09480" y="350532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276720" y="40384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352680" y="5562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3962520" y="55627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3962520" y="57909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00200" y="5562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1905120" y="55627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1905120" y="57909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048120" y="55627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3657600" y="55627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3657600" y="57909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2209320" y="5562720"/>
            <a:ext cx="18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2209680" y="5790960"/>
            <a:ext cx="18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97180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82880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58128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590920" y="55627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590920" y="5105520"/>
            <a:ext cx="228600" cy="53316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2818800" y="5181480"/>
            <a:ext cx="152280" cy="45720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5400000">
            <a:off x="2857320" y="4609800"/>
            <a:ext cx="152280" cy="2819520"/>
          </a:xfrm>
          <a:custGeom>
            <a:avLst/>
            <a:gdLst>
              <a:gd name="textAreaLeft" fmla="*/ 0 w 152280"/>
              <a:gd name="textAreaRight" fmla="*/ 55080 w 15228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828800" y="6019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419720" y="4572000"/>
            <a:ext cx="4419360" cy="1983600"/>
            <a:chOff x="4419720" y="4572000"/>
            <a:chExt cx="4419360" cy="1983600"/>
          </a:xfrm>
        </p:grpSpPr>
        <p:sp>
          <p:nvSpPr>
            <p:cNvPr id="523" name=""/>
            <p:cNvSpPr/>
            <p:nvPr/>
          </p:nvSpPr>
          <p:spPr>
            <a:xfrm>
              <a:off x="4419720" y="4724280"/>
              <a:ext cx="685800" cy="12193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620120" y="48769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229600" y="48769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8229600" y="51051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400800" y="48769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705720" y="48769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6705720" y="51051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15200" y="48769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924680" y="48769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7924680" y="51051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010280" y="48769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7010280" y="51051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238880" y="4800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629400" y="4800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848720" y="4800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57800" y="4572000"/>
              <a:ext cx="76212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86400" y="46483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019920" y="464832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467480" y="46483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315200" y="48769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848720" y="56386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8458200" y="5638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8458200" y="58672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095880" y="56386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6400800" y="5638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6400800" y="58672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543800" y="5638680"/>
              <a:ext cx="30492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8152920" y="5638680"/>
              <a:ext cx="180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8153280" y="5867280"/>
              <a:ext cx="180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6705720" y="5638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6705720" y="58672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4674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244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07732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086600" y="5638680"/>
              <a:ext cx="38088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600" y="5181480"/>
              <a:ext cx="228600" cy="53352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7314480" y="5257800"/>
              <a:ext cx="152280" cy="4572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5400000">
              <a:off x="7353000" y="4686480"/>
              <a:ext cx="152280" cy="2819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3440 h 2819160"/>
                <a:gd name="textAreaBottom" fmla="*/ 2745720 h 281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019920" y="609588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8-10T14:23:41Z</dcterms:modified>
  <cp:revision>245</cp:revision>
  <dc:subject/>
  <dc:title>Beyond the Context-Free Languages</dc:title>
</cp:coreProperties>
</file>