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9F94-2754-4D49-B198-19AA8F2BD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2F6F-3EE9-4F4A-8C1E-A6B4722E4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704E-6021-49A9-91F9-38133FEC1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565E-57E6-4A31-9818-3E165B794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64C8-5FE2-41F7-AC2E-1001266E8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9297-F19C-49F2-A959-5B06B046B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CF0F-9283-471A-B04F-C460CE067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307F-FD0E-4A7B-89ED-AFE3C2F19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3A13-F06A-47E9-BE10-F8F0FDFC5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1AEA-9DAB-4DE1-AE2C-14F0AA871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D298-A83A-4135-B393-04EA09B80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184C-87BF-40A2-BF90-619E8AF2E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2236C-D62E-4F13-91CE-633B6C428AE1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10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Part IV.</a:t>
            </a:r>
            <a:br>
              <a:rPr sz="6000"/>
            </a:b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Vari</a:t>
            </a: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ants</a:t>
            </a: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 of</a:t>
            </a: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 Finite Automat</a:t>
            </a: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685800" y="1600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85800" y="1523880"/>
            <a:ext cx="7772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F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-free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F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85800" y="2438280"/>
            <a:ext cx="8001000" cy="31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 :=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for all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do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 :=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{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q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-closure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 := {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-closure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}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: FA to </a:t>
            </a: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free F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Skip all </a:t>
            </a:r>
            <a:r>
              <a:rPr b="1" lang="en-GB" sz="32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mo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685800" y="5562720"/>
            <a:ext cx="6934320" cy="1066680"/>
            <a:chOff x="685800" y="5562720"/>
            <a:chExt cx="6934320" cy="1066680"/>
          </a:xfrm>
        </p:grpSpPr>
        <p:sp>
          <p:nvSpPr>
            <p:cNvPr id="282" name=""/>
            <p:cNvSpPr/>
            <p:nvPr/>
          </p:nvSpPr>
          <p:spPr>
            <a:xfrm>
              <a:off x="2895480" y="5562720"/>
              <a:ext cx="3048120" cy="106668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124080" y="579132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724280" y="58672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553080" y="58672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257800" y="6095880"/>
              <a:ext cx="129528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019920" y="556272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>
              <a:off x="3657600" y="5867280"/>
              <a:ext cx="3808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581280" y="55627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362320" y="586728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086600" y="5943600"/>
              <a:ext cx="533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657600" y="6172200"/>
              <a:ext cx="3808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343400" y="6019920"/>
              <a:ext cx="38088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flipV="1">
              <a:off x="4419720" y="6248160"/>
              <a:ext cx="30456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886200" y="5638680"/>
              <a:ext cx="533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657600" y="5867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267080" y="5943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343400" y="56386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5257800" y="5867280"/>
              <a:ext cx="3808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181480" y="55627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257800" y="6248520"/>
              <a:ext cx="4572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334120" y="5943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85800" y="5562720"/>
              <a:ext cx="1905120" cy="48996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-closure(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5791320"/>
              <a:ext cx="30456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3108240" y="4876920"/>
            <a:ext cx="4035240" cy="1982160"/>
            <a:chOff x="3108240" y="4876920"/>
            <a:chExt cx="4035240" cy="1982160"/>
          </a:xfrm>
        </p:grpSpPr>
        <p:sp>
          <p:nvSpPr>
            <p:cNvPr id="306" name=""/>
            <p:cNvSpPr/>
            <p:nvPr/>
          </p:nvSpPr>
          <p:spPr>
            <a:xfrm flipH="1">
              <a:off x="3107880" y="4876920"/>
              <a:ext cx="403524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068" y="17748"/>
                  </a:moveTo>
                  <a:arcTo wR="10800" hR="10800" stAng="2402385" swAng="5886570"/>
                  <a:lnTo>
                    <a:pt x="10800" y="10800"/>
                  </a:lnTo>
                  <a:close/>
                </a:path>
                <a:path fill="none" w="21600" h="21600">
                  <a:moveTo>
                    <a:pt x="19068" y="17748"/>
                  </a:moveTo>
                  <a:arcTo wR="10800" hR="10800" stAng="2402385" swAng="5886570"/>
                </a:path>
              </a:pathLst>
            </a:custGeom>
            <a:noFill/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095880" y="621648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685800" y="1219320"/>
            <a:ext cx="7848720" cy="19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, 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 =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85800" y="3048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609480" y="3048120"/>
            <a:ext cx="8534520" cy="2865600"/>
            <a:chOff x="609480" y="3048120"/>
            <a:chExt cx="8534520" cy="2865600"/>
          </a:xfrm>
        </p:grpSpPr>
        <p:sp>
          <p:nvSpPr>
            <p:cNvPr id="312" name=""/>
            <p:cNvSpPr/>
            <p:nvPr/>
          </p:nvSpPr>
          <p:spPr>
            <a:xfrm>
              <a:off x="609480" y="3048120"/>
              <a:ext cx="76964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1) for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-closure(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85800" y="3657600"/>
              <a:ext cx="807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.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,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 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85800" y="4191120"/>
              <a:ext cx="84582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B.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,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85800" y="4724280"/>
              <a:ext cx="8305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.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,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62120" y="5334120"/>
              <a:ext cx="8229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{</a:t>
              </a:r>
              <a:r>
                <a:rPr b="1" i="1" lang="cs-CZ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339933"/>
                  </a:solidFill>
                  <a:latin typeface="Times New Roman"/>
                </a:rPr>
                <a:t>,</a:t>
              </a:r>
              <a:r>
                <a:rPr b="1" lang="en-US" sz="2800" spc="-1" strike="noStrike" baseline="-25000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A to </a:t>
            </a: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free FA: Example 1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9" name=""/>
          <p:cNvGrpSpPr/>
          <p:nvPr/>
        </p:nvGrpSpPr>
        <p:grpSpPr>
          <a:xfrm>
            <a:off x="609480" y="1066680"/>
            <a:ext cx="8229600" cy="1570320"/>
            <a:chOff x="609480" y="1066680"/>
            <a:chExt cx="8229600" cy="1570320"/>
          </a:xfrm>
        </p:grpSpPr>
        <p:sp>
          <p:nvSpPr>
            <p:cNvPr id="320" name=""/>
            <p:cNvSpPr/>
            <p:nvPr/>
          </p:nvSpPr>
          <p:spPr>
            <a:xfrm>
              <a:off x="609480" y="1066680"/>
              <a:ext cx="67820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2) for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1" lang="cs-CZ" sz="32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-closure(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1" lang="cs-CZ" sz="32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09480" y="1600200"/>
              <a:ext cx="8229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;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;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09480" y="2057400"/>
              <a:ext cx="6858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{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85800" y="259092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609480" y="2590920"/>
            <a:ext cx="7848720" cy="1569960"/>
            <a:chOff x="609480" y="2590920"/>
            <a:chExt cx="7848720" cy="1569960"/>
          </a:xfrm>
        </p:grpSpPr>
        <p:sp>
          <p:nvSpPr>
            <p:cNvPr id="325" name=""/>
            <p:cNvSpPr/>
            <p:nvPr/>
          </p:nvSpPr>
          <p:spPr>
            <a:xfrm>
              <a:off x="609480" y="2590920"/>
              <a:ext cx="73152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3) for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1" lang="cs-CZ" sz="32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-closure(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1" lang="cs-CZ" sz="32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09480" y="3124080"/>
              <a:ext cx="76964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.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;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;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09480" y="3581280"/>
              <a:ext cx="6858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{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85800" y="41148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609480" y="4114800"/>
            <a:ext cx="8077320" cy="1447920"/>
            <a:chOff x="609480" y="4114800"/>
            <a:chExt cx="8077320" cy="1447920"/>
          </a:xfrm>
        </p:grpSpPr>
        <p:sp>
          <p:nvSpPr>
            <p:cNvPr id="330" name=""/>
            <p:cNvSpPr/>
            <p:nvPr/>
          </p:nvSpPr>
          <p:spPr>
            <a:xfrm>
              <a:off x="609480" y="4114800"/>
              <a:ext cx="7010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4) for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f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-closure(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f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9480" y="4648320"/>
              <a:ext cx="807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;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;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cs-CZ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09480" y="5029200"/>
              <a:ext cx="685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{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f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85800" y="556272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609480" y="5486400"/>
            <a:ext cx="7848720" cy="960480"/>
            <a:chOff x="609480" y="5486400"/>
            <a:chExt cx="7848720" cy="960480"/>
          </a:xfrm>
        </p:grpSpPr>
        <p:sp>
          <p:nvSpPr>
            <p:cNvPr id="335" name=""/>
            <p:cNvSpPr/>
            <p:nvPr/>
          </p:nvSpPr>
          <p:spPr>
            <a:xfrm>
              <a:off x="609480" y="5486400"/>
              <a:ext cx="7848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219320" y="5867280"/>
              <a:ext cx="6858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 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f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A to </a:t>
            </a: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free FA: Example 2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457200" y="1066680"/>
            <a:ext cx="7315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-closure(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57200" y="1447920"/>
            <a:ext cx="7315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-closure(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57200" y="1828800"/>
            <a:ext cx="7315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-closure(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57200" y="220968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-closure(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f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= 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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85800" y="2819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315200" y="12193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467480" y="175248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 = {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609480" y="2936880"/>
            <a:ext cx="7620120" cy="3679560"/>
            <a:chOff x="609480" y="2936880"/>
            <a:chExt cx="7620120" cy="3679560"/>
          </a:xfrm>
        </p:grpSpPr>
        <p:sp>
          <p:nvSpPr>
            <p:cNvPr id="347" name=""/>
            <p:cNvSpPr/>
            <p:nvPr/>
          </p:nvSpPr>
          <p:spPr>
            <a:xfrm>
              <a:off x="2133720" y="403848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066680" y="40384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09480" y="4267080"/>
              <a:ext cx="457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09680" y="304812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200400" y="39625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2" name=""/>
            <p:cNvGrpSpPr/>
            <p:nvPr/>
          </p:nvGrpSpPr>
          <p:grpSpPr>
            <a:xfrm>
              <a:off x="1600200" y="3809880"/>
              <a:ext cx="533520" cy="520560"/>
              <a:chOff x="1600200" y="3809880"/>
              <a:chExt cx="533520" cy="520560"/>
            </a:xfrm>
          </p:grpSpPr>
          <p:sp>
            <p:nvSpPr>
              <p:cNvPr id="353" name=""/>
              <p:cNvSpPr/>
              <p:nvPr/>
            </p:nvSpPr>
            <p:spPr>
              <a:xfrm>
                <a:off x="1697040" y="3809880"/>
                <a:ext cx="242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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1600200" y="4267080"/>
                <a:ext cx="533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5" name=""/>
            <p:cNvSpPr/>
            <p:nvPr/>
          </p:nvSpPr>
          <p:spPr>
            <a:xfrm>
              <a:off x="2666880" y="449568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676520" y="449568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371600" y="4572000"/>
              <a:ext cx="76212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2666880" y="4572000"/>
              <a:ext cx="60984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286000" y="54864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276720" y="4038480"/>
              <a:ext cx="53316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990720" y="354024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143000" y="3048120"/>
              <a:ext cx="24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057400" y="350532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133720" y="495288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352680" y="297180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6" name=""/>
            <p:cNvGrpSpPr/>
            <p:nvPr/>
          </p:nvGrpSpPr>
          <p:grpSpPr>
            <a:xfrm>
              <a:off x="2666880" y="3809880"/>
              <a:ext cx="533520" cy="520560"/>
              <a:chOff x="2666880" y="3809880"/>
              <a:chExt cx="533520" cy="520560"/>
            </a:xfrm>
          </p:grpSpPr>
          <p:sp>
            <p:nvSpPr>
              <p:cNvPr id="367" name=""/>
              <p:cNvSpPr/>
              <p:nvPr/>
            </p:nvSpPr>
            <p:spPr>
              <a:xfrm>
                <a:off x="2763720" y="3809880"/>
                <a:ext cx="242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2666880" y="4267080"/>
                <a:ext cx="533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9" name=""/>
            <p:cNvSpPr/>
            <p:nvPr/>
          </p:nvSpPr>
          <p:spPr>
            <a:xfrm>
              <a:off x="3200400" y="342900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2057400" y="5370840"/>
              <a:ext cx="685440" cy="61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477120" y="400356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410080" y="400356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952880" y="4232160"/>
              <a:ext cx="457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553080" y="301320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543800" y="392760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6" name=""/>
            <p:cNvGrpSpPr/>
            <p:nvPr/>
          </p:nvGrpSpPr>
          <p:grpSpPr>
            <a:xfrm>
              <a:off x="5943600" y="3774960"/>
              <a:ext cx="533520" cy="520560"/>
              <a:chOff x="5943600" y="3774960"/>
              <a:chExt cx="533520" cy="520560"/>
            </a:xfrm>
          </p:grpSpPr>
          <p:sp>
            <p:nvSpPr>
              <p:cNvPr id="377" name=""/>
              <p:cNvSpPr/>
              <p:nvPr/>
            </p:nvSpPr>
            <p:spPr>
              <a:xfrm>
                <a:off x="6040440" y="3774960"/>
                <a:ext cx="242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943600" y="4232160"/>
                <a:ext cx="533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9" name=""/>
            <p:cNvSpPr/>
            <p:nvPr/>
          </p:nvSpPr>
          <p:spPr>
            <a:xfrm>
              <a:off x="6019920" y="54864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705720" y="609588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620120" y="4003560"/>
              <a:ext cx="53316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334120" y="350532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486400" y="3013200"/>
              <a:ext cx="24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400800" y="347040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553080" y="556272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696080" y="293688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7" name=""/>
            <p:cNvGrpSpPr/>
            <p:nvPr/>
          </p:nvGrpSpPr>
          <p:grpSpPr>
            <a:xfrm>
              <a:off x="7010280" y="3774960"/>
              <a:ext cx="533520" cy="520560"/>
              <a:chOff x="7010280" y="3774960"/>
              <a:chExt cx="533520" cy="520560"/>
            </a:xfrm>
          </p:grpSpPr>
          <p:sp>
            <p:nvSpPr>
              <p:cNvPr id="388" name=""/>
              <p:cNvSpPr/>
              <p:nvPr/>
            </p:nvSpPr>
            <p:spPr>
              <a:xfrm>
                <a:off x="7107120" y="3774960"/>
                <a:ext cx="242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7010280" y="4232160"/>
                <a:ext cx="533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0" name=""/>
            <p:cNvSpPr/>
            <p:nvPr/>
          </p:nvSpPr>
          <p:spPr>
            <a:xfrm>
              <a:off x="7543800" y="339408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V="1">
              <a:off x="6477120" y="598140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791320" y="4495680"/>
              <a:ext cx="1904760" cy="457200"/>
            </a:xfrm>
            <a:custGeom>
              <a:avLst/>
              <a:gdLst/>
              <a:ahLst/>
              <a:rect l="l" t="t" r="r" b="b"/>
              <a:pathLst>
                <a:path w="1152" h="192">
                  <a:moveTo>
                    <a:pt x="0" y="0"/>
                  </a:moveTo>
                  <a:cubicBezTo>
                    <a:pt x="216" y="96"/>
                    <a:pt x="432" y="192"/>
                    <a:pt x="624" y="192"/>
                  </a:cubicBezTo>
                  <a:cubicBezTo>
                    <a:pt x="816" y="192"/>
                    <a:pt x="1056" y="40"/>
                    <a:pt x="1152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553080" y="449568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715000" y="4572000"/>
              <a:ext cx="2057400" cy="838080"/>
            </a:xfrm>
            <a:custGeom>
              <a:avLst/>
              <a:gdLst/>
              <a:ahLst/>
              <a:rect l="l" t="t" r="r" b="b"/>
              <a:pathLst>
                <a:path w="1152" h="192">
                  <a:moveTo>
                    <a:pt x="0" y="0"/>
                  </a:moveTo>
                  <a:cubicBezTo>
                    <a:pt x="216" y="96"/>
                    <a:pt x="432" y="192"/>
                    <a:pt x="624" y="192"/>
                  </a:cubicBezTo>
                  <a:cubicBezTo>
                    <a:pt x="816" y="192"/>
                    <a:pt x="1056" y="40"/>
                    <a:pt x="1152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629400" y="495288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V="1">
              <a:off x="5562720" y="4494960"/>
              <a:ext cx="990360" cy="16002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H="1" flipV="1">
              <a:off x="7086600" y="4571280"/>
              <a:ext cx="990720" cy="16002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238880" y="556272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657600" y="4800600"/>
              <a:ext cx="1676520" cy="533520"/>
            </a:xfrm>
            <a:prstGeom prst="rightArrow">
              <a:avLst>
                <a:gd name="adj1" fmla="val 50000"/>
                <a:gd name="adj2" fmla="val 78559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A to </a:t>
            </a: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free FA: Example 3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free FA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DFA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/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676520" y="1066680"/>
            <a:ext cx="70866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In DFA, make states from all subsets of states in </a:t>
            </a:r>
            <a:r>
              <a:rPr b="1" lang="en-GB" sz="30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-free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FA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and move between them so that all possible states of </a:t>
            </a:r>
            <a:r>
              <a:rPr b="1" lang="en-GB" sz="30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-free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FA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are </a:t>
            </a:r>
            <a:r>
              <a:rPr b="1" lang="en-US" sz="3000" spc="-1" strike="noStrike" u="sng">
                <a:solidFill>
                  <a:srgbClr val="ff0000"/>
                </a:solidFill>
                <a:uFillTx/>
                <a:latin typeface="Times New Roman"/>
              </a:rPr>
              <a:t>simultaneously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simulated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85800" y="2971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380880" y="2895480"/>
            <a:ext cx="8305920" cy="3678120"/>
            <a:chOff x="380880" y="2895480"/>
            <a:chExt cx="8305920" cy="3678120"/>
          </a:xfrm>
        </p:grpSpPr>
        <p:sp>
          <p:nvSpPr>
            <p:cNvPr id="407" name=""/>
            <p:cNvSpPr/>
            <p:nvPr/>
          </p:nvSpPr>
          <p:spPr>
            <a:xfrm>
              <a:off x="1905120" y="421164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838080" y="42670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80880" y="4495680"/>
              <a:ext cx="457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981080" y="327672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971800" y="41911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71600" y="4059360"/>
              <a:ext cx="2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371600" y="449568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447920" y="543096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600200" y="604044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048120" y="4267080"/>
              <a:ext cx="533160" cy="53352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62120" y="376884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914400" y="3276720"/>
              <a:ext cx="24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828800" y="373392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981080" y="558324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124080" y="320040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535120" y="4038480"/>
              <a:ext cx="2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438280" y="449568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971800" y="365760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>
              <a:off x="1905120" y="6004800"/>
              <a:ext cx="685440" cy="568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219320" y="4694400"/>
              <a:ext cx="1790640" cy="379080"/>
            </a:xfrm>
            <a:custGeom>
              <a:avLst/>
              <a:gdLst/>
              <a:ahLst/>
              <a:rect l="l" t="t" r="r" b="b"/>
              <a:pathLst>
                <a:path w="1128" h="239">
                  <a:moveTo>
                    <a:pt x="0" y="41"/>
                  </a:moveTo>
                  <a:cubicBezTo>
                    <a:pt x="108" y="73"/>
                    <a:pt x="460" y="239"/>
                    <a:pt x="648" y="232"/>
                  </a:cubicBezTo>
                  <a:cubicBezTo>
                    <a:pt x="836" y="225"/>
                    <a:pt x="1028" y="48"/>
                    <a:pt x="1128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362320" y="451656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143000" y="4835520"/>
              <a:ext cx="2057400" cy="671400"/>
            </a:xfrm>
            <a:custGeom>
              <a:avLst/>
              <a:gdLst/>
              <a:ahLst/>
              <a:rect l="l" t="t" r="r" b="b"/>
              <a:pathLst>
                <a:path w="1152" h="192">
                  <a:moveTo>
                    <a:pt x="0" y="0"/>
                  </a:moveTo>
                  <a:cubicBezTo>
                    <a:pt x="216" y="96"/>
                    <a:pt x="432" y="192"/>
                    <a:pt x="624" y="192"/>
                  </a:cubicBezTo>
                  <a:cubicBezTo>
                    <a:pt x="816" y="192"/>
                    <a:pt x="1056" y="40"/>
                    <a:pt x="1152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438280" y="482112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V="1">
              <a:off x="990720" y="4758480"/>
              <a:ext cx="990360" cy="128124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514600" y="4846680"/>
              <a:ext cx="851040" cy="1103400"/>
            </a:xfrm>
            <a:custGeom>
              <a:avLst/>
              <a:gdLst/>
              <a:ahLst/>
              <a:rect l="l" t="t" r="r" b="b"/>
              <a:pathLst>
                <a:path w="536" h="695">
                  <a:moveTo>
                    <a:pt x="536" y="0"/>
                  </a:moveTo>
                  <a:cubicBezTo>
                    <a:pt x="492" y="98"/>
                    <a:pt x="361" y="479"/>
                    <a:pt x="272" y="587"/>
                  </a:cubicBezTo>
                  <a:cubicBezTo>
                    <a:pt x="183" y="695"/>
                    <a:pt x="57" y="636"/>
                    <a:pt x="0" y="649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590920" y="541008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09480" y="2895480"/>
              <a:ext cx="2286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Illustration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809880" y="2971800"/>
              <a:ext cx="4876920" cy="175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i="1" lang="cs-CZ" sz="2400" spc="-1" strike="noStrike" baseline="-25000">
                  <a:solidFill>
                    <a:srgbClr val="000000"/>
                  </a:solidFill>
                  <a:latin typeface="Times New Roman"/>
                </a:rPr>
                <a:t>DFA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5" name=""/>
          <p:cNvGrpSpPr/>
          <p:nvPr/>
        </p:nvGrpSpPr>
        <p:grpSpPr>
          <a:xfrm>
            <a:off x="1102320" y="3942000"/>
            <a:ext cx="5831640" cy="1460880"/>
            <a:chOff x="1102320" y="3942000"/>
            <a:chExt cx="5831640" cy="1460880"/>
          </a:xfrm>
        </p:grpSpPr>
        <p:sp>
          <p:nvSpPr>
            <p:cNvPr id="436" name=""/>
            <p:cNvSpPr/>
            <p:nvPr/>
          </p:nvSpPr>
          <p:spPr>
            <a:xfrm>
              <a:off x="6477120" y="4952880"/>
              <a:ext cx="456840" cy="450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553080" y="4495680"/>
              <a:ext cx="24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rot="20482200">
              <a:off x="3429000" y="3982680"/>
              <a:ext cx="304920" cy="304920"/>
            </a:xfrm>
            <a:prstGeom prst="triangle">
              <a:avLst>
                <a:gd name="adj" fmla="val 50000"/>
              </a:avLst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rot="20482200">
              <a:off x="1142640" y="4059000"/>
              <a:ext cx="304920" cy="304560"/>
            </a:xfrm>
            <a:prstGeom prst="triangle">
              <a:avLst>
                <a:gd name="adj" fmla="val 50000"/>
              </a:avLst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0" name=""/>
          <p:cNvGrpSpPr/>
          <p:nvPr/>
        </p:nvGrpSpPr>
        <p:grpSpPr>
          <a:xfrm>
            <a:off x="1693080" y="4685760"/>
            <a:ext cx="7222320" cy="1762920"/>
            <a:chOff x="1693080" y="4685760"/>
            <a:chExt cx="7222320" cy="1762920"/>
          </a:xfrm>
        </p:grpSpPr>
        <p:sp>
          <p:nvSpPr>
            <p:cNvPr id="441" name=""/>
            <p:cNvSpPr/>
            <p:nvPr/>
          </p:nvSpPr>
          <p:spPr>
            <a:xfrm>
              <a:off x="7086600" y="5837400"/>
              <a:ext cx="241200" cy="260280"/>
            </a:xfrm>
            <a:custGeom>
              <a:avLst/>
              <a:gdLst/>
              <a:ahLst/>
              <a:rect l="l" t="t" r="r" b="b"/>
              <a:pathLst>
                <a:path w="424" h="193">
                  <a:moveTo>
                    <a:pt x="0" y="0"/>
                  </a:moveTo>
                  <a:cubicBezTo>
                    <a:pt x="33" y="26"/>
                    <a:pt x="126" y="137"/>
                    <a:pt x="197" y="165"/>
                  </a:cubicBezTo>
                  <a:cubicBezTo>
                    <a:pt x="268" y="193"/>
                    <a:pt x="386" y="185"/>
                    <a:pt x="424" y="165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858000" y="57913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315200" y="5715000"/>
              <a:ext cx="114300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8229600" y="58672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rot="3378000">
              <a:off x="1752120" y="5735160"/>
              <a:ext cx="304920" cy="304920"/>
            </a:xfrm>
            <a:prstGeom prst="triangle">
              <a:avLst>
                <a:gd name="adj" fmla="val 50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rot="2061600">
              <a:off x="2971440" y="4745160"/>
              <a:ext cx="304920" cy="304560"/>
            </a:xfrm>
            <a:prstGeom prst="triangle">
              <a:avLst>
                <a:gd name="adj" fmla="val 50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7" name=""/>
          <p:cNvGrpSpPr/>
          <p:nvPr/>
        </p:nvGrpSpPr>
        <p:grpSpPr>
          <a:xfrm>
            <a:off x="1548000" y="4235760"/>
            <a:ext cx="7367400" cy="1527120"/>
            <a:chOff x="1548000" y="4235760"/>
            <a:chExt cx="7367400" cy="1527120"/>
          </a:xfrm>
        </p:grpSpPr>
        <p:sp>
          <p:nvSpPr>
            <p:cNvPr id="448" name=""/>
            <p:cNvSpPr/>
            <p:nvPr/>
          </p:nvSpPr>
          <p:spPr>
            <a:xfrm>
              <a:off x="7315200" y="5029200"/>
              <a:ext cx="114300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010280" y="48006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229600" y="51814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rot="19989600">
              <a:off x="1600200" y="4287960"/>
              <a:ext cx="304920" cy="30456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rot="3142800">
              <a:off x="2819520" y="4516560"/>
              <a:ext cx="304560" cy="30456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V="1">
              <a:off x="7086600" y="5226840"/>
              <a:ext cx="241200" cy="260280"/>
            </a:xfrm>
            <a:custGeom>
              <a:avLst/>
              <a:gdLst/>
              <a:ahLst/>
              <a:rect l="l" t="t" r="r" b="b"/>
              <a:pathLst>
                <a:path w="424" h="193">
                  <a:moveTo>
                    <a:pt x="0" y="0"/>
                  </a:moveTo>
                  <a:cubicBezTo>
                    <a:pt x="33" y="26"/>
                    <a:pt x="126" y="137"/>
                    <a:pt x="197" y="165"/>
                  </a:cubicBezTo>
                  <a:cubicBezTo>
                    <a:pt x="268" y="193"/>
                    <a:pt x="386" y="185"/>
                    <a:pt x="424" y="165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4" name=""/>
          <p:cNvGrpSpPr/>
          <p:nvPr/>
        </p:nvGrpSpPr>
        <p:grpSpPr>
          <a:xfrm>
            <a:off x="3809880" y="4495680"/>
            <a:ext cx="4267440" cy="2256120"/>
            <a:chOff x="3809880" y="4495680"/>
            <a:chExt cx="4267440" cy="2256120"/>
          </a:xfrm>
        </p:grpSpPr>
        <p:sp>
          <p:nvSpPr>
            <p:cNvPr id="455" name=""/>
            <p:cNvSpPr/>
            <p:nvPr/>
          </p:nvSpPr>
          <p:spPr>
            <a:xfrm>
              <a:off x="3809880" y="5334120"/>
              <a:ext cx="2743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For state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248520" y="5334120"/>
              <a:ext cx="91440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809880" y="4495680"/>
              <a:ext cx="2895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For state {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: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 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rot="5400000">
              <a:off x="4365000" y="492912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5400000">
              <a:off x="4365000" y="576720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809880" y="6172200"/>
              <a:ext cx="42674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For state {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: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 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685800" y="1143000"/>
            <a:ext cx="777240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-free FA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DFA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8580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85800" y="2362320"/>
            <a:ext cx="8305920" cy="43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};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o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beg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’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p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’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then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= 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’}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free FA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DFA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/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685800" y="1143000"/>
            <a:ext cx="7848720" cy="19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, 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 =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85800" y="2971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85800" y="3886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57200" y="2971800"/>
            <a:ext cx="853452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09480" y="38862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362320" y="472428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V="1">
            <a:off x="2362320" y="5219280"/>
            <a:ext cx="4568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438280" y="5257800"/>
            <a:ext cx="24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429000" y="41148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657600" y="47242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666880" y="40384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flipV="1">
            <a:off x="2819520" y="5181480"/>
            <a:ext cx="609480" cy="5335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895480" y="449568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819520" y="4267080"/>
            <a:ext cx="609480" cy="5335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429000" y="53341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895480" y="50292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971800" y="510552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962520" y="42670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4038480" y="50292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828800" y="46483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791320" y="4648320"/>
            <a:ext cx="609480" cy="60948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257800" y="46483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9" name=""/>
          <p:cNvGrpSpPr/>
          <p:nvPr/>
        </p:nvGrpSpPr>
        <p:grpSpPr>
          <a:xfrm>
            <a:off x="1279800" y="5049720"/>
            <a:ext cx="5044320" cy="1025280"/>
            <a:chOff x="1279800" y="5049720"/>
            <a:chExt cx="5044320" cy="1025280"/>
          </a:xfrm>
        </p:grpSpPr>
        <p:sp>
          <p:nvSpPr>
            <p:cNvPr id="490" name=""/>
            <p:cNvSpPr/>
            <p:nvPr/>
          </p:nvSpPr>
          <p:spPr>
            <a:xfrm flipV="1">
              <a:off x="5867280" y="5219280"/>
              <a:ext cx="4568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943600" y="5257800"/>
              <a:ext cx="24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rot="19488600">
              <a:off x="1371600" y="525744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3" name=""/>
          <p:cNvGrpSpPr/>
          <p:nvPr/>
        </p:nvGrpSpPr>
        <p:grpSpPr>
          <a:xfrm>
            <a:off x="1143000" y="3962520"/>
            <a:ext cx="7467480" cy="2057400"/>
            <a:chOff x="1143000" y="3962520"/>
            <a:chExt cx="7467480" cy="2057400"/>
          </a:xfrm>
        </p:grpSpPr>
        <p:sp>
          <p:nvSpPr>
            <p:cNvPr id="494" name=""/>
            <p:cNvSpPr/>
            <p:nvPr/>
          </p:nvSpPr>
          <p:spPr>
            <a:xfrm>
              <a:off x="6934320" y="4267440"/>
              <a:ext cx="114300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324480" y="4419720"/>
              <a:ext cx="660600" cy="30492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477120" y="39625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924680" y="403884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 flipH="1">
              <a:off x="4114800" y="396252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flipH="1">
              <a:off x="4267080" y="472464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143000" y="5105520"/>
              <a:ext cx="1143000" cy="9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1" name=""/>
          <p:cNvGrpSpPr/>
          <p:nvPr/>
        </p:nvGrpSpPr>
        <p:grpSpPr>
          <a:xfrm>
            <a:off x="4038480" y="3962520"/>
            <a:ext cx="4572000" cy="2209680"/>
            <a:chOff x="4038480" y="3962520"/>
            <a:chExt cx="4572000" cy="2209680"/>
          </a:xfrm>
        </p:grpSpPr>
        <p:sp>
          <p:nvSpPr>
            <p:cNvPr id="502" name=""/>
            <p:cNvSpPr/>
            <p:nvPr/>
          </p:nvSpPr>
          <p:spPr>
            <a:xfrm flipV="1">
              <a:off x="6324480" y="5104800"/>
              <a:ext cx="660600" cy="30492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477120" y="48769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934320" y="4953240"/>
              <a:ext cx="114300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7924680" y="502920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flipH="1">
              <a:off x="4267080" y="472464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flipH="1">
              <a:off x="4038480" y="556272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114800" y="3962520"/>
              <a:ext cx="1143000" cy="60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9" name=""/>
          <p:cNvGrpSpPr/>
          <p:nvPr/>
        </p:nvGrpSpPr>
        <p:grpSpPr>
          <a:xfrm>
            <a:off x="762120" y="4724280"/>
            <a:ext cx="7543800" cy="1789200"/>
            <a:chOff x="762120" y="4724280"/>
            <a:chExt cx="7543800" cy="1789200"/>
          </a:xfrm>
        </p:grpSpPr>
        <p:sp>
          <p:nvSpPr>
            <p:cNvPr id="510" name=""/>
            <p:cNvSpPr/>
            <p:nvPr/>
          </p:nvSpPr>
          <p:spPr>
            <a:xfrm>
              <a:off x="4267080" y="4724280"/>
              <a:ext cx="990720" cy="60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4038480" y="5562360"/>
              <a:ext cx="990720" cy="60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572000" y="4800240"/>
              <a:ext cx="685800" cy="533520"/>
            </a:xfrm>
            <a:prstGeom prst="rightArrow">
              <a:avLst>
                <a:gd name="adj1" fmla="val 50000"/>
                <a:gd name="adj2" fmla="val 5594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62120" y="5943240"/>
              <a:ext cx="7543800" cy="57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free FA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DFA: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xample 1/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609480" y="1143000"/>
            <a:ext cx="2743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057400" y="42670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523880" y="44956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438280" y="44956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057400" y="48006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990720" y="44956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2895480" y="4419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523880" y="3962520"/>
            <a:ext cx="4568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1981080" y="37339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4800600" y="33526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5257800" y="3200400"/>
            <a:ext cx="1143000" cy="60948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7" name=""/>
          <p:cNvGrpSpPr/>
          <p:nvPr/>
        </p:nvGrpSpPr>
        <p:grpSpPr>
          <a:xfrm>
            <a:off x="528120" y="2514600"/>
            <a:ext cx="7701480" cy="1377000"/>
            <a:chOff x="528120" y="2514600"/>
            <a:chExt cx="7701480" cy="1377000"/>
          </a:xfrm>
        </p:grpSpPr>
        <p:sp>
          <p:nvSpPr>
            <p:cNvPr id="528" name=""/>
            <p:cNvSpPr/>
            <p:nvPr/>
          </p:nvSpPr>
          <p:spPr>
            <a:xfrm>
              <a:off x="6934320" y="2590920"/>
              <a:ext cx="60948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543800" y="251460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248520" y="2514600"/>
              <a:ext cx="24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 rot="18900000">
              <a:off x="609480" y="304812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324480" y="2819520"/>
              <a:ext cx="609840" cy="53352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3" name=""/>
          <p:cNvGrpSpPr/>
          <p:nvPr/>
        </p:nvGrpSpPr>
        <p:grpSpPr>
          <a:xfrm>
            <a:off x="533520" y="1752480"/>
            <a:ext cx="7772400" cy="4267080"/>
            <a:chOff x="533520" y="1752480"/>
            <a:chExt cx="7772400" cy="4267080"/>
          </a:xfrm>
        </p:grpSpPr>
        <p:sp>
          <p:nvSpPr>
            <p:cNvPr id="534" name=""/>
            <p:cNvSpPr/>
            <p:nvPr/>
          </p:nvSpPr>
          <p:spPr>
            <a:xfrm>
              <a:off x="7162920" y="3200040"/>
              <a:ext cx="1143000" cy="6098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553080" y="297144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400800" y="350496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 flipH="1">
              <a:off x="3200400" y="175248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 flipH="1">
              <a:off x="3505320" y="2514240"/>
              <a:ext cx="914400" cy="609840"/>
            </a:xfrm>
            <a:prstGeom prst="rightArrow">
              <a:avLst>
                <a:gd name="adj1" fmla="val 50000"/>
                <a:gd name="adj2" fmla="val 37485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 flipH="1" flipV="1" rot="5400000">
              <a:off x="1371600" y="5257440"/>
              <a:ext cx="914400" cy="609840"/>
            </a:xfrm>
            <a:prstGeom prst="rightArrow">
              <a:avLst>
                <a:gd name="adj1" fmla="val 50000"/>
                <a:gd name="adj2" fmla="val 37485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676520" y="5410080"/>
              <a:ext cx="361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 flipH="1" flipV="1" rot="5400000">
              <a:off x="2286000" y="5257440"/>
              <a:ext cx="914400" cy="609840"/>
            </a:xfrm>
            <a:prstGeom prst="rightArrow">
              <a:avLst>
                <a:gd name="adj1" fmla="val 50000"/>
                <a:gd name="adj2" fmla="val 37485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2590920" y="5410080"/>
              <a:ext cx="361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33520" y="2971440"/>
              <a:ext cx="914400" cy="83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4" name=""/>
          <p:cNvGrpSpPr/>
          <p:nvPr/>
        </p:nvGrpSpPr>
        <p:grpSpPr>
          <a:xfrm>
            <a:off x="1447920" y="1752480"/>
            <a:ext cx="7162560" cy="4343400"/>
            <a:chOff x="1447920" y="1752480"/>
            <a:chExt cx="7162560" cy="4343400"/>
          </a:xfrm>
        </p:grpSpPr>
        <p:sp>
          <p:nvSpPr>
            <p:cNvPr id="545" name=""/>
            <p:cNvSpPr/>
            <p:nvPr/>
          </p:nvSpPr>
          <p:spPr>
            <a:xfrm>
              <a:off x="1447920" y="5105160"/>
              <a:ext cx="1752480" cy="99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7924680" y="396216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934320" y="3885840"/>
              <a:ext cx="1143000" cy="6098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 flipV="1">
              <a:off x="6324480" y="3657240"/>
              <a:ext cx="609840" cy="53352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477120" y="35812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 flipH="1">
              <a:off x="3505320" y="2514240"/>
              <a:ext cx="914400" cy="609840"/>
            </a:xfrm>
            <a:prstGeom prst="rightArrow">
              <a:avLst>
                <a:gd name="adj1" fmla="val 50000"/>
                <a:gd name="adj2" fmla="val 37485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H="1">
              <a:off x="3200400" y="327636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3200400" y="1752480"/>
              <a:ext cx="114300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3" name=""/>
          <p:cNvGrpSpPr/>
          <p:nvPr/>
        </p:nvGrpSpPr>
        <p:grpSpPr>
          <a:xfrm>
            <a:off x="304920" y="2514600"/>
            <a:ext cx="8610480" cy="3161160"/>
            <a:chOff x="304920" y="2514600"/>
            <a:chExt cx="8610480" cy="3161160"/>
          </a:xfrm>
        </p:grpSpPr>
        <p:sp>
          <p:nvSpPr>
            <p:cNvPr id="554" name=""/>
            <p:cNvSpPr/>
            <p:nvPr/>
          </p:nvSpPr>
          <p:spPr>
            <a:xfrm>
              <a:off x="3124080" y="3276720"/>
              <a:ext cx="106632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429000" y="2514600"/>
              <a:ext cx="99000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038480" y="2590920"/>
              <a:ext cx="685440" cy="1676520"/>
            </a:xfrm>
            <a:prstGeom prst="rightArrow">
              <a:avLst>
                <a:gd name="adj1" fmla="val 50000"/>
                <a:gd name="adj2" fmla="val 43519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304920" y="5105520"/>
              <a:ext cx="8610480" cy="57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= R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8" name=""/>
          <p:cNvSpPr/>
          <p:nvPr/>
        </p:nvSpPr>
        <p:spPr>
          <a:xfrm>
            <a:off x="1523880" y="25146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flipV="1">
            <a:off x="1523880" y="3009600"/>
            <a:ext cx="4568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600200" y="3048120"/>
            <a:ext cx="24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590920" y="1905120"/>
            <a:ext cx="53316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819520" y="25146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1981080" y="2971800"/>
            <a:ext cx="609840" cy="5335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2057400" y="228600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981080" y="2057400"/>
            <a:ext cx="609840" cy="5335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590920" y="312408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057400" y="28195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2133720" y="289548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124080" y="20574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828800" y="18288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990720" y="24382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 flipH="1">
            <a:off x="3200400" y="28195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free FA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DFA: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xample 2/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5" name=""/>
          <p:cNvGrpSpPr/>
          <p:nvPr/>
        </p:nvGrpSpPr>
        <p:grpSpPr>
          <a:xfrm>
            <a:off x="48600" y="2438280"/>
            <a:ext cx="6223680" cy="1904760"/>
            <a:chOff x="48600" y="2438280"/>
            <a:chExt cx="6223680" cy="1904760"/>
          </a:xfrm>
        </p:grpSpPr>
        <p:sp>
          <p:nvSpPr>
            <p:cNvPr id="576" name=""/>
            <p:cNvSpPr/>
            <p:nvPr/>
          </p:nvSpPr>
          <p:spPr>
            <a:xfrm rot="18900000">
              <a:off x="152280" y="2764800"/>
              <a:ext cx="762120" cy="609480"/>
            </a:xfrm>
            <a:prstGeom prst="rightArrow">
              <a:avLst>
                <a:gd name="adj1" fmla="val 50000"/>
                <a:gd name="adj2" fmla="val 31261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029200" y="35812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200400" y="3581280"/>
              <a:ext cx="24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352680" y="3809880"/>
              <a:ext cx="609840" cy="53316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962520" y="3657240"/>
              <a:ext cx="1143000" cy="6098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rot="16200000">
              <a:off x="5586480" y="2514240"/>
              <a:ext cx="761760" cy="609840"/>
            </a:xfrm>
            <a:prstGeom prst="rightArrow">
              <a:avLst>
                <a:gd name="adj1" fmla="val 50000"/>
                <a:gd name="adj2" fmla="val 31228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2" name=""/>
          <p:cNvGrpSpPr/>
          <p:nvPr/>
        </p:nvGrpSpPr>
        <p:grpSpPr>
          <a:xfrm>
            <a:off x="152280" y="1676520"/>
            <a:ext cx="6248520" cy="3276000"/>
            <a:chOff x="152280" y="1676520"/>
            <a:chExt cx="6248520" cy="3276000"/>
          </a:xfrm>
        </p:grpSpPr>
        <p:sp>
          <p:nvSpPr>
            <p:cNvPr id="583" name=""/>
            <p:cNvSpPr/>
            <p:nvPr/>
          </p:nvSpPr>
          <p:spPr>
            <a:xfrm>
              <a:off x="4267080" y="4343040"/>
              <a:ext cx="114300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7600" y="411444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505320" y="464796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 flipH="1">
              <a:off x="2590200" y="1676520"/>
              <a:ext cx="685800" cy="533160"/>
            </a:xfrm>
            <a:prstGeom prst="rightArrow">
              <a:avLst>
                <a:gd name="adj1" fmla="val 50000"/>
                <a:gd name="adj2" fmla="val 3215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 flipH="1">
              <a:off x="2818800" y="2285640"/>
              <a:ext cx="685800" cy="533160"/>
            </a:xfrm>
            <a:prstGeom prst="rightArrow">
              <a:avLst>
                <a:gd name="adj1" fmla="val 50000"/>
                <a:gd name="adj2" fmla="val 3215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 rot="16200000">
              <a:off x="3733920" y="2971440"/>
              <a:ext cx="685440" cy="533520"/>
            </a:xfrm>
            <a:prstGeom prst="rightArrow">
              <a:avLst>
                <a:gd name="adj1" fmla="val 50000"/>
                <a:gd name="adj2" fmla="val 32119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rot="16200000">
              <a:off x="4648320" y="2971440"/>
              <a:ext cx="685440" cy="533520"/>
            </a:xfrm>
            <a:prstGeom prst="rightArrow">
              <a:avLst>
                <a:gd name="adj1" fmla="val 50000"/>
                <a:gd name="adj2" fmla="val 32119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52280" y="2666880"/>
              <a:ext cx="838440" cy="9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562720" y="2361960"/>
              <a:ext cx="838080" cy="9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2" name=""/>
          <p:cNvGrpSpPr/>
          <p:nvPr/>
        </p:nvGrpSpPr>
        <p:grpSpPr>
          <a:xfrm>
            <a:off x="2590920" y="1676520"/>
            <a:ext cx="5638680" cy="3961800"/>
            <a:chOff x="2590920" y="1676520"/>
            <a:chExt cx="5638680" cy="3961800"/>
          </a:xfrm>
        </p:grpSpPr>
        <p:sp>
          <p:nvSpPr>
            <p:cNvPr id="593" name=""/>
            <p:cNvSpPr/>
            <p:nvPr/>
          </p:nvSpPr>
          <p:spPr>
            <a:xfrm>
              <a:off x="3606840" y="2882520"/>
              <a:ext cx="1676520" cy="71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2590920" y="1676520"/>
              <a:ext cx="838080" cy="60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3962520" y="5028840"/>
              <a:ext cx="114300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 flipV="1">
              <a:off x="3352680" y="4799520"/>
              <a:ext cx="609840" cy="53316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3505320" y="47242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4952880" y="480024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rot="16200000">
              <a:off x="6705720" y="2971440"/>
              <a:ext cx="685440" cy="533520"/>
            </a:xfrm>
            <a:prstGeom prst="rightArrow">
              <a:avLst>
                <a:gd name="adj1" fmla="val 50000"/>
                <a:gd name="adj2" fmla="val 32119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 rot="16200000">
              <a:off x="7620120" y="2971440"/>
              <a:ext cx="685440" cy="533520"/>
            </a:xfrm>
            <a:prstGeom prst="rightArrow">
              <a:avLst>
                <a:gd name="adj1" fmla="val 50000"/>
                <a:gd name="adj2" fmla="val 32119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 flipH="1">
              <a:off x="2666160" y="3047760"/>
              <a:ext cx="685800" cy="533160"/>
            </a:xfrm>
            <a:prstGeom prst="rightArrow">
              <a:avLst>
                <a:gd name="adj1" fmla="val 50000"/>
                <a:gd name="adj2" fmla="val 3215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flipH="1">
              <a:off x="2818800" y="2285640"/>
              <a:ext cx="685800" cy="533160"/>
            </a:xfrm>
            <a:prstGeom prst="rightArrow">
              <a:avLst>
                <a:gd name="adj1" fmla="val 50000"/>
                <a:gd name="adj2" fmla="val 3215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3" name=""/>
          <p:cNvGrpSpPr/>
          <p:nvPr/>
        </p:nvGrpSpPr>
        <p:grpSpPr>
          <a:xfrm>
            <a:off x="762120" y="2209680"/>
            <a:ext cx="7772400" cy="4373640"/>
            <a:chOff x="762120" y="2209680"/>
            <a:chExt cx="7772400" cy="4373640"/>
          </a:xfrm>
        </p:grpSpPr>
        <p:sp>
          <p:nvSpPr>
            <p:cNvPr id="604" name=""/>
            <p:cNvSpPr/>
            <p:nvPr/>
          </p:nvSpPr>
          <p:spPr>
            <a:xfrm>
              <a:off x="762120" y="5562360"/>
              <a:ext cx="7619760" cy="102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= R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,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       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 rot="5400000">
              <a:off x="4514760" y="2419200"/>
              <a:ext cx="571680" cy="1676160"/>
            </a:xfrm>
            <a:prstGeom prst="rightArrow">
              <a:avLst>
                <a:gd name="adj1" fmla="val 50000"/>
                <a:gd name="adj2" fmla="val 43519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2743200" y="2209680"/>
              <a:ext cx="83808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2590920" y="3047760"/>
              <a:ext cx="838080" cy="60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6629400" y="2895480"/>
              <a:ext cx="1752480" cy="9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943600" y="3736440"/>
              <a:ext cx="2590920" cy="1373760"/>
            </a:xfrm>
            <a:prstGeom prst="rect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onstruct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the 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other states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nalogically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0" name=""/>
          <p:cNvSpPr/>
          <p:nvPr/>
        </p:nvSpPr>
        <p:spPr>
          <a:xfrm>
            <a:off x="380880" y="22096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609480" y="1143000"/>
            <a:ext cx="3429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4343400" y="20574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809880" y="22860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724280" y="22860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343400" y="2590920"/>
            <a:ext cx="38088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276720" y="22096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H="1">
            <a:off x="5181480" y="22096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3809880" y="1752480"/>
            <a:ext cx="456840" cy="61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3505320" y="16002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914400" y="22860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flipV="1">
            <a:off x="914400" y="2781000"/>
            <a:ext cx="4568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990720" y="2819520"/>
            <a:ext cx="24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981080" y="16765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209680" y="22860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flipV="1">
            <a:off x="1371600" y="2743200"/>
            <a:ext cx="609480" cy="5335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1447920" y="205740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1371600" y="1828800"/>
            <a:ext cx="609480" cy="5335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1981080" y="28954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1447920" y="2590920"/>
            <a:ext cx="761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1523880" y="266688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219320" y="16002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 flipH="1">
            <a:off x="2590200" y="25909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7315200" y="20574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6781680" y="22860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7696080" y="22860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7315200" y="25909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6248520" y="22096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 flipH="1">
            <a:off x="8153280" y="22096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781680" y="1752480"/>
            <a:ext cx="456840" cy="61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6553080" y="14479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5715000" y="18288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181480" y="16765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 flipH="1">
            <a:off x="6172200" y="16765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5715000" y="1295280"/>
            <a:ext cx="456840" cy="61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5410080" y="12193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914400" y="42670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1523880" y="4191120"/>
            <a:ext cx="1981440" cy="7617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2514600" y="18288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free FA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DFA: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xample 3/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"/>
          <p:cNvSpPr/>
          <p:nvPr/>
        </p:nvSpPr>
        <p:spPr>
          <a:xfrm>
            <a:off x="570240" y="1032120"/>
            <a:ext cx="7848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Final states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609480" y="1951200"/>
            <a:ext cx="7848720" cy="6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US" sz="3000" spc="-1" strike="noStrike">
                <a:solidFill>
                  <a:srgbClr val="00cc99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609480" y="3780000"/>
            <a:ext cx="8077320" cy="6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US" sz="3000" spc="-1" strike="noStrike">
                <a:solidFill>
                  <a:srgbClr val="00cc99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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607680" y="1523160"/>
            <a:ext cx="215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00cc99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09480" y="2408400"/>
            <a:ext cx="7848720" cy="6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US" sz="3000" spc="-1" strike="noStrike">
                <a:solidFill>
                  <a:srgbClr val="00cc99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s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609480" y="2865600"/>
            <a:ext cx="8001000" cy="6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US" sz="3000" spc="-1" strike="noStrike">
                <a:solidFill>
                  <a:srgbClr val="00cc99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s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609480" y="3322800"/>
            <a:ext cx="8001000" cy="6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US" sz="3000" spc="-1" strike="noStrike">
                <a:solidFill>
                  <a:srgbClr val="00cc99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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s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4345200" y="4419360"/>
            <a:ext cx="789840" cy="4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685800" y="4876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685800" y="4952880"/>
            <a:ext cx="7467480" cy="12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free FA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DFA: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xample 4/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114300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Configuration: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143000" y="25146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514600" y="19051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514600" y="31240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905120" y="1676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1600200" y="2971800"/>
            <a:ext cx="914400" cy="5335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05120" y="2362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00200" y="2057400"/>
            <a:ext cx="914400" cy="5335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14600" y="25146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281952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905120" y="2971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3809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1676520"/>
            <a:ext cx="426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xt Configur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267080" y="2133720"/>
            <a:ext cx="40388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x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22860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8120" y="22860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16765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048120" y="2971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ory vs. Pract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38480" y="2971800"/>
            <a:ext cx="4267440" cy="100764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ory: </a:t>
            </a:r>
            <a:r>
              <a:rPr b="1" lang="cs-CZ" sz="3000" spc="-1" strike="noStrike">
                <a:solidFill>
                  <a:srgbClr val="ff0000"/>
                </a:solidFill>
                <a:latin typeface="Wingdings"/>
                <a:ea typeface="Wingdings"/>
              </a:rPr>
              <a:t>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Practice: </a:t>
            </a:r>
            <a:r>
              <a:rPr b="1" lang="cs-CZ" sz="3000" spc="-1" strike="noStrike">
                <a:solidFill>
                  <a:srgbClr val="ff0000"/>
                </a:solidFill>
                <a:latin typeface="Wingdings"/>
                <a:ea typeface="Wingdings"/>
              </a:rPr>
              <a:t>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295280" y="51055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2120" y="380988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Configuration: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666880" y="44956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666880" y="57150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057400" y="42670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752480" y="5562000"/>
            <a:ext cx="914400" cy="53316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057400" y="4952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52480" y="4648320"/>
            <a:ext cx="914400" cy="53316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666880" y="51055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828800" y="541008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057400" y="5562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343400" y="441972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xt Configu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191120" y="5715000"/>
            <a:ext cx="4267080" cy="100764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ory: </a:t>
            </a:r>
            <a:r>
              <a:rPr b="1" lang="cs-CZ" sz="3000" spc="-1" strike="noStrike">
                <a:solidFill>
                  <a:srgbClr val="ff0000"/>
                </a:solidFill>
                <a:latin typeface="Wingdings"/>
                <a:ea typeface="Wingdings"/>
              </a:rPr>
              <a:t>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Practice: </a:t>
            </a:r>
            <a:r>
              <a:rPr b="1" lang="cs-CZ" sz="3000" spc="-1" strike="noStrike">
                <a:solidFill>
                  <a:srgbClr val="ff0000"/>
                </a:solidFill>
                <a:latin typeface="Wingdings"/>
                <a:ea typeface="Wingdings"/>
              </a:rPr>
              <a:t>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257800" y="4876920"/>
            <a:ext cx="2057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ly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 q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48769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48769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42670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200400" y="55627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"/>
          <p:cNvSpPr/>
          <p:nvPr/>
        </p:nvSpPr>
        <p:spPr>
          <a:xfrm>
            <a:off x="2590920" y="4267080"/>
            <a:ext cx="1523880" cy="76212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5867280" y="2514600"/>
            <a:ext cx="1524240" cy="76212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5257800" y="3962520"/>
            <a:ext cx="1752480" cy="76176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419720" y="3429000"/>
            <a:ext cx="1066680" cy="76212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7848720" y="5257800"/>
            <a:ext cx="761760" cy="7621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6629400" y="4572000"/>
            <a:ext cx="1523880" cy="76212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609480" y="4952880"/>
            <a:ext cx="1219320" cy="83844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315200" y="1295280"/>
            <a:ext cx="1219320" cy="7621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391520" y="1371600"/>
            <a:ext cx="1066680" cy="60948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685800" y="5029200"/>
            <a:ext cx="106668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981080" y="2209680"/>
            <a:ext cx="1371600" cy="60984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990720" y="13716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3809880" y="1523880"/>
            <a:ext cx="914400" cy="60984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1066680" y="3429000"/>
            <a:ext cx="914400" cy="6094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200400" y="2819520"/>
            <a:ext cx="990720" cy="6094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8305920" y="2590920"/>
            <a:ext cx="609480" cy="6094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380880" y="3962520"/>
            <a:ext cx="609840" cy="6094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4495680" y="3505320"/>
            <a:ext cx="914400" cy="6094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6705720" y="4648320"/>
            <a:ext cx="1371600" cy="6094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943600" y="2590920"/>
            <a:ext cx="1371600" cy="6094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2666880" y="4343400"/>
            <a:ext cx="1371600" cy="6094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5334120" y="4038480"/>
            <a:ext cx="1600200" cy="60984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,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7924680" y="5334120"/>
            <a:ext cx="609840" cy="60948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609480" y="1447920"/>
            <a:ext cx="45720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>
            <a:off x="1571040" y="2838600"/>
            <a:ext cx="12326400" cy="6311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081" y="510"/>
                </a:moveTo>
                <a:arcTo wR="10800" hR="10800" stAng="-4338896" swAng="3424848"/>
                <a:lnTo>
                  <a:pt x="10800" y="10800"/>
                </a:lnTo>
                <a:close/>
              </a:path>
              <a:path fill="none" w="21600" h="21600">
                <a:moveTo>
                  <a:pt x="14081" y="510"/>
                </a:moveTo>
                <a:arcTo wR="10800" hR="10800" stAng="-4338896" swAng="3424848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flipV="1">
            <a:off x="424800" y="1294560"/>
            <a:ext cx="7954560" cy="137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620" y="18249"/>
                </a:moveTo>
                <a:arcTo wR="10800" hR="10800" stAng="2616307" swAng="5632437"/>
                <a:lnTo>
                  <a:pt x="10800" y="10800"/>
                </a:lnTo>
                <a:close/>
              </a:path>
              <a:path fill="none" w="21600" h="21600">
                <a:moveTo>
                  <a:pt x="18620" y="18249"/>
                </a:moveTo>
                <a:arcTo wR="10800" hR="10800" stAng="2616307" swAng="563243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>
            <a:off x="1294560" y="-361800"/>
            <a:ext cx="965160" cy="4751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89" y="10306"/>
                </a:moveTo>
                <a:arcTo wR="10800" hR="10800" stAng="-157171" swAng="2428780"/>
                <a:lnTo>
                  <a:pt x="10800" y="10800"/>
                </a:lnTo>
                <a:close/>
              </a:path>
              <a:path fill="none" w="21600" h="21600">
                <a:moveTo>
                  <a:pt x="21589" y="10306"/>
                </a:moveTo>
                <a:arcTo wR="10800" hR="10800" stAng="-157171" swAng="2428780"/>
              </a:path>
            </a:pathLst>
          </a:custGeom>
          <a:noFill/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-2362320" y="795240"/>
            <a:ext cx="4724280" cy="4677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448" y="8996"/>
                </a:moveTo>
                <a:arcTo wR="10800" hR="10800" stAng="-576802" swAng="3696489"/>
                <a:lnTo>
                  <a:pt x="10800" y="10800"/>
                </a:lnTo>
                <a:close/>
              </a:path>
              <a:path fill="none" w="21600" h="21600">
                <a:moveTo>
                  <a:pt x="21448" y="8996"/>
                </a:moveTo>
                <a:arcTo wR="10800" hR="10800" stAng="-576802" swAng="3696489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flipV="1" rot="10800000">
            <a:off x="105120" y="1798200"/>
            <a:ext cx="17008920" cy="5571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123" y="2311"/>
                </a:moveTo>
                <a:arcTo wR="10800" hR="10800" stAng="-7691173" swAng="1786823"/>
                <a:lnTo>
                  <a:pt x="10800" y="10800"/>
                </a:lnTo>
                <a:close/>
              </a:path>
              <a:path fill="none" w="21600" h="21600">
                <a:moveTo>
                  <a:pt x="4123" y="2311"/>
                </a:moveTo>
                <a:arcTo wR="10800" hR="10800" stAng="-7691173" swAng="1786823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V="1" rot="2406600">
            <a:off x="619200" y="1649520"/>
            <a:ext cx="380520" cy="560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61" y="21599"/>
                </a:moveTo>
                <a:arcTo wR="10800" hR="10800" stAng="5444291" swAng="20029796"/>
                <a:lnTo>
                  <a:pt x="10800" y="10800"/>
                </a:lnTo>
                <a:close/>
              </a:path>
              <a:path fill="none" w="21600" h="21600">
                <a:moveTo>
                  <a:pt x="10661" y="21599"/>
                </a:moveTo>
                <a:arcTo wR="10800" hR="10800" stAng="5444291" swAng="20029796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flipV="1">
            <a:off x="1447560" y="1828800"/>
            <a:ext cx="60948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 flipV="1" rot="16200000">
            <a:off x="-569160" y="2887560"/>
            <a:ext cx="4185720" cy="1065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620" y="18249"/>
                </a:moveTo>
                <a:arcTo wR="10800" hR="10800" stAng="2616307" swAng="5606492"/>
                <a:lnTo>
                  <a:pt x="10800" y="10800"/>
                </a:lnTo>
                <a:close/>
              </a:path>
              <a:path fill="none" w="21600" h="21600">
                <a:moveTo>
                  <a:pt x="18620" y="18249"/>
                </a:moveTo>
                <a:arcTo wR="10800" hR="10800" stAng="2616307" swAng="5606492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 flipH="1" flipV="1">
            <a:off x="1294200" y="3736800"/>
            <a:ext cx="965160" cy="1776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837" y="6814"/>
                </a:moveTo>
                <a:arcTo wR="10800" hR="10800" stAng="-1299552" swAng="3778311"/>
                <a:lnTo>
                  <a:pt x="10800" y="10800"/>
                </a:lnTo>
                <a:close/>
              </a:path>
              <a:path fill="none" w="21600" h="21600">
                <a:moveTo>
                  <a:pt x="20837" y="6814"/>
                </a:moveTo>
                <a:arcTo wR="10800" hR="10800" stAng="-1299552" swAng="3778311"/>
              </a:path>
            </a:pathLst>
          </a:custGeom>
          <a:noFill/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 rot="5400000">
            <a:off x="2250000" y="154800"/>
            <a:ext cx="964440" cy="4006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414" y="4286"/>
                </a:moveTo>
                <a:arcTo wR="10800" hR="10800" stAng="-2225747" swAng="4178396"/>
                <a:lnTo>
                  <a:pt x="10800" y="10800"/>
                </a:lnTo>
                <a:close/>
              </a:path>
              <a:path fill="none" w="21600" h="21600">
                <a:moveTo>
                  <a:pt x="19414" y="4286"/>
                </a:moveTo>
                <a:arcTo wR="10800" hR="10800" stAng="-2225747" swAng="4178396"/>
              </a:path>
            </a:pathLst>
          </a:custGeom>
          <a:noFill/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 flipV="1" rot="16200000">
            <a:off x="5386680" y="-111240"/>
            <a:ext cx="1117080" cy="4540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414" y="4286"/>
                </a:moveTo>
                <a:arcTo wR="10800" hR="10800" stAng="-2225747" swAng="4178396"/>
                <a:lnTo>
                  <a:pt x="10800" y="10800"/>
                </a:lnTo>
                <a:close/>
              </a:path>
              <a:path fill="none" w="21600" h="21600">
                <a:moveTo>
                  <a:pt x="19414" y="4286"/>
                </a:moveTo>
                <a:arcTo wR="10800" hR="10800" stAng="-2225747" swAng="4178396"/>
              </a:path>
            </a:pathLst>
          </a:custGeom>
          <a:noFill/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-2764440" y="2644200"/>
            <a:ext cx="7814520" cy="2788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41" y="11927"/>
                </a:moveTo>
                <a:arcTo wR="10800" hR="10800" stAng="359405" swAng="4415515"/>
                <a:lnTo>
                  <a:pt x="10800" y="10800"/>
                </a:lnTo>
                <a:close/>
              </a:path>
              <a:path fill="none" w="21600" h="21600">
                <a:moveTo>
                  <a:pt x="21541" y="11927"/>
                </a:moveTo>
                <a:arcTo wR="10800" hR="10800" stAng="359405" swAng="4415515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 flipH="1" flipV="1" rot="10800000">
            <a:off x="237600" y="1902600"/>
            <a:ext cx="15217920" cy="9316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447" y="3954"/>
                </a:moveTo>
                <a:arcTo wR="10800" hR="10800" stAng="-8439555" swAng="2876166"/>
                <a:lnTo>
                  <a:pt x="10800" y="10800"/>
                </a:lnTo>
                <a:close/>
              </a:path>
              <a:path fill="none" w="21600" h="21600">
                <a:moveTo>
                  <a:pt x="2447" y="3954"/>
                </a:moveTo>
                <a:arcTo wR="10800" hR="10800" stAng="-8439555" swAng="2876166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H="1">
            <a:off x="1600200" y="1981080"/>
            <a:ext cx="2286000" cy="3048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flipH="1">
            <a:off x="3733560" y="3886200"/>
            <a:ext cx="68580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 flipV="1">
            <a:off x="7162920" y="2057400"/>
            <a:ext cx="60948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 flipH="1">
            <a:off x="1828800" y="4800600"/>
            <a:ext cx="83808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 flipH="1">
            <a:off x="3222000" y="1970280"/>
            <a:ext cx="11844000" cy="6034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580" y="364"/>
                </a:moveTo>
                <a:arcTo wR="10800" hR="10800" stAng="-4505085" swAng="3665686"/>
                <a:lnTo>
                  <a:pt x="10800" y="10800"/>
                </a:lnTo>
                <a:close/>
              </a:path>
              <a:path fill="none" w="21600" h="21600">
                <a:moveTo>
                  <a:pt x="13580" y="364"/>
                </a:moveTo>
                <a:arcTo wR="10800" hR="10800" stAng="-4505085" swAng="3665686"/>
              </a:path>
            </a:pathLst>
          </a:custGeom>
          <a:noFill/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1676520" y="3352680"/>
            <a:ext cx="1752480" cy="1752840"/>
          </a:xfrm>
          <a:custGeom>
            <a:avLst/>
            <a:gdLst/>
            <a:ahLst/>
            <a:rect l="l" t="t" r="r" b="b"/>
            <a:pathLst>
              <a:path w="1056" h="1008">
                <a:moveTo>
                  <a:pt x="1056" y="0"/>
                </a:moveTo>
                <a:cubicBezTo>
                  <a:pt x="904" y="60"/>
                  <a:pt x="752" y="120"/>
                  <a:pt x="576" y="288"/>
                </a:cubicBezTo>
                <a:cubicBezTo>
                  <a:pt x="400" y="456"/>
                  <a:pt x="72" y="872"/>
                  <a:pt x="0" y="100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4038480" y="1981080"/>
            <a:ext cx="3429000" cy="990720"/>
          </a:xfrm>
          <a:custGeom>
            <a:avLst/>
            <a:gdLst/>
            <a:ahLst/>
            <a:rect l="l" t="t" r="r" b="b"/>
            <a:pathLst>
              <a:path w="2112" h="624">
                <a:moveTo>
                  <a:pt x="0" y="624"/>
                </a:moveTo>
                <a:cubicBezTo>
                  <a:pt x="112" y="508"/>
                  <a:pt x="224" y="392"/>
                  <a:pt x="576" y="288"/>
                </a:cubicBezTo>
                <a:cubicBezTo>
                  <a:pt x="928" y="184"/>
                  <a:pt x="1520" y="92"/>
                  <a:pt x="2112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 flipV="1">
            <a:off x="5257800" y="3200040"/>
            <a:ext cx="838080" cy="3049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762120" y="4572000"/>
            <a:ext cx="15228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 flipV="1" rot="5400000">
            <a:off x="4978080" y="3482280"/>
            <a:ext cx="5598720" cy="1066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542" y="20503"/>
                </a:moveTo>
                <a:arcTo wR="10800" hR="10800" stAng="3837239" swAng="4226180"/>
                <a:lnTo>
                  <a:pt x="10800" y="10800"/>
                </a:lnTo>
                <a:close/>
              </a:path>
              <a:path fill="none" w="21600" h="21600">
                <a:moveTo>
                  <a:pt x="15542" y="20503"/>
                </a:moveTo>
                <a:arcTo wR="10800" hR="10800" stAng="3837239" swAng="4226180"/>
              </a:path>
            </a:pathLst>
          </a:custGeom>
          <a:noFill/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 flipH="1" flipV="1">
            <a:off x="8229240" y="1980720"/>
            <a:ext cx="22860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 flipV="1" rot="5400000">
            <a:off x="4613400" y="2075040"/>
            <a:ext cx="5712120" cy="121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222" y="18646"/>
                </a:moveTo>
                <a:arcTo wR="10800" hR="10800" stAng="2795334" swAng="3364901"/>
                <a:lnTo>
                  <a:pt x="10800" y="10800"/>
                </a:lnTo>
                <a:close/>
              </a:path>
              <a:path fill="none" w="21600" h="21600">
                <a:moveTo>
                  <a:pt x="18222" y="18646"/>
                </a:moveTo>
                <a:arcTo wR="10800" hR="10800" stAng="2795334" swAng="336490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 flipV="1" rot="5400000">
            <a:off x="4464360" y="971640"/>
            <a:ext cx="3895920" cy="3051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673" y="15178"/>
                </a:moveTo>
                <a:arcTo wR="10800" hR="10800" stAng="1434762" swAng="4725472"/>
                <a:lnTo>
                  <a:pt x="10800" y="10800"/>
                </a:lnTo>
                <a:close/>
              </a:path>
              <a:path fill="none" w="21600" h="21600">
                <a:moveTo>
                  <a:pt x="20673" y="15178"/>
                </a:moveTo>
                <a:arcTo wR="10800" hR="10800" stAng="1434762" swAng="4725472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 flipV="1" rot="5400000">
            <a:off x="2912040" y="-932760"/>
            <a:ext cx="3945960" cy="5933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383" y="12956"/>
                </a:moveTo>
                <a:arcTo wR="10800" hR="10800" stAng="691074" swAng="4682227"/>
                <a:lnTo>
                  <a:pt x="10800" y="10800"/>
                </a:lnTo>
                <a:close/>
              </a:path>
              <a:path fill="none" w="21600" h="21600">
                <a:moveTo>
                  <a:pt x="21383" y="12956"/>
                </a:moveTo>
                <a:arcTo wR="10800" hR="10800" stAng="691074" swAng="468222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 flipH="1" flipV="1">
            <a:off x="5104800" y="3809520"/>
            <a:ext cx="520920" cy="761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564" y="71"/>
                </a:moveTo>
                <a:arcTo wR="10800" hR="10800" stAng="-5794403" swAng="5794403"/>
                <a:lnTo>
                  <a:pt x="10800" y="10800"/>
                </a:lnTo>
                <a:close/>
              </a:path>
              <a:path fill="none" w="21600" h="21600">
                <a:moveTo>
                  <a:pt x="9564" y="71"/>
                </a:moveTo>
                <a:arcTo wR="10800" hR="10800" stAng="-5794403" swAng="5794403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flipH="1" flipV="1">
            <a:off x="7238160" y="5104800"/>
            <a:ext cx="106524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079" y="24"/>
                </a:moveTo>
                <a:arcTo wR="10800" hR="10800" stAng="-5629809" swAng="5629809"/>
                <a:lnTo>
                  <a:pt x="10800" y="10800"/>
                </a:lnTo>
                <a:close/>
              </a:path>
              <a:path fill="none" w="21600" h="21600">
                <a:moveTo>
                  <a:pt x="10079" y="24"/>
                </a:moveTo>
                <a:arcTo wR="10800" hR="10800" stAng="-5629809" swAng="5629809"/>
              </a:path>
            </a:pathLst>
          </a:custGeom>
          <a:noFill/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 flipV="1" rot="2406600">
            <a:off x="4352040" y="3938400"/>
            <a:ext cx="380520" cy="55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58" y="15859"/>
                </a:moveTo>
                <a:arcTo wR="10800" hR="10800" stAng="9124145" swAng="15490226"/>
                <a:lnTo>
                  <a:pt x="10800" y="10800"/>
                </a:lnTo>
                <a:close/>
              </a:path>
              <a:path fill="none" w="21600" h="21600">
                <a:moveTo>
                  <a:pt x="1258" y="15859"/>
                </a:moveTo>
                <a:arcTo wR="10800" hR="10800" stAng="9124145" swAng="15490226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-3189240" y="2811600"/>
            <a:ext cx="8968680" cy="2759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015" y="14305"/>
                </a:moveTo>
                <a:arcTo wR="10800" hR="10800" stAng="1136405" swAng="3925464"/>
                <a:lnTo>
                  <a:pt x="10800" y="10800"/>
                </a:lnTo>
                <a:close/>
              </a:path>
              <a:path fill="none" w="21600" h="21600">
                <a:moveTo>
                  <a:pt x="21015" y="14305"/>
                </a:moveTo>
                <a:arcTo wR="10800" hR="10800" stAng="1136405" swAng="3925464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-4029840" y="3809520"/>
            <a:ext cx="10955520" cy="1829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015" y="14305"/>
                </a:moveTo>
                <a:arcTo wR="10800" hR="10800" stAng="1136405" swAng="4132002"/>
                <a:lnTo>
                  <a:pt x="10800" y="10800"/>
                </a:lnTo>
                <a:close/>
              </a:path>
              <a:path fill="none" w="21600" h="21600">
                <a:moveTo>
                  <a:pt x="21015" y="14305"/>
                </a:moveTo>
                <a:arcTo wR="10800" hR="10800" stAng="1136405" swAng="4132002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 flipH="1">
            <a:off x="365040" y="4724640"/>
            <a:ext cx="8641800" cy="121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598" y="18272"/>
                </a:moveTo>
                <a:arcTo wR="10800" hR="10800" stAng="2626643" swAng="5660680"/>
                <a:lnTo>
                  <a:pt x="10800" y="10800"/>
                </a:lnTo>
                <a:close/>
              </a:path>
              <a:path fill="none" w="21600" h="21600">
                <a:moveTo>
                  <a:pt x="18598" y="18272"/>
                </a:moveTo>
                <a:arcTo wR="10800" hR="10800" stAng="2626643" swAng="5660680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 flipH="1" flipV="1" rot="19193400">
            <a:off x="8457120" y="1751760"/>
            <a:ext cx="380520" cy="560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61" y="21599"/>
                </a:moveTo>
                <a:arcTo wR="10800" hR="10800" stAng="5444291" swAng="20029796"/>
                <a:lnTo>
                  <a:pt x="10800" y="10800"/>
                </a:lnTo>
                <a:close/>
              </a:path>
              <a:path fill="none" w="21600" h="21600">
                <a:moveTo>
                  <a:pt x="10661" y="21599"/>
                </a:moveTo>
                <a:arcTo wR="10800" hR="10800" stAng="5444291" swAng="20029796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 flipV="1">
            <a:off x="8381880" y="5027760"/>
            <a:ext cx="306000" cy="457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231" y="560"/>
                </a:moveTo>
                <a:arcTo wR="10800" hR="10800" stAng="-4288488" swAng="15573049"/>
                <a:lnTo>
                  <a:pt x="10800" y="10800"/>
                </a:lnTo>
                <a:close/>
              </a:path>
              <a:path fill="none" w="21600" h="21600">
                <a:moveTo>
                  <a:pt x="14231" y="560"/>
                </a:moveTo>
                <a:arcTo wR="10800" hR="10800" stAng="-4288488" swAng="15573049"/>
              </a:path>
            </a:pathLst>
          </a:custGeom>
          <a:noFill/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533520" y="6095880"/>
            <a:ext cx="5562360" cy="48996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an we make DFA smaller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457200" y="19810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1523880" y="10666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85800" y="297180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8534520" y="137160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8381880" y="21337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8305920" y="350532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4495680" y="548640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304920" y="449568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8381880" y="457200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762120" y="441972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3200400" y="12193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4800600" y="12193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3505320" y="175248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1295280" y="25909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828800" y="30481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1295280" y="39625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4343400" y="39625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5562720" y="342900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4114800" y="44197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3962520" y="243828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2971800" y="30481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4952880" y="434340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7010280" y="37339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4495680" y="46483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1828800" y="182880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3200400" y="19051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2057400" y="26668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3657600" y="38098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5562720" y="289548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7010280" y="21337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3200400" y="38098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2209680" y="44956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5486400" y="25909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7010280" y="525780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7620120" y="411480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6095880" y="47242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free FA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DFA: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xample 5/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248520" y="6095880"/>
            <a:ext cx="2361960" cy="4899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nswer: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Y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 flipH="1" flipV="1">
            <a:off x="456480" y="4877640"/>
            <a:ext cx="30564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446" y="6"/>
                </a:moveTo>
                <a:arcTo wR="10800" hR="10800" stAng="-5512753" swAng="15616653"/>
                <a:lnTo>
                  <a:pt x="10800" y="10800"/>
                </a:lnTo>
                <a:close/>
              </a:path>
              <a:path fill="none" w="21600" h="21600">
                <a:moveTo>
                  <a:pt x="10446" y="6"/>
                </a:moveTo>
                <a:arcTo wR="10800" hR="10800" stAng="-5512753" swAng="15616653"/>
              </a:path>
            </a:pathLst>
          </a:custGeom>
          <a:noFill/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"/>
          <p:cNvSpPr/>
          <p:nvPr/>
        </p:nvSpPr>
        <p:spPr>
          <a:xfrm>
            <a:off x="5715000" y="38098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685800" y="1981080"/>
            <a:ext cx="7772400" cy="14479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685800" y="1905120"/>
            <a:ext cx="77724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 be 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n FA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 state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accessibl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re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exists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w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i="1" lang="cs-CZ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otherwis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inaccessible.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2971800" y="3886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4343400" y="3886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3505320" y="419112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3657600" y="36576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5791320" y="38862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2590920" y="41911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4876920" y="419112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685800" y="3809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609480" y="373392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3187800" y="4406760"/>
            <a:ext cx="406440" cy="335160"/>
          </a:xfrm>
          <a:custGeom>
            <a:avLst/>
            <a:gdLst/>
            <a:ahLst/>
            <a:rect l="l" t="t" r="r" b="b"/>
            <a:pathLst>
              <a:path w="256" h="211">
                <a:moveTo>
                  <a:pt x="256" y="208"/>
                </a:moveTo>
                <a:cubicBezTo>
                  <a:pt x="231" y="203"/>
                  <a:pt x="147" y="211"/>
                  <a:pt x="104" y="176"/>
                </a:cubicBezTo>
                <a:cubicBezTo>
                  <a:pt x="61" y="141"/>
                  <a:pt x="22" y="37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3581280" y="44197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2895480" y="43434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4419720" y="43434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5029200" y="36576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609480" y="335268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ach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accesible state can be removed from F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ccessible St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1676520" y="1066680"/>
            <a:ext cx="70866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tate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is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ccessible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if a string takes DFA from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(the start state) to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 flipH="1">
            <a:off x="4114080" y="4419720"/>
            <a:ext cx="406440" cy="334800"/>
          </a:xfrm>
          <a:custGeom>
            <a:avLst/>
            <a:gdLst/>
            <a:ahLst/>
            <a:rect l="l" t="t" r="r" b="b"/>
            <a:pathLst>
              <a:path w="256" h="211">
                <a:moveTo>
                  <a:pt x="256" y="208"/>
                </a:moveTo>
                <a:cubicBezTo>
                  <a:pt x="231" y="203"/>
                  <a:pt x="147" y="211"/>
                  <a:pt x="104" y="176"/>
                </a:cubicBezTo>
                <a:cubicBezTo>
                  <a:pt x="61" y="141"/>
                  <a:pt x="22" y="37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5" name=""/>
          <p:cNvGrpSpPr/>
          <p:nvPr/>
        </p:nvGrpSpPr>
        <p:grpSpPr>
          <a:xfrm>
            <a:off x="609480" y="4800600"/>
            <a:ext cx="8013960" cy="1963800"/>
            <a:chOff x="609480" y="4800600"/>
            <a:chExt cx="8013960" cy="1963800"/>
          </a:xfrm>
        </p:grpSpPr>
        <p:sp>
          <p:nvSpPr>
            <p:cNvPr id="786" name=""/>
            <p:cNvSpPr/>
            <p:nvPr/>
          </p:nvSpPr>
          <p:spPr>
            <a:xfrm>
              <a:off x="609480" y="4800600"/>
              <a:ext cx="731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State 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s 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- accesible: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cs-CZ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0" lang="cs-CZ" sz="30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22440" y="5130720"/>
              <a:ext cx="800100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State 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cs-CZ" sz="30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- accesible: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cs-CZ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cs-CZ" sz="30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22440" y="5473800"/>
              <a:ext cx="800100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State 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f 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- accesible: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cs-CZ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 </a:t>
              </a:r>
              <a:r>
                <a:rPr b="1" i="1" lang="cs-CZ" sz="3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3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f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5830920"/>
              <a:ext cx="793764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State 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cs-CZ" sz="30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- </a:t>
              </a:r>
              <a:r>
                <a:rPr b="1" lang="cs-CZ" sz="3000" spc="-1" strike="noStrike">
                  <a:solidFill>
                    <a:srgbClr val="ff0000"/>
                  </a:solidFill>
                  <a:latin typeface="Times New Roman"/>
                </a:rPr>
                <a:t>inaccessible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there is no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28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4254480" y="6184800"/>
              <a:ext cx="32004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such that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w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0" i="1" lang="cs-CZ" sz="28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"/>
          <p:cNvSpPr/>
          <p:nvPr/>
        </p:nvSpPr>
        <p:spPr>
          <a:xfrm flipH="1" flipV="1" rot="10800000">
            <a:off x="237600" y="1902600"/>
            <a:ext cx="15217920" cy="9316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447" y="3954"/>
                </a:moveTo>
                <a:arcTo wR="10800" hR="10800" stAng="-8439555" swAng="2876166"/>
                <a:lnTo>
                  <a:pt x="10800" y="10800"/>
                </a:lnTo>
                <a:close/>
              </a:path>
              <a:path fill="none" w="21600" h="21600">
                <a:moveTo>
                  <a:pt x="2447" y="3954"/>
                </a:moveTo>
                <a:arcTo wR="10800" hR="10800" stAng="-8439555" swAng="2876166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590920" y="4267080"/>
            <a:ext cx="1523880" cy="76212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5867280" y="2514600"/>
            <a:ext cx="1524240" cy="76212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5257800" y="3962520"/>
            <a:ext cx="1752480" cy="76176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4419720" y="3429000"/>
            <a:ext cx="1066680" cy="76212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6629400" y="4572000"/>
            <a:ext cx="1523880" cy="76212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1981080" y="2209680"/>
            <a:ext cx="1371600" cy="60984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3809880" y="1523880"/>
            <a:ext cx="914400" cy="60984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066680" y="3429000"/>
            <a:ext cx="914400" cy="6094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3200400" y="2819520"/>
            <a:ext cx="990720" cy="6094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8305920" y="2590920"/>
            <a:ext cx="609480" cy="6094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495680" y="3505320"/>
            <a:ext cx="914400" cy="6094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705720" y="4648320"/>
            <a:ext cx="1371600" cy="6094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5943600" y="2590920"/>
            <a:ext cx="1371600" cy="6094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2666880" y="4343400"/>
            <a:ext cx="1371600" cy="6094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5334120" y="4038480"/>
            <a:ext cx="1600200" cy="60984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,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H="1">
            <a:off x="1571040" y="2838600"/>
            <a:ext cx="12326400" cy="6311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081" y="510"/>
                </a:moveTo>
                <a:arcTo wR="10800" hR="10800" stAng="-4338896" swAng="3424848"/>
                <a:lnTo>
                  <a:pt x="10800" y="10800"/>
                </a:lnTo>
                <a:close/>
              </a:path>
              <a:path fill="none" w="21600" h="21600">
                <a:moveTo>
                  <a:pt x="14081" y="510"/>
                </a:moveTo>
                <a:arcTo wR="10800" hR="10800" stAng="-4338896" swAng="3424848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H="1">
            <a:off x="1294560" y="-361800"/>
            <a:ext cx="965160" cy="4751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89" y="10306"/>
                </a:moveTo>
                <a:arcTo wR="10800" hR="10800" stAng="-157171" swAng="2428780"/>
                <a:lnTo>
                  <a:pt x="10800" y="10800"/>
                </a:lnTo>
                <a:close/>
              </a:path>
              <a:path fill="none" w="21600" h="21600">
                <a:moveTo>
                  <a:pt x="21589" y="10306"/>
                </a:moveTo>
                <a:arcTo wR="10800" hR="10800" stAng="-157171" swAng="2428780"/>
              </a:path>
            </a:pathLst>
          </a:custGeom>
          <a:noFill/>
          <a:ln w="3816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 flipH="1" flipV="1" rot="10800000">
            <a:off x="105120" y="1798200"/>
            <a:ext cx="17008920" cy="5571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123" y="2311"/>
                </a:moveTo>
                <a:arcTo wR="10800" hR="10800" stAng="-7691173" swAng="1786823"/>
                <a:lnTo>
                  <a:pt x="10800" y="10800"/>
                </a:lnTo>
                <a:close/>
              </a:path>
              <a:path fill="none" w="21600" h="21600">
                <a:moveTo>
                  <a:pt x="4123" y="2311"/>
                </a:moveTo>
                <a:arcTo wR="10800" hR="10800" stAng="-7691173" swAng="1786823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 flipH="1" flipV="1">
            <a:off x="1447560" y="1828800"/>
            <a:ext cx="609480" cy="53352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 flipH="1" flipV="1">
            <a:off x="1294200" y="3736800"/>
            <a:ext cx="965160" cy="1776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837" y="6814"/>
                </a:moveTo>
                <a:arcTo wR="10800" hR="10800" stAng="-1299552" swAng="3778311"/>
                <a:lnTo>
                  <a:pt x="10800" y="10800"/>
                </a:lnTo>
                <a:close/>
              </a:path>
              <a:path fill="none" w="21600" h="21600">
                <a:moveTo>
                  <a:pt x="20837" y="6814"/>
                </a:moveTo>
                <a:arcTo wR="10800" hR="10800" stAng="-1299552" swAng="3778311"/>
              </a:path>
            </a:pathLst>
          </a:custGeom>
          <a:noFill/>
          <a:ln w="3816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 flipH="1" flipV="1" rot="5400000">
            <a:off x="2250000" y="154800"/>
            <a:ext cx="964440" cy="4006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414" y="4286"/>
                </a:moveTo>
                <a:arcTo wR="10800" hR="10800" stAng="-2225747" swAng="4178396"/>
                <a:lnTo>
                  <a:pt x="10800" y="10800"/>
                </a:lnTo>
                <a:close/>
              </a:path>
              <a:path fill="none" w="21600" h="21600">
                <a:moveTo>
                  <a:pt x="19414" y="4286"/>
                </a:moveTo>
                <a:arcTo wR="10800" hR="10800" stAng="-2225747" swAng="4178396"/>
              </a:path>
            </a:pathLst>
          </a:custGeom>
          <a:noFill/>
          <a:ln w="3816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V="1" rot="16200000">
            <a:off x="5386680" y="-111240"/>
            <a:ext cx="1117080" cy="4540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414" y="4286"/>
                </a:moveTo>
                <a:arcTo wR="10800" hR="10800" stAng="-2225747" swAng="4178396"/>
                <a:lnTo>
                  <a:pt x="10800" y="10800"/>
                </a:lnTo>
                <a:close/>
              </a:path>
              <a:path fill="none" w="21600" h="21600">
                <a:moveTo>
                  <a:pt x="19414" y="4286"/>
                </a:moveTo>
                <a:arcTo wR="10800" hR="10800" stAng="-2225747" swAng="4178396"/>
              </a:path>
            </a:pathLst>
          </a:custGeom>
          <a:noFill/>
          <a:ln w="3816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-2764440" y="2644200"/>
            <a:ext cx="7814520" cy="2788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41" y="11927"/>
                </a:moveTo>
                <a:arcTo wR="10800" hR="10800" stAng="359405" swAng="4415515"/>
                <a:lnTo>
                  <a:pt x="10800" y="10800"/>
                </a:lnTo>
                <a:close/>
              </a:path>
              <a:path fill="none" w="21600" h="21600">
                <a:moveTo>
                  <a:pt x="21541" y="11927"/>
                </a:moveTo>
                <a:arcTo wR="10800" hR="10800" stAng="359405" swAng="4415515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1600200" y="1981080"/>
            <a:ext cx="2286000" cy="304812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3733560" y="3886200"/>
            <a:ext cx="685800" cy="457200"/>
          </a:xfrm>
          <a:prstGeom prst="line">
            <a:avLst/>
          </a:prstGeom>
          <a:ln w="3816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 flipV="1">
            <a:off x="7162920" y="2057400"/>
            <a:ext cx="609480" cy="53352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 flipH="1">
            <a:off x="1828800" y="4800600"/>
            <a:ext cx="838080" cy="45720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 flipH="1">
            <a:off x="3222000" y="1970280"/>
            <a:ext cx="11844000" cy="6034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580" y="364"/>
                </a:moveTo>
                <a:arcTo wR="10800" hR="10800" stAng="-4505085" swAng="3665686"/>
                <a:lnTo>
                  <a:pt x="10800" y="10800"/>
                </a:lnTo>
                <a:close/>
              </a:path>
              <a:path fill="none" w="21600" h="21600">
                <a:moveTo>
                  <a:pt x="13580" y="364"/>
                </a:moveTo>
                <a:arcTo wR="10800" hR="10800" stAng="-4505085" swAng="3665686"/>
              </a:path>
            </a:pathLst>
          </a:custGeom>
          <a:noFill/>
          <a:ln w="3816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1676520" y="3352680"/>
            <a:ext cx="1752480" cy="1752840"/>
          </a:xfrm>
          <a:custGeom>
            <a:avLst/>
            <a:gdLst/>
            <a:ahLst/>
            <a:rect l="l" t="t" r="r" b="b"/>
            <a:pathLst>
              <a:path w="1056" h="1008">
                <a:moveTo>
                  <a:pt x="1056" y="0"/>
                </a:moveTo>
                <a:cubicBezTo>
                  <a:pt x="904" y="60"/>
                  <a:pt x="752" y="120"/>
                  <a:pt x="576" y="288"/>
                </a:cubicBezTo>
                <a:cubicBezTo>
                  <a:pt x="400" y="456"/>
                  <a:pt x="72" y="872"/>
                  <a:pt x="0" y="1008"/>
                </a:cubicBezTo>
              </a:path>
            </a:pathLst>
          </a:custGeom>
          <a:noFill/>
          <a:ln w="3816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4038480" y="1981080"/>
            <a:ext cx="3429000" cy="990720"/>
          </a:xfrm>
          <a:custGeom>
            <a:avLst/>
            <a:gdLst/>
            <a:ahLst/>
            <a:rect l="l" t="t" r="r" b="b"/>
            <a:pathLst>
              <a:path w="2112" h="624">
                <a:moveTo>
                  <a:pt x="0" y="624"/>
                </a:moveTo>
                <a:cubicBezTo>
                  <a:pt x="112" y="508"/>
                  <a:pt x="224" y="392"/>
                  <a:pt x="576" y="288"/>
                </a:cubicBezTo>
                <a:cubicBezTo>
                  <a:pt x="928" y="184"/>
                  <a:pt x="1520" y="92"/>
                  <a:pt x="2112" y="0"/>
                </a:cubicBezTo>
              </a:path>
            </a:pathLst>
          </a:custGeom>
          <a:noFill/>
          <a:ln w="3816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 flipV="1">
            <a:off x="5257800" y="3200040"/>
            <a:ext cx="838080" cy="304920"/>
          </a:xfrm>
          <a:prstGeom prst="line">
            <a:avLst/>
          </a:prstGeom>
          <a:ln w="3816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762120" y="4572000"/>
            <a:ext cx="152280" cy="45720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 flipH="1" flipV="1">
            <a:off x="8229240" y="1980720"/>
            <a:ext cx="228600" cy="68580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 flipV="1" rot="5400000">
            <a:off x="4613400" y="2075040"/>
            <a:ext cx="5712120" cy="121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222" y="18646"/>
                </a:moveTo>
                <a:arcTo wR="10800" hR="10800" stAng="2795334" swAng="3364901"/>
                <a:lnTo>
                  <a:pt x="10800" y="10800"/>
                </a:lnTo>
                <a:close/>
              </a:path>
              <a:path fill="none" w="21600" h="21600">
                <a:moveTo>
                  <a:pt x="18222" y="18646"/>
                </a:moveTo>
                <a:arcTo wR="10800" hR="10800" stAng="2795334" swAng="3364901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 flipV="1" rot="5400000">
            <a:off x="4464360" y="971640"/>
            <a:ext cx="3895920" cy="3051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673" y="15178"/>
                </a:moveTo>
                <a:arcTo wR="10800" hR="10800" stAng="1434762" swAng="4725472"/>
                <a:lnTo>
                  <a:pt x="10800" y="10800"/>
                </a:lnTo>
                <a:close/>
              </a:path>
              <a:path fill="none" w="21600" h="21600">
                <a:moveTo>
                  <a:pt x="20673" y="15178"/>
                </a:moveTo>
                <a:arcTo wR="10800" hR="10800" stAng="1434762" swAng="4725472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 flipV="1" rot="5400000">
            <a:off x="2912040" y="-932760"/>
            <a:ext cx="3945960" cy="5933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383" y="12956"/>
                </a:moveTo>
                <a:arcTo wR="10800" hR="10800" stAng="691074" swAng="4682227"/>
                <a:lnTo>
                  <a:pt x="10800" y="10800"/>
                </a:lnTo>
                <a:close/>
              </a:path>
              <a:path fill="none" w="21600" h="21600">
                <a:moveTo>
                  <a:pt x="21383" y="12956"/>
                </a:moveTo>
                <a:arcTo wR="10800" hR="10800" stAng="691074" swAng="4682227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 flipH="1" flipV="1">
            <a:off x="5104800" y="3809520"/>
            <a:ext cx="520920" cy="761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564" y="71"/>
                </a:moveTo>
                <a:arcTo wR="10800" hR="10800" stAng="-5794403" swAng="5794403"/>
                <a:lnTo>
                  <a:pt x="10800" y="10800"/>
                </a:lnTo>
                <a:close/>
              </a:path>
              <a:path fill="none" w="21600" h="21600">
                <a:moveTo>
                  <a:pt x="9564" y="71"/>
                </a:moveTo>
                <a:arcTo wR="10800" hR="10800" stAng="-5794403" swAng="5794403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 flipH="1" flipV="1">
            <a:off x="7238160" y="5104800"/>
            <a:ext cx="106524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079" y="24"/>
                </a:moveTo>
                <a:arcTo wR="10800" hR="10800" stAng="-5629809" swAng="5629809"/>
                <a:lnTo>
                  <a:pt x="10800" y="10800"/>
                </a:lnTo>
                <a:close/>
              </a:path>
              <a:path fill="none" w="21600" h="21600">
                <a:moveTo>
                  <a:pt x="10079" y="24"/>
                </a:moveTo>
                <a:arcTo wR="10800" hR="10800" stAng="-5629809" swAng="5629809"/>
              </a:path>
            </a:pathLst>
          </a:custGeom>
          <a:noFill/>
          <a:ln w="3816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flipV="1" rot="2406600">
            <a:off x="4352040" y="3938400"/>
            <a:ext cx="380520" cy="55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58" y="15859"/>
                </a:moveTo>
                <a:arcTo wR="10800" hR="10800" stAng="9124145" swAng="15490226"/>
                <a:lnTo>
                  <a:pt x="10800" y="10800"/>
                </a:lnTo>
                <a:close/>
              </a:path>
              <a:path fill="none" w="21600" h="21600">
                <a:moveTo>
                  <a:pt x="1258" y="15859"/>
                </a:moveTo>
                <a:arcTo wR="10800" hR="10800" stAng="9124145" swAng="15490226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-3189240" y="2811600"/>
            <a:ext cx="8968680" cy="2759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015" y="14305"/>
                </a:moveTo>
                <a:arcTo wR="10800" hR="10800" stAng="1136405" swAng="3925464"/>
                <a:lnTo>
                  <a:pt x="10800" y="10800"/>
                </a:lnTo>
                <a:close/>
              </a:path>
              <a:path fill="none" w="21600" h="21600">
                <a:moveTo>
                  <a:pt x="21015" y="14305"/>
                </a:moveTo>
                <a:arcTo wR="10800" hR="10800" stAng="1136405" swAng="3925464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-4029840" y="3809520"/>
            <a:ext cx="10955520" cy="1829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015" y="14305"/>
                </a:moveTo>
                <a:arcTo wR="10800" hR="10800" stAng="1136405" swAng="4132002"/>
                <a:lnTo>
                  <a:pt x="10800" y="10800"/>
                </a:lnTo>
                <a:close/>
              </a:path>
              <a:path fill="none" w="21600" h="21600">
                <a:moveTo>
                  <a:pt x="21015" y="14305"/>
                </a:moveTo>
                <a:arcTo wR="10800" hR="10800" stAng="1136405" swAng="4132002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8381880" y="21337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762120" y="441972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3200400" y="12193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4800600" y="12193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3505320" y="175248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1295280" y="25909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1828800" y="30481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1295280" y="39625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4343400" y="39625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5562720" y="342900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4114800" y="44197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3962520" y="243828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2971800" y="30481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4952880" y="434340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7010280" y="37339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4495680" y="46483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1828800" y="182880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3200400" y="19051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2057400" y="26668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3657600" y="38098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5562720" y="289548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7010280" y="21337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3200400" y="38098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2209680" y="44956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5486400" y="25909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7010280" y="525780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7620120" y="411480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6095880" y="47242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380880" y="3962520"/>
            <a:ext cx="609840" cy="6094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3" name=""/>
          <p:cNvGrpSpPr/>
          <p:nvPr/>
        </p:nvGrpSpPr>
        <p:grpSpPr>
          <a:xfrm>
            <a:off x="151920" y="1371240"/>
            <a:ext cx="8839440" cy="5230080"/>
            <a:chOff x="151920" y="1371240"/>
            <a:chExt cx="8839440" cy="5230080"/>
          </a:xfrm>
        </p:grpSpPr>
        <p:grpSp>
          <p:nvGrpSpPr>
            <p:cNvPr id="864" name=""/>
            <p:cNvGrpSpPr/>
            <p:nvPr/>
          </p:nvGrpSpPr>
          <p:grpSpPr>
            <a:xfrm>
              <a:off x="151920" y="1371240"/>
              <a:ext cx="8839440" cy="4038120"/>
              <a:chOff x="151920" y="1371240"/>
              <a:chExt cx="8839440" cy="4038120"/>
            </a:xfrm>
          </p:grpSpPr>
          <p:grpSp>
            <p:nvGrpSpPr>
              <p:cNvPr id="865" name=""/>
              <p:cNvGrpSpPr/>
              <p:nvPr/>
            </p:nvGrpSpPr>
            <p:grpSpPr>
              <a:xfrm>
                <a:off x="2133360" y="2056680"/>
                <a:ext cx="990720" cy="914040"/>
                <a:chOff x="2133360" y="2056680"/>
                <a:chExt cx="990720" cy="914040"/>
              </a:xfrm>
            </p:grpSpPr>
            <p:sp>
              <p:nvSpPr>
                <p:cNvPr id="866" name=""/>
                <p:cNvSpPr/>
                <p:nvPr/>
              </p:nvSpPr>
              <p:spPr>
                <a:xfrm flipV="1">
                  <a:off x="2133720" y="205668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7" name=""/>
                <p:cNvSpPr/>
                <p:nvPr/>
              </p:nvSpPr>
              <p:spPr>
                <a:xfrm flipH="1" flipV="1">
                  <a:off x="2133360" y="205668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8" name=""/>
              <p:cNvGrpSpPr/>
              <p:nvPr/>
            </p:nvGrpSpPr>
            <p:grpSpPr>
              <a:xfrm>
                <a:off x="3809520" y="1371240"/>
                <a:ext cx="990720" cy="914040"/>
                <a:chOff x="3809520" y="1371240"/>
                <a:chExt cx="990720" cy="914040"/>
              </a:xfrm>
            </p:grpSpPr>
            <p:sp>
              <p:nvSpPr>
                <p:cNvPr id="869" name=""/>
                <p:cNvSpPr/>
                <p:nvPr/>
              </p:nvSpPr>
              <p:spPr>
                <a:xfrm flipV="1">
                  <a:off x="3809880" y="137124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0" name=""/>
                <p:cNvSpPr/>
                <p:nvPr/>
              </p:nvSpPr>
              <p:spPr>
                <a:xfrm flipH="1" flipV="1">
                  <a:off x="3809520" y="137124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1" name=""/>
              <p:cNvGrpSpPr/>
              <p:nvPr/>
            </p:nvGrpSpPr>
            <p:grpSpPr>
              <a:xfrm>
                <a:off x="1066320" y="3276000"/>
                <a:ext cx="990720" cy="914040"/>
                <a:chOff x="1066320" y="3276000"/>
                <a:chExt cx="990720" cy="914040"/>
              </a:xfrm>
            </p:grpSpPr>
            <p:sp>
              <p:nvSpPr>
                <p:cNvPr id="872" name=""/>
                <p:cNvSpPr/>
                <p:nvPr/>
              </p:nvSpPr>
              <p:spPr>
                <a:xfrm flipV="1">
                  <a:off x="1066680" y="327600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3" name=""/>
                <p:cNvSpPr/>
                <p:nvPr/>
              </p:nvSpPr>
              <p:spPr>
                <a:xfrm flipH="1" flipV="1">
                  <a:off x="1066320" y="327600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4" name=""/>
              <p:cNvGrpSpPr/>
              <p:nvPr/>
            </p:nvGrpSpPr>
            <p:grpSpPr>
              <a:xfrm>
                <a:off x="151920" y="3733200"/>
                <a:ext cx="990720" cy="914040"/>
                <a:chOff x="151920" y="3733200"/>
                <a:chExt cx="990720" cy="914040"/>
              </a:xfrm>
            </p:grpSpPr>
            <p:sp>
              <p:nvSpPr>
                <p:cNvPr id="875" name=""/>
                <p:cNvSpPr/>
                <p:nvPr/>
              </p:nvSpPr>
              <p:spPr>
                <a:xfrm flipV="1">
                  <a:off x="152280" y="373320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6" name=""/>
                <p:cNvSpPr/>
                <p:nvPr/>
              </p:nvSpPr>
              <p:spPr>
                <a:xfrm flipH="1" flipV="1">
                  <a:off x="151920" y="373320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7" name=""/>
              <p:cNvGrpSpPr/>
              <p:nvPr/>
            </p:nvGrpSpPr>
            <p:grpSpPr>
              <a:xfrm>
                <a:off x="3200040" y="2666520"/>
                <a:ext cx="990720" cy="914040"/>
                <a:chOff x="3200040" y="2666520"/>
                <a:chExt cx="990720" cy="914040"/>
              </a:xfrm>
            </p:grpSpPr>
            <p:sp>
              <p:nvSpPr>
                <p:cNvPr id="878" name=""/>
                <p:cNvSpPr/>
                <p:nvPr/>
              </p:nvSpPr>
              <p:spPr>
                <a:xfrm flipV="1">
                  <a:off x="3200400" y="266652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9" name=""/>
                <p:cNvSpPr/>
                <p:nvPr/>
              </p:nvSpPr>
              <p:spPr>
                <a:xfrm flipH="1" flipV="1">
                  <a:off x="3200040" y="266652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0" name=""/>
              <p:cNvGrpSpPr/>
              <p:nvPr/>
            </p:nvGrpSpPr>
            <p:grpSpPr>
              <a:xfrm>
                <a:off x="2895120" y="4266720"/>
                <a:ext cx="990720" cy="914040"/>
                <a:chOff x="2895120" y="4266720"/>
                <a:chExt cx="990720" cy="914040"/>
              </a:xfrm>
            </p:grpSpPr>
            <p:sp>
              <p:nvSpPr>
                <p:cNvPr id="881" name=""/>
                <p:cNvSpPr/>
                <p:nvPr/>
              </p:nvSpPr>
              <p:spPr>
                <a:xfrm flipV="1">
                  <a:off x="2895480" y="426672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2" name=""/>
                <p:cNvSpPr/>
                <p:nvPr/>
              </p:nvSpPr>
              <p:spPr>
                <a:xfrm flipH="1" flipV="1">
                  <a:off x="2895120" y="426672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3" name=""/>
              <p:cNvGrpSpPr/>
              <p:nvPr/>
            </p:nvGrpSpPr>
            <p:grpSpPr>
              <a:xfrm>
                <a:off x="6171840" y="2437920"/>
                <a:ext cx="990720" cy="914040"/>
                <a:chOff x="6171840" y="2437920"/>
                <a:chExt cx="990720" cy="914040"/>
              </a:xfrm>
            </p:grpSpPr>
            <p:sp>
              <p:nvSpPr>
                <p:cNvPr id="884" name=""/>
                <p:cNvSpPr/>
                <p:nvPr/>
              </p:nvSpPr>
              <p:spPr>
                <a:xfrm flipV="1">
                  <a:off x="6172200" y="243792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5" name=""/>
                <p:cNvSpPr/>
                <p:nvPr/>
              </p:nvSpPr>
              <p:spPr>
                <a:xfrm flipH="1" flipV="1">
                  <a:off x="6171840" y="243792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6" name=""/>
              <p:cNvGrpSpPr/>
              <p:nvPr/>
            </p:nvGrpSpPr>
            <p:grpSpPr>
              <a:xfrm>
                <a:off x="4495320" y="3428280"/>
                <a:ext cx="990720" cy="914040"/>
                <a:chOff x="4495320" y="3428280"/>
                <a:chExt cx="990720" cy="914040"/>
              </a:xfrm>
            </p:grpSpPr>
            <p:sp>
              <p:nvSpPr>
                <p:cNvPr id="887" name=""/>
                <p:cNvSpPr/>
                <p:nvPr/>
              </p:nvSpPr>
              <p:spPr>
                <a:xfrm flipV="1">
                  <a:off x="4495680" y="342828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8" name=""/>
                <p:cNvSpPr/>
                <p:nvPr/>
              </p:nvSpPr>
              <p:spPr>
                <a:xfrm flipH="1" flipV="1">
                  <a:off x="4495320" y="342828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9" name=""/>
              <p:cNvGrpSpPr/>
              <p:nvPr/>
            </p:nvGrpSpPr>
            <p:grpSpPr>
              <a:xfrm>
                <a:off x="5638320" y="3885480"/>
                <a:ext cx="990720" cy="914040"/>
                <a:chOff x="5638320" y="3885480"/>
                <a:chExt cx="990720" cy="914040"/>
              </a:xfrm>
            </p:grpSpPr>
            <p:sp>
              <p:nvSpPr>
                <p:cNvPr id="890" name=""/>
                <p:cNvSpPr/>
                <p:nvPr/>
              </p:nvSpPr>
              <p:spPr>
                <a:xfrm flipV="1">
                  <a:off x="5638680" y="388548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1" name=""/>
                <p:cNvSpPr/>
                <p:nvPr/>
              </p:nvSpPr>
              <p:spPr>
                <a:xfrm flipH="1" flipV="1">
                  <a:off x="5638320" y="388548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2" name=""/>
              <p:cNvGrpSpPr/>
              <p:nvPr/>
            </p:nvGrpSpPr>
            <p:grpSpPr>
              <a:xfrm>
                <a:off x="6857640" y="4495320"/>
                <a:ext cx="990720" cy="914040"/>
                <a:chOff x="6857640" y="4495320"/>
                <a:chExt cx="990720" cy="914040"/>
              </a:xfrm>
            </p:grpSpPr>
            <p:sp>
              <p:nvSpPr>
                <p:cNvPr id="893" name=""/>
                <p:cNvSpPr/>
                <p:nvPr/>
              </p:nvSpPr>
              <p:spPr>
                <a:xfrm flipV="1">
                  <a:off x="6858000" y="449532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4" name=""/>
                <p:cNvSpPr/>
                <p:nvPr/>
              </p:nvSpPr>
              <p:spPr>
                <a:xfrm flipH="1" flipV="1">
                  <a:off x="6857640" y="449532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5" name=""/>
              <p:cNvGrpSpPr/>
              <p:nvPr/>
            </p:nvGrpSpPr>
            <p:grpSpPr>
              <a:xfrm>
                <a:off x="8000640" y="2361600"/>
                <a:ext cx="990720" cy="914040"/>
                <a:chOff x="8000640" y="2361600"/>
                <a:chExt cx="990720" cy="914040"/>
              </a:xfrm>
            </p:grpSpPr>
            <p:sp>
              <p:nvSpPr>
                <p:cNvPr id="896" name=""/>
                <p:cNvSpPr/>
                <p:nvPr/>
              </p:nvSpPr>
              <p:spPr>
                <a:xfrm flipV="1">
                  <a:off x="8001000" y="236160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7" name=""/>
                <p:cNvSpPr/>
                <p:nvPr/>
              </p:nvSpPr>
              <p:spPr>
                <a:xfrm flipH="1" flipV="1">
                  <a:off x="8000640" y="236160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98" name=""/>
            <p:cNvSpPr/>
            <p:nvPr/>
          </p:nvSpPr>
          <p:spPr>
            <a:xfrm>
              <a:off x="2133720" y="6019920"/>
              <a:ext cx="5257800" cy="581400"/>
            </a:xfrm>
            <a:prstGeom prst="rect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any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inaccessible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states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vious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0" name=""/>
          <p:cNvGrpSpPr/>
          <p:nvPr/>
        </p:nvGrpSpPr>
        <p:grpSpPr>
          <a:xfrm>
            <a:off x="304920" y="1066680"/>
            <a:ext cx="8702280" cy="5748120"/>
            <a:chOff x="304920" y="1066680"/>
            <a:chExt cx="8702280" cy="5748120"/>
          </a:xfrm>
        </p:grpSpPr>
        <p:sp>
          <p:nvSpPr>
            <p:cNvPr id="901" name=""/>
            <p:cNvSpPr/>
            <p:nvPr/>
          </p:nvSpPr>
          <p:spPr>
            <a:xfrm>
              <a:off x="7848720" y="5257440"/>
              <a:ext cx="761760" cy="7621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609480" y="4952880"/>
              <a:ext cx="1219320" cy="8380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7315200" y="1295280"/>
              <a:ext cx="1219320" cy="7617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7391520" y="1371240"/>
              <a:ext cx="1066680" cy="6098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685800" y="5028840"/>
              <a:ext cx="106668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 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990720" y="137124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7924680" y="5333760"/>
              <a:ext cx="60984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 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609480" y="1447560"/>
              <a:ext cx="4572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 flipH="1" flipV="1">
              <a:off x="411120" y="1294560"/>
              <a:ext cx="8059320" cy="137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620" y="18249"/>
                  </a:moveTo>
                  <a:arcTo wR="10800" hR="10800" stAng="2616307" swAng="5606492"/>
                  <a:lnTo>
                    <a:pt x="10800" y="10800"/>
                  </a:lnTo>
                  <a:close/>
                </a:path>
                <a:path fill="none" w="21600" h="21600">
                  <a:moveTo>
                    <a:pt x="18620" y="18249"/>
                  </a:moveTo>
                  <a:arcTo wR="10800" hR="10800" stAng="2616307" swAng="5606492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 flipV="1" rot="2406600">
              <a:off x="619200" y="1649160"/>
              <a:ext cx="380520" cy="560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61" y="21599"/>
                  </a:moveTo>
                  <a:arcTo wR="10800" hR="10800" stAng="5444291" swAng="200297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61" y="21599"/>
                  </a:moveTo>
                  <a:arcTo wR="10800" hR="10800" stAng="5444291" swAng="20029796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 flipV="1" rot="16200000">
              <a:off x="-569520" y="2886840"/>
              <a:ext cx="4186440" cy="1065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620" y="18249"/>
                  </a:moveTo>
                  <a:arcTo wR="10800" hR="10800" stAng="2616307" swAng="5606492"/>
                  <a:lnTo>
                    <a:pt x="10800" y="10800"/>
                  </a:lnTo>
                  <a:close/>
                </a:path>
                <a:path fill="none" w="21600" h="21600">
                  <a:moveTo>
                    <a:pt x="18620" y="18249"/>
                  </a:moveTo>
                  <a:arcTo wR="10800" hR="10800" stAng="2616307" swAng="5606492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 flipV="1" rot="5400000">
              <a:off x="4978080" y="3481920"/>
              <a:ext cx="5598720" cy="106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542" y="20503"/>
                  </a:moveTo>
                  <a:arcTo wR="10800" hR="10800" stAng="3837239" swAng="4226180"/>
                  <a:lnTo>
                    <a:pt x="10800" y="10800"/>
                  </a:lnTo>
                  <a:close/>
                </a:path>
                <a:path fill="none" w="21600" h="21600">
                  <a:moveTo>
                    <a:pt x="15542" y="20503"/>
                  </a:moveTo>
                  <a:arcTo wR="10800" hR="10800" stAng="3837239" swAng="4226180"/>
                </a:path>
              </a:pathLst>
            </a:custGeom>
            <a:noFill/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 flipH="1">
              <a:off x="365040" y="4724280"/>
              <a:ext cx="8641800" cy="121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598" y="18272"/>
                  </a:moveTo>
                  <a:arcTo wR="10800" hR="10800" stAng="2626643" swAng="5660680"/>
                  <a:lnTo>
                    <a:pt x="10800" y="10800"/>
                  </a:lnTo>
                  <a:close/>
                </a:path>
                <a:path fill="none" w="21600" h="21600">
                  <a:moveTo>
                    <a:pt x="18598" y="18272"/>
                  </a:moveTo>
                  <a:arcTo wR="10800" hR="10800" stAng="2626643" swAng="5660680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 flipH="1" flipV="1" rot="19193400">
              <a:off x="8457840" y="1752480"/>
              <a:ext cx="380520" cy="55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61" y="21599"/>
                  </a:moveTo>
                  <a:arcTo wR="10800" hR="10800" stAng="5444291" swAng="200297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61" y="21599"/>
                  </a:moveTo>
                  <a:arcTo wR="10800" hR="10800" stAng="5444291" swAng="20029796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457200" y="1981080"/>
              <a:ext cx="30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1523880" y="1066680"/>
              <a:ext cx="30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685800" y="2971440"/>
              <a:ext cx="30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8534520" y="1371240"/>
              <a:ext cx="304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8305920" y="3504960"/>
              <a:ext cx="304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495680" y="5486040"/>
              <a:ext cx="30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 flipV="1">
              <a:off x="8381880" y="5028840"/>
              <a:ext cx="306000" cy="457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231" y="560"/>
                  </a:moveTo>
                  <a:arcTo wR="10800" hR="10800" stAng="-4288488" swAng="15573049"/>
                  <a:lnTo>
                    <a:pt x="10800" y="10800"/>
                  </a:lnTo>
                  <a:close/>
                </a:path>
                <a:path fill="none" w="21600" h="21600">
                  <a:moveTo>
                    <a:pt x="14231" y="560"/>
                  </a:moveTo>
                  <a:arcTo wR="10800" hR="10800" stAng="-4288488" swAng="15573049"/>
                </a:path>
              </a:pathLst>
            </a:custGeom>
            <a:noFill/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304920" y="4497120"/>
              <a:ext cx="304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8381880" y="4573440"/>
              <a:ext cx="30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 flipH="1" flipV="1">
              <a:off x="456480" y="4879080"/>
              <a:ext cx="30564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446" y="6"/>
                  </a:moveTo>
                  <a:arcTo wR="10800" hR="10800" stAng="-5512753" swAng="1561665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446" y="6"/>
                  </a:moveTo>
                  <a:arcTo wR="10800" hR="10800" stAng="-5512753" swAng="15616653"/>
                </a:path>
              </a:pathLst>
            </a:custGeom>
            <a:noFill/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Algorithm II: </a:t>
            </a:r>
            <a:r>
              <a:rPr b="0" lang="en-GB" sz="4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-free FA to DFA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1676520" y="1066680"/>
            <a:ext cx="70866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nalogy to the previous algorithm except that only sets of accessible states are introduced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0" name=""/>
          <p:cNvGrpSpPr/>
          <p:nvPr/>
        </p:nvGrpSpPr>
        <p:grpSpPr>
          <a:xfrm>
            <a:off x="380880" y="2494080"/>
            <a:ext cx="5334120" cy="3677760"/>
            <a:chOff x="380880" y="2494080"/>
            <a:chExt cx="5334120" cy="3677760"/>
          </a:xfrm>
        </p:grpSpPr>
        <p:sp>
          <p:nvSpPr>
            <p:cNvPr id="931" name=""/>
            <p:cNvSpPr/>
            <p:nvPr/>
          </p:nvSpPr>
          <p:spPr>
            <a:xfrm>
              <a:off x="1981080" y="287496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914400" y="2874960"/>
              <a:ext cx="24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3124080" y="279864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1905120" y="380988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838080" y="386568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380880" y="4094280"/>
              <a:ext cx="457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2971800" y="378936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1371600" y="3657600"/>
              <a:ext cx="2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1371600" y="409428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1447920" y="50292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1600200" y="563868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3048120" y="3865680"/>
              <a:ext cx="533160" cy="5331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762120" y="336708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1828800" y="333216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1981080" y="51814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2535120" y="3637080"/>
              <a:ext cx="2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2438280" y="409428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971800" y="3255840"/>
              <a:ext cx="685440" cy="61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 flipV="1">
              <a:off x="1905120" y="5603040"/>
              <a:ext cx="685440" cy="568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1219320" y="4292640"/>
              <a:ext cx="1790640" cy="379440"/>
            </a:xfrm>
            <a:custGeom>
              <a:avLst/>
              <a:gdLst/>
              <a:ahLst/>
              <a:rect l="l" t="t" r="r" b="b"/>
              <a:pathLst>
                <a:path w="1128" h="239">
                  <a:moveTo>
                    <a:pt x="0" y="41"/>
                  </a:moveTo>
                  <a:cubicBezTo>
                    <a:pt x="108" y="73"/>
                    <a:pt x="460" y="239"/>
                    <a:pt x="648" y="232"/>
                  </a:cubicBezTo>
                  <a:cubicBezTo>
                    <a:pt x="836" y="225"/>
                    <a:pt x="1028" y="48"/>
                    <a:pt x="1128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2362320" y="41148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1143000" y="4433760"/>
              <a:ext cx="2057400" cy="671760"/>
            </a:xfrm>
            <a:custGeom>
              <a:avLst/>
              <a:gdLst/>
              <a:ahLst/>
              <a:rect l="l" t="t" r="r" b="b"/>
              <a:pathLst>
                <a:path w="1152" h="192">
                  <a:moveTo>
                    <a:pt x="0" y="0"/>
                  </a:moveTo>
                  <a:cubicBezTo>
                    <a:pt x="216" y="96"/>
                    <a:pt x="432" y="192"/>
                    <a:pt x="624" y="192"/>
                  </a:cubicBezTo>
                  <a:cubicBezTo>
                    <a:pt x="816" y="192"/>
                    <a:pt x="1056" y="40"/>
                    <a:pt x="1152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2438280" y="441972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 flipV="1">
              <a:off x="990720" y="4357800"/>
              <a:ext cx="990360" cy="128088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2514600" y="4444920"/>
              <a:ext cx="851040" cy="1103400"/>
            </a:xfrm>
            <a:custGeom>
              <a:avLst/>
              <a:gdLst/>
              <a:ahLst/>
              <a:rect l="l" t="t" r="r" b="b"/>
              <a:pathLst>
                <a:path w="536" h="695">
                  <a:moveTo>
                    <a:pt x="536" y="0"/>
                  </a:moveTo>
                  <a:cubicBezTo>
                    <a:pt x="492" y="98"/>
                    <a:pt x="361" y="479"/>
                    <a:pt x="272" y="587"/>
                  </a:cubicBezTo>
                  <a:cubicBezTo>
                    <a:pt x="183" y="695"/>
                    <a:pt x="57" y="636"/>
                    <a:pt x="0" y="649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2590920" y="500868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609480" y="2494080"/>
              <a:ext cx="2286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Illustration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3809880" y="2666880"/>
              <a:ext cx="1905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i="1" lang="cs-CZ" sz="2400" spc="-1" strike="noStrike" baseline="-25000">
                  <a:solidFill>
                    <a:srgbClr val="000000"/>
                  </a:solidFill>
                  <a:latin typeface="Times New Roman"/>
                </a:rPr>
                <a:t>DFA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9" name=""/>
          <p:cNvGrpSpPr/>
          <p:nvPr/>
        </p:nvGrpSpPr>
        <p:grpSpPr>
          <a:xfrm>
            <a:off x="1102320" y="2590920"/>
            <a:ext cx="5221800" cy="1412280"/>
            <a:chOff x="1102320" y="2590920"/>
            <a:chExt cx="5221800" cy="1412280"/>
          </a:xfrm>
        </p:grpSpPr>
        <p:sp>
          <p:nvSpPr>
            <p:cNvPr id="960" name=""/>
            <p:cNvSpPr/>
            <p:nvPr/>
          </p:nvSpPr>
          <p:spPr>
            <a:xfrm>
              <a:off x="5943600" y="3048120"/>
              <a:ext cx="380520" cy="388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6422392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6422392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5943600" y="2590920"/>
              <a:ext cx="24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 rot="20482200">
              <a:off x="1143000" y="3657240"/>
              <a:ext cx="304920" cy="304920"/>
            </a:xfrm>
            <a:prstGeom prst="triangle">
              <a:avLst>
                <a:gd name="adj" fmla="val 50000"/>
              </a:avLst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3" name=""/>
          <p:cNvGrpSpPr/>
          <p:nvPr/>
        </p:nvGrpSpPr>
        <p:grpSpPr>
          <a:xfrm>
            <a:off x="3809880" y="3373560"/>
            <a:ext cx="2743200" cy="609480"/>
            <a:chOff x="3809880" y="3373560"/>
            <a:chExt cx="2743200" cy="609480"/>
          </a:xfrm>
        </p:grpSpPr>
        <p:sp>
          <p:nvSpPr>
            <p:cNvPr id="964" name=""/>
            <p:cNvSpPr/>
            <p:nvPr/>
          </p:nvSpPr>
          <p:spPr>
            <a:xfrm>
              <a:off x="5943600" y="3373560"/>
              <a:ext cx="60948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3809880" y="3449520"/>
              <a:ext cx="2210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For state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6" name=""/>
          <p:cNvSpPr/>
          <p:nvPr/>
        </p:nvSpPr>
        <p:spPr>
          <a:xfrm>
            <a:off x="3809880" y="4363920"/>
            <a:ext cx="5181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new states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{</a:t>
            </a:r>
            <a:r>
              <a:rPr b="1" i="1" lang="cs-CZ" sz="24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400" spc="-1" strike="noStrike" baseline="-25000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ff66ff"/>
                </a:solidFill>
                <a:latin typeface="Times New Roman"/>
              </a:rPr>
              <a:t>f</a:t>
            </a:r>
            <a:r>
              <a:rPr b="1" lang="cs-CZ" sz="2400" spc="-1" strike="noStrike" baseline="-25000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}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{</a:t>
            </a:r>
            <a:r>
              <a:rPr b="1" i="1" lang="cs-CZ" sz="24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400" spc="-1" strike="noStrike" baseline="-25000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ff66ff"/>
                </a:solidFill>
                <a:latin typeface="Times New Roman"/>
              </a:rPr>
              <a:t>f</a:t>
            </a:r>
            <a:r>
              <a:rPr b="1" lang="cs-CZ" sz="2400" spc="-1" strike="noStrike" baseline="-25000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}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cs-CZ" sz="2400" spc="-1" strike="noStrike" baseline="-25000">
                <a:solidFill>
                  <a:srgbClr val="000000"/>
                </a:solidFill>
                <a:latin typeface="Times New Roman"/>
              </a:rPr>
              <a:t>DF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7" name=""/>
          <p:cNvGrpSpPr/>
          <p:nvPr/>
        </p:nvGrpSpPr>
        <p:grpSpPr>
          <a:xfrm>
            <a:off x="3809880" y="4821120"/>
            <a:ext cx="3886200" cy="1905120"/>
            <a:chOff x="3809880" y="4821120"/>
            <a:chExt cx="3886200" cy="1905120"/>
          </a:xfrm>
        </p:grpSpPr>
        <p:sp>
          <p:nvSpPr>
            <p:cNvPr id="968" name=""/>
            <p:cNvSpPr/>
            <p:nvPr/>
          </p:nvSpPr>
          <p:spPr>
            <a:xfrm>
              <a:off x="3809880" y="4821120"/>
              <a:ext cx="3657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For state 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ff66ff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ff66ff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}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 rot="5400000">
              <a:off x="4213080" y="609264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3809880" y="5202360"/>
              <a:ext cx="3657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For state 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66ff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ff66ff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}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809880" y="5735520"/>
              <a:ext cx="388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dd new states 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2" name=""/>
          <p:cNvGrpSpPr/>
          <p:nvPr/>
        </p:nvGrpSpPr>
        <p:grpSpPr>
          <a:xfrm>
            <a:off x="1548000" y="2819520"/>
            <a:ext cx="7062480" cy="1661400"/>
            <a:chOff x="1548000" y="2819520"/>
            <a:chExt cx="7062480" cy="1661400"/>
          </a:xfrm>
        </p:grpSpPr>
        <p:sp>
          <p:nvSpPr>
            <p:cNvPr id="973" name=""/>
            <p:cNvSpPr/>
            <p:nvPr/>
          </p:nvSpPr>
          <p:spPr>
            <a:xfrm>
              <a:off x="7010280" y="3048120"/>
              <a:ext cx="114300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6553080" y="28195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 rot="19989600">
              <a:off x="1600200" y="3886200"/>
              <a:ext cx="304920" cy="30492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 rot="3142800">
              <a:off x="2819160" y="4114800"/>
              <a:ext cx="304920" cy="30456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 flipV="1">
              <a:off x="6477120" y="3267000"/>
              <a:ext cx="533160" cy="238320"/>
            </a:xfrm>
            <a:custGeom>
              <a:avLst/>
              <a:gdLst/>
              <a:ahLst/>
              <a:rect l="l" t="t" r="r" b="b"/>
              <a:pathLst>
                <a:path w="424" h="193">
                  <a:moveTo>
                    <a:pt x="0" y="0"/>
                  </a:moveTo>
                  <a:cubicBezTo>
                    <a:pt x="33" y="26"/>
                    <a:pt x="126" y="137"/>
                    <a:pt x="197" y="165"/>
                  </a:cubicBezTo>
                  <a:cubicBezTo>
                    <a:pt x="268" y="193"/>
                    <a:pt x="386" y="185"/>
                    <a:pt x="424" y="165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8001000" y="320040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9" name=""/>
          <p:cNvGrpSpPr/>
          <p:nvPr/>
        </p:nvGrpSpPr>
        <p:grpSpPr>
          <a:xfrm>
            <a:off x="1693080" y="3657600"/>
            <a:ext cx="6917400" cy="2040120"/>
            <a:chOff x="1693080" y="3657600"/>
            <a:chExt cx="6917400" cy="2040120"/>
          </a:xfrm>
        </p:grpSpPr>
        <p:sp>
          <p:nvSpPr>
            <p:cNvPr id="980" name=""/>
            <p:cNvSpPr/>
            <p:nvPr/>
          </p:nvSpPr>
          <p:spPr>
            <a:xfrm>
              <a:off x="6477120" y="3876840"/>
              <a:ext cx="639720" cy="334800"/>
            </a:xfrm>
            <a:custGeom>
              <a:avLst/>
              <a:gdLst/>
              <a:ahLst/>
              <a:rect l="l" t="t" r="r" b="b"/>
              <a:pathLst>
                <a:path w="424" h="193">
                  <a:moveTo>
                    <a:pt x="0" y="0"/>
                  </a:moveTo>
                  <a:cubicBezTo>
                    <a:pt x="33" y="26"/>
                    <a:pt x="126" y="137"/>
                    <a:pt x="197" y="165"/>
                  </a:cubicBezTo>
                  <a:cubicBezTo>
                    <a:pt x="268" y="193"/>
                    <a:pt x="386" y="185"/>
                    <a:pt x="424" y="165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6629400" y="36576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7010280" y="3733920"/>
              <a:ext cx="114300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 rot="3378000">
              <a:off x="1752120" y="5333760"/>
              <a:ext cx="304560" cy="304920"/>
            </a:xfrm>
            <a:prstGeom prst="triangle">
              <a:avLst>
                <a:gd name="adj" fmla="val 50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 rot="2061600">
              <a:off x="2971440" y="4343400"/>
              <a:ext cx="304920" cy="304920"/>
            </a:xfrm>
            <a:prstGeom prst="triangle">
              <a:avLst>
                <a:gd name="adj" fmla="val 50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8001000" y="388620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"/>
          <p:cNvSpPr/>
          <p:nvPr/>
        </p:nvSpPr>
        <p:spPr>
          <a:xfrm>
            <a:off x="609480" y="1062000"/>
            <a:ext cx="8305920" cy="597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ree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A: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DFA: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without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y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inaccessible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ew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e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ew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ew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r each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be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then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= R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’}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ew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= 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ew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’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nd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then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= F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nti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e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685800" y="2362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Algorithm II: </a:t>
            </a:r>
            <a:r>
              <a:rPr b="0" lang="en-GB" sz="4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-free FA to DFA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2/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/>
          <p:nvPr/>
        </p:nvSpPr>
        <p:spPr>
          <a:xfrm>
            <a:off x="685800" y="1143000"/>
            <a:ext cx="7848720" cy="19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, 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 =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685800" y="2971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685800" y="3505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609480" y="2971800"/>
            <a:ext cx="7772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ew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609480" y="350532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2362320" y="43434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 flipV="1">
            <a:off x="2362320" y="4838400"/>
            <a:ext cx="4568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2438280" y="4876920"/>
            <a:ext cx="24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3429000" y="37339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3657600" y="43434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2666880" y="36576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 flipV="1">
            <a:off x="2819520" y="4800600"/>
            <a:ext cx="609480" cy="5335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2895480" y="411480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2819520" y="3886200"/>
            <a:ext cx="609480" cy="5335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3429000" y="49528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2895480" y="46483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2971800" y="472428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3962520" y="38862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 flipH="1">
            <a:off x="4038480" y="46483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1828800" y="42670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5791320" y="4267080"/>
            <a:ext cx="609480" cy="60984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2" name=""/>
          <p:cNvGrpSpPr/>
          <p:nvPr/>
        </p:nvGrpSpPr>
        <p:grpSpPr>
          <a:xfrm>
            <a:off x="1279800" y="3581280"/>
            <a:ext cx="5044320" cy="2112480"/>
            <a:chOff x="1279800" y="3581280"/>
            <a:chExt cx="5044320" cy="2112480"/>
          </a:xfrm>
        </p:grpSpPr>
        <p:sp>
          <p:nvSpPr>
            <p:cNvPr id="1013" name=""/>
            <p:cNvSpPr/>
            <p:nvPr/>
          </p:nvSpPr>
          <p:spPr>
            <a:xfrm>
              <a:off x="5867280" y="3733560"/>
              <a:ext cx="4568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5562720" y="3581280"/>
              <a:ext cx="24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 rot="19488600">
              <a:off x="1371600" y="487620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6" name=""/>
          <p:cNvGrpSpPr/>
          <p:nvPr/>
        </p:nvGrpSpPr>
        <p:grpSpPr>
          <a:xfrm>
            <a:off x="1143000" y="3581280"/>
            <a:ext cx="7467480" cy="2057400"/>
            <a:chOff x="1143000" y="3581280"/>
            <a:chExt cx="7467480" cy="2057400"/>
          </a:xfrm>
        </p:grpSpPr>
        <p:sp>
          <p:nvSpPr>
            <p:cNvPr id="1017" name=""/>
            <p:cNvSpPr/>
            <p:nvPr/>
          </p:nvSpPr>
          <p:spPr>
            <a:xfrm>
              <a:off x="6934320" y="3886200"/>
              <a:ext cx="114300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6324480" y="4038480"/>
              <a:ext cx="660600" cy="30492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6477120" y="35812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7924680" y="3657600"/>
              <a:ext cx="6858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 flipH="1">
              <a:off x="4114800" y="358128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 flipH="1">
              <a:off x="4267080" y="434340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1143000" y="4724280"/>
              <a:ext cx="1143000" cy="9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4" name=""/>
          <p:cNvGrpSpPr/>
          <p:nvPr/>
        </p:nvGrpSpPr>
        <p:grpSpPr>
          <a:xfrm>
            <a:off x="4038480" y="3581280"/>
            <a:ext cx="4572000" cy="2209680"/>
            <a:chOff x="4038480" y="3581280"/>
            <a:chExt cx="4572000" cy="2209680"/>
          </a:xfrm>
        </p:grpSpPr>
        <p:sp>
          <p:nvSpPr>
            <p:cNvPr id="1025" name=""/>
            <p:cNvSpPr/>
            <p:nvPr/>
          </p:nvSpPr>
          <p:spPr>
            <a:xfrm flipV="1">
              <a:off x="6324480" y="4723560"/>
              <a:ext cx="660600" cy="30492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6477120" y="44956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6934320" y="4572000"/>
              <a:ext cx="114300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7924680" y="4647960"/>
              <a:ext cx="6858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 flipH="1">
              <a:off x="4267080" y="434340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 flipH="1">
              <a:off x="4038480" y="518148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4114800" y="3581280"/>
              <a:ext cx="1143000" cy="60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2" name=""/>
          <p:cNvGrpSpPr/>
          <p:nvPr/>
        </p:nvGrpSpPr>
        <p:grpSpPr>
          <a:xfrm>
            <a:off x="762120" y="4343400"/>
            <a:ext cx="7543800" cy="2214360"/>
            <a:chOff x="762120" y="4343400"/>
            <a:chExt cx="7543800" cy="2214360"/>
          </a:xfrm>
        </p:grpSpPr>
        <p:sp>
          <p:nvSpPr>
            <p:cNvPr id="1033" name=""/>
            <p:cNvSpPr/>
            <p:nvPr/>
          </p:nvSpPr>
          <p:spPr>
            <a:xfrm>
              <a:off x="4267080" y="4343400"/>
              <a:ext cx="990720" cy="60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4038480" y="5181480"/>
              <a:ext cx="990720" cy="60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4572000" y="4419360"/>
              <a:ext cx="685800" cy="533520"/>
            </a:xfrm>
            <a:prstGeom prst="rightArrow">
              <a:avLst>
                <a:gd name="adj1" fmla="val 50000"/>
                <a:gd name="adj2" fmla="val 5594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762120" y="5562360"/>
              <a:ext cx="7543800" cy="99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 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new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7" name=""/>
          <p:cNvSpPr/>
          <p:nvPr/>
        </p:nvSpPr>
        <p:spPr>
          <a:xfrm>
            <a:off x="5486400" y="457200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-free FA to DFA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Example 1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0" name=""/>
          <p:cNvGrpSpPr/>
          <p:nvPr/>
        </p:nvGrpSpPr>
        <p:grpSpPr>
          <a:xfrm>
            <a:off x="3429000" y="1295280"/>
            <a:ext cx="5029200" cy="2133360"/>
            <a:chOff x="3429000" y="1295280"/>
            <a:chExt cx="5029200" cy="2133360"/>
          </a:xfrm>
        </p:grpSpPr>
        <p:sp>
          <p:nvSpPr>
            <p:cNvPr id="1041" name=""/>
            <p:cNvSpPr/>
            <p:nvPr/>
          </p:nvSpPr>
          <p:spPr>
            <a:xfrm rot="16200000">
              <a:off x="3352680" y="2818800"/>
              <a:ext cx="685800" cy="533520"/>
            </a:xfrm>
            <a:prstGeom prst="rightArrow">
              <a:avLst>
                <a:gd name="adj1" fmla="val 50000"/>
                <a:gd name="adj2" fmla="val 32136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7848720" y="2133720"/>
              <a:ext cx="60948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 flipH="1">
              <a:off x="7619400" y="1752480"/>
              <a:ext cx="533160" cy="38124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7696080" y="12952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5" name=""/>
          <p:cNvSpPr/>
          <p:nvPr/>
        </p:nvSpPr>
        <p:spPr>
          <a:xfrm>
            <a:off x="838080" y="14479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685800" y="1066680"/>
            <a:ext cx="2666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= {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5486400" y="2057400"/>
            <a:ext cx="609480" cy="60948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5486400" y="1523880"/>
            <a:ext cx="456840" cy="61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5181480" y="1371600"/>
            <a:ext cx="24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6019920" y="1905120"/>
            <a:ext cx="380880" cy="22860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6019920" y="13716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6095880" y="21337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3" name=""/>
          <p:cNvGrpSpPr/>
          <p:nvPr/>
        </p:nvGrpSpPr>
        <p:grpSpPr>
          <a:xfrm>
            <a:off x="1143000" y="1066680"/>
            <a:ext cx="6095520" cy="2438280"/>
            <a:chOff x="1143000" y="1066680"/>
            <a:chExt cx="6095520" cy="2438280"/>
          </a:xfrm>
        </p:grpSpPr>
        <p:sp>
          <p:nvSpPr>
            <p:cNvPr id="1054" name=""/>
            <p:cNvSpPr/>
            <p:nvPr/>
          </p:nvSpPr>
          <p:spPr>
            <a:xfrm rot="16200000">
              <a:off x="1066680" y="2818440"/>
              <a:ext cx="685800" cy="533520"/>
            </a:xfrm>
            <a:prstGeom prst="rightArrow">
              <a:avLst>
                <a:gd name="adj1" fmla="val 50000"/>
                <a:gd name="adj2" fmla="val 32136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 rot="16200000">
              <a:off x="1981080" y="2818440"/>
              <a:ext cx="685800" cy="533520"/>
            </a:xfrm>
            <a:prstGeom prst="rightArrow">
              <a:avLst>
                <a:gd name="adj1" fmla="val 50000"/>
                <a:gd name="adj2" fmla="val 32136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6781680" y="1218960"/>
              <a:ext cx="456840" cy="40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6477120" y="10666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3352680" y="2742840"/>
              <a:ext cx="68580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9" name=""/>
          <p:cNvSpPr/>
          <p:nvPr/>
        </p:nvSpPr>
        <p:spPr>
          <a:xfrm>
            <a:off x="5181480" y="243828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0" name=""/>
          <p:cNvGrpSpPr/>
          <p:nvPr/>
        </p:nvGrpSpPr>
        <p:grpSpPr>
          <a:xfrm>
            <a:off x="6400800" y="1600200"/>
            <a:ext cx="1295280" cy="685800"/>
            <a:chOff x="6400800" y="1600200"/>
            <a:chExt cx="1295280" cy="685800"/>
          </a:xfrm>
        </p:grpSpPr>
        <p:sp>
          <p:nvSpPr>
            <p:cNvPr id="1061" name=""/>
            <p:cNvSpPr/>
            <p:nvPr/>
          </p:nvSpPr>
          <p:spPr>
            <a:xfrm>
              <a:off x="6400800" y="1600200"/>
              <a:ext cx="129528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6504120" y="1608120"/>
              <a:ext cx="10900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3" name=""/>
          <p:cNvGrpSpPr/>
          <p:nvPr/>
        </p:nvGrpSpPr>
        <p:grpSpPr>
          <a:xfrm>
            <a:off x="6400800" y="2379600"/>
            <a:ext cx="1295280" cy="591840"/>
            <a:chOff x="6400800" y="2379600"/>
            <a:chExt cx="1295280" cy="591840"/>
          </a:xfrm>
        </p:grpSpPr>
        <p:sp>
          <p:nvSpPr>
            <p:cNvPr id="1064" name=""/>
            <p:cNvSpPr/>
            <p:nvPr/>
          </p:nvSpPr>
          <p:spPr>
            <a:xfrm>
              <a:off x="6400800" y="2437920"/>
              <a:ext cx="129528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6504120" y="2379600"/>
              <a:ext cx="10900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6" name=""/>
          <p:cNvSpPr/>
          <p:nvPr/>
        </p:nvSpPr>
        <p:spPr>
          <a:xfrm flipV="1">
            <a:off x="6019920" y="2513880"/>
            <a:ext cx="380880" cy="22860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1676520" y="19051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1143000" y="21337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2057400" y="21337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1676520" y="2438280"/>
            <a:ext cx="38088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609480" y="20574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 flipH="1">
            <a:off x="2514600" y="20574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1143000" y="1600200"/>
            <a:ext cx="4568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3429000" y="21337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2895480" y="20574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 flipH="1">
            <a:off x="3886200" y="20574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3429000" y="1600200"/>
            <a:ext cx="4568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3124080" y="15238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9" name=""/>
          <p:cNvGrpSpPr/>
          <p:nvPr/>
        </p:nvGrpSpPr>
        <p:grpSpPr>
          <a:xfrm>
            <a:off x="5980320" y="1676520"/>
            <a:ext cx="2777760" cy="2057760"/>
            <a:chOff x="5980320" y="1676520"/>
            <a:chExt cx="2777760" cy="2057760"/>
          </a:xfrm>
        </p:grpSpPr>
        <p:sp>
          <p:nvSpPr>
            <p:cNvPr id="1080" name=""/>
            <p:cNvSpPr/>
            <p:nvPr/>
          </p:nvSpPr>
          <p:spPr>
            <a:xfrm>
              <a:off x="5980320" y="3154680"/>
              <a:ext cx="27777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:= </a:t>
              </a: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6477120" y="1676520"/>
              <a:ext cx="1143000" cy="5331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2" name=""/>
          <p:cNvGrpSpPr/>
          <p:nvPr/>
        </p:nvGrpSpPr>
        <p:grpSpPr>
          <a:xfrm>
            <a:off x="533520" y="3657600"/>
            <a:ext cx="7924680" cy="1980720"/>
            <a:chOff x="533520" y="3657600"/>
            <a:chExt cx="7924680" cy="1980720"/>
          </a:xfrm>
        </p:grpSpPr>
        <p:sp>
          <p:nvSpPr>
            <p:cNvPr id="1083" name=""/>
            <p:cNvSpPr/>
            <p:nvPr/>
          </p:nvSpPr>
          <p:spPr>
            <a:xfrm>
              <a:off x="685800" y="373356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6400800" y="36576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5800" y="3657600"/>
              <a:ext cx="2666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= {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1600200" y="457164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1066680" y="480024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1981080" y="480024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1600200" y="5105160"/>
              <a:ext cx="38088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33520" y="47242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 flipH="1">
              <a:off x="2438280" y="47242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1066680" y="4267080"/>
              <a:ext cx="456840" cy="61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762120" y="419076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3352680" y="480024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2819520" y="47242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 flipH="1">
              <a:off x="3809880" y="47242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3352680" y="4267080"/>
              <a:ext cx="456840" cy="61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3048120" y="419076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7772400" y="4571640"/>
              <a:ext cx="60948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 flipH="1">
              <a:off x="7543800" y="4343040"/>
              <a:ext cx="533520" cy="22824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7620120" y="388584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6705720" y="3809880"/>
              <a:ext cx="456840" cy="405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5410080" y="4647960"/>
              <a:ext cx="609840" cy="6091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5410080" y="4114440"/>
              <a:ext cx="4568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5105520" y="3962160"/>
              <a:ext cx="24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5943600" y="4495680"/>
              <a:ext cx="380880" cy="22824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5943600" y="396216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6019920" y="47242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5105520" y="502884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0" name=""/>
            <p:cNvGrpSpPr/>
            <p:nvPr/>
          </p:nvGrpSpPr>
          <p:grpSpPr>
            <a:xfrm>
              <a:off x="6324480" y="4190760"/>
              <a:ext cx="1295280" cy="685440"/>
              <a:chOff x="6324480" y="4190760"/>
              <a:chExt cx="1295280" cy="685440"/>
            </a:xfrm>
          </p:grpSpPr>
          <p:sp>
            <p:nvSpPr>
              <p:cNvPr id="1111" name=""/>
              <p:cNvSpPr/>
              <p:nvPr/>
            </p:nvSpPr>
            <p:spPr>
              <a:xfrm>
                <a:off x="6324480" y="4190760"/>
                <a:ext cx="1295280" cy="68544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6427800" y="4198320"/>
                <a:ext cx="10900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1" i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1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1" i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}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3" name=""/>
            <p:cNvGrpSpPr/>
            <p:nvPr/>
          </p:nvGrpSpPr>
          <p:grpSpPr>
            <a:xfrm>
              <a:off x="6324480" y="4952880"/>
              <a:ext cx="1295280" cy="685440"/>
              <a:chOff x="6324480" y="4952880"/>
              <a:chExt cx="1295280" cy="685440"/>
            </a:xfrm>
          </p:grpSpPr>
          <p:sp>
            <p:nvSpPr>
              <p:cNvPr id="1114" name=""/>
              <p:cNvSpPr/>
              <p:nvPr/>
            </p:nvSpPr>
            <p:spPr>
              <a:xfrm>
                <a:off x="6324480" y="4952880"/>
                <a:ext cx="1295280" cy="68544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6427800" y="4960440"/>
                <a:ext cx="10900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1" i="1" lang="cs-CZ" sz="2800" spc="-1" strike="noStrike">
                    <a:solidFill>
                      <a:srgbClr val="ff0000"/>
                    </a:solidFill>
                    <a:latin typeface="Times New Roman"/>
                  </a:rPr>
                  <a:t>q</a:t>
                </a:r>
                <a:r>
                  <a:rPr b="1" lang="cs-CZ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2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1" i="1" lang="cs-CZ" sz="28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1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}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16" name=""/>
            <p:cNvSpPr/>
            <p:nvPr/>
          </p:nvSpPr>
          <p:spPr>
            <a:xfrm flipV="1">
              <a:off x="5943600" y="5105160"/>
              <a:ext cx="380880" cy="22824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6400800" y="4267080"/>
              <a:ext cx="1143000" cy="532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8" name=""/>
          <p:cNvGrpSpPr/>
          <p:nvPr/>
        </p:nvGrpSpPr>
        <p:grpSpPr>
          <a:xfrm>
            <a:off x="289800" y="2057400"/>
            <a:ext cx="7025400" cy="1676520"/>
            <a:chOff x="289800" y="2057400"/>
            <a:chExt cx="7025400" cy="1676520"/>
          </a:xfrm>
        </p:grpSpPr>
        <p:grpSp>
          <p:nvGrpSpPr>
            <p:cNvPr id="1119" name=""/>
            <p:cNvGrpSpPr/>
            <p:nvPr/>
          </p:nvGrpSpPr>
          <p:grpSpPr>
            <a:xfrm>
              <a:off x="289800" y="2742840"/>
              <a:ext cx="7025400" cy="991080"/>
              <a:chOff x="289800" y="2742840"/>
              <a:chExt cx="7025400" cy="991080"/>
            </a:xfrm>
          </p:grpSpPr>
          <p:sp>
            <p:nvSpPr>
              <p:cNvPr id="1120" name=""/>
              <p:cNvSpPr/>
              <p:nvPr/>
            </p:nvSpPr>
            <p:spPr>
              <a:xfrm>
                <a:off x="990720" y="2742840"/>
                <a:ext cx="1676160" cy="838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380880" y="2818800"/>
                <a:ext cx="69343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i="1" lang="cs-CZ" sz="2600" spc="-1" strike="noStrike" baseline="-25000">
                    <a:solidFill>
                      <a:srgbClr val="000000"/>
                    </a:solidFill>
                    <a:latin typeface="Times New Roman"/>
                  </a:rPr>
                  <a:t>d </a:t>
                </a:r>
                <a:r>
                  <a:rPr b="0" lang="cs-CZ" sz="2600" spc="-1" strike="noStrike">
                    <a:solidFill>
                      <a:srgbClr val="000000"/>
                    </a:solidFill>
                    <a:latin typeface="Times New Roman"/>
                  </a:rPr>
                  <a:t>:</a:t>
                </a:r>
                <a:r>
                  <a:rPr b="0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= R</a:t>
                </a:r>
                <a:r>
                  <a:rPr b="0" i="1" lang="cs-CZ" sz="2600" spc="-1" strike="noStrike" baseline="-25000">
                    <a:solidFill>
                      <a:srgbClr val="000000"/>
                    </a:solidFill>
                    <a:latin typeface="Times New Roman"/>
                  </a:rPr>
                  <a:t>d</a:t>
                </a: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cs-CZ" sz="2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</a:t>
                </a:r>
                <a:r>
                  <a:rPr b="0" lang="cs-CZ" sz="2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1" i="1" lang="cs-CZ" sz="2600" spc="-1" strike="noStrike">
                    <a:solidFill>
                      <a:srgbClr val="ff0000"/>
                    </a:solidFill>
                    <a:latin typeface="Times New Roman"/>
                  </a:rPr>
                  <a:t>q</a:t>
                </a:r>
                <a:r>
                  <a:rPr b="1" lang="cs-CZ" sz="26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1" i="1" lang="cs-CZ" sz="26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0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}</a:t>
                </a:r>
                <a:r>
                  <a:rPr b="1" i="1" lang="cs-CZ" sz="2600" spc="-1" strike="noStrike">
                    <a:solidFill>
                      <a:srgbClr val="ff9933"/>
                    </a:solidFill>
                    <a:latin typeface="Times New Roman"/>
                  </a:rPr>
                  <a:t>a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1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}, {</a:t>
                </a:r>
                <a:r>
                  <a:rPr b="1" i="1" lang="cs-CZ" sz="2600" spc="-1" strike="noStrike">
                    <a:solidFill>
                      <a:srgbClr val="ff0000"/>
                    </a:solidFill>
                    <a:latin typeface="Times New Roman"/>
                  </a:rPr>
                  <a:t>q</a:t>
                </a:r>
                <a:r>
                  <a:rPr b="1" lang="cs-CZ" sz="26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1" i="1" lang="cs-CZ" sz="26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0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}</a:t>
                </a:r>
                <a:r>
                  <a:rPr b="1" i="1" lang="cs-CZ" sz="26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1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1" lang="cs-CZ" sz="26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1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}</a:t>
                </a: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}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289800" y="3154320"/>
                <a:ext cx="595260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0" i="1" lang="en-US" sz="2600" spc="-1" strike="noStrike" baseline="-25000">
                    <a:solidFill>
                      <a:srgbClr val="000000"/>
                    </a:solidFill>
                    <a:latin typeface="Times New Roman"/>
                  </a:rPr>
                  <a:t>new</a:t>
                </a:r>
                <a:r>
                  <a:rPr b="0" i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 = </a:t>
                </a: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0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0" lang="cs-CZ" sz="26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0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lang="cs-CZ" sz="2600" spc="-1" strike="noStrike" baseline="-25000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}, {</a:t>
                </a:r>
                <a:r>
                  <a:rPr b="0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lang="cs-CZ" sz="2600" spc="-1" strike="noStrike" baseline="-25000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}</a:t>
                </a: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}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0" i="1" lang="cs-CZ" sz="2600" spc="-1" strike="noStrike" baseline="-25000">
                    <a:solidFill>
                      <a:srgbClr val="000000"/>
                    </a:solidFill>
                    <a:latin typeface="Times New Roman"/>
                  </a:rPr>
                  <a:t>d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 = </a:t>
                </a:r>
                <a:r>
                  <a:rPr b="0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0" i="1" lang="cs-CZ" sz="2600" spc="-1" strike="noStrike" baseline="-25000">
                    <a:solidFill>
                      <a:srgbClr val="000000"/>
                    </a:solidFill>
                    <a:latin typeface="Times New Roman"/>
                  </a:rPr>
                  <a:t>d </a:t>
                </a: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cs-CZ" sz="2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</a:t>
                </a:r>
                <a:r>
                  <a:rPr b="0" lang="cs-CZ" sz="2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1" i="1" lang="cs-CZ" sz="2600" spc="-1" strike="noStrike">
                    <a:solidFill>
                      <a:srgbClr val="ff0000"/>
                    </a:solidFill>
                    <a:latin typeface="Times New Roman"/>
                  </a:rPr>
                  <a:t>q</a:t>
                </a:r>
                <a:r>
                  <a:rPr b="1" lang="cs-CZ" sz="26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1" i="1" lang="cs-CZ" sz="26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0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}</a:t>
                </a: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}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23" name=""/>
            <p:cNvSpPr/>
            <p:nvPr/>
          </p:nvSpPr>
          <p:spPr>
            <a:xfrm>
              <a:off x="4419720" y="2057400"/>
              <a:ext cx="533160" cy="68544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4" name=""/>
          <p:cNvGrpSpPr/>
          <p:nvPr/>
        </p:nvGrpSpPr>
        <p:grpSpPr>
          <a:xfrm>
            <a:off x="3352680" y="5181120"/>
            <a:ext cx="4800600" cy="914400"/>
            <a:chOff x="3352680" y="5181120"/>
            <a:chExt cx="4800600" cy="914400"/>
          </a:xfrm>
        </p:grpSpPr>
        <p:sp>
          <p:nvSpPr>
            <p:cNvPr id="1125" name=""/>
            <p:cNvSpPr/>
            <p:nvPr/>
          </p:nvSpPr>
          <p:spPr>
            <a:xfrm flipH="1" flipV="1">
              <a:off x="7620120" y="5180760"/>
              <a:ext cx="457200" cy="2286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7696080" y="51814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 rot="16200000">
              <a:off x="3276360" y="5485680"/>
              <a:ext cx="685800" cy="533520"/>
            </a:xfrm>
            <a:prstGeom prst="rightArrow">
              <a:avLst>
                <a:gd name="adj1" fmla="val 50000"/>
                <a:gd name="adj2" fmla="val 32136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8" name=""/>
          <p:cNvGrpSpPr/>
          <p:nvPr/>
        </p:nvGrpSpPr>
        <p:grpSpPr>
          <a:xfrm>
            <a:off x="1066680" y="5409720"/>
            <a:ext cx="6553440" cy="838440"/>
            <a:chOff x="1066680" y="5409720"/>
            <a:chExt cx="6553440" cy="838440"/>
          </a:xfrm>
        </p:grpSpPr>
        <p:sp>
          <p:nvSpPr>
            <p:cNvPr id="1129" name=""/>
            <p:cNvSpPr/>
            <p:nvPr/>
          </p:nvSpPr>
          <p:spPr>
            <a:xfrm rot="16200000">
              <a:off x="990360" y="5485680"/>
              <a:ext cx="685800" cy="533520"/>
            </a:xfrm>
            <a:prstGeom prst="rightArrow">
              <a:avLst>
                <a:gd name="adj1" fmla="val 50000"/>
                <a:gd name="adj2" fmla="val 32136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 rot="16200000">
              <a:off x="1904760" y="5485680"/>
              <a:ext cx="685800" cy="533520"/>
            </a:xfrm>
            <a:prstGeom prst="rightArrow">
              <a:avLst>
                <a:gd name="adj1" fmla="val 50000"/>
                <a:gd name="adj2" fmla="val 32136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 flipV="1">
              <a:off x="6705720" y="5612760"/>
              <a:ext cx="456840" cy="40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7162920" y="548604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3200400" y="5410080"/>
              <a:ext cx="83808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4" name=""/>
          <p:cNvGrpSpPr/>
          <p:nvPr/>
        </p:nvGrpSpPr>
        <p:grpSpPr>
          <a:xfrm>
            <a:off x="5180760" y="5029200"/>
            <a:ext cx="2814480" cy="1524960"/>
            <a:chOff x="5180760" y="5029200"/>
            <a:chExt cx="2814480" cy="1524960"/>
          </a:xfrm>
        </p:grpSpPr>
        <p:sp>
          <p:nvSpPr>
            <p:cNvPr id="1135" name=""/>
            <p:cNvSpPr/>
            <p:nvPr/>
          </p:nvSpPr>
          <p:spPr>
            <a:xfrm>
              <a:off x="6400800" y="5029200"/>
              <a:ext cx="114300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5180760" y="5974560"/>
              <a:ext cx="2814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:=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7" name=""/>
          <p:cNvGrpSpPr/>
          <p:nvPr/>
        </p:nvGrpSpPr>
        <p:grpSpPr>
          <a:xfrm>
            <a:off x="380880" y="4648320"/>
            <a:ext cx="6934320" cy="1905840"/>
            <a:chOff x="380880" y="4648320"/>
            <a:chExt cx="6934320" cy="1905840"/>
          </a:xfrm>
        </p:grpSpPr>
        <p:sp>
          <p:nvSpPr>
            <p:cNvPr id="1138" name=""/>
            <p:cNvSpPr/>
            <p:nvPr/>
          </p:nvSpPr>
          <p:spPr>
            <a:xfrm>
              <a:off x="984240" y="5410440"/>
              <a:ext cx="167652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380880" y="5639040"/>
              <a:ext cx="69343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 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= R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425880" y="5974560"/>
              <a:ext cx="4905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new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4419720" y="4648320"/>
              <a:ext cx="533160" cy="6858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-free FA to DFA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Example 2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"/>
          <p:cNvSpPr/>
          <p:nvPr/>
        </p:nvSpPr>
        <p:spPr>
          <a:xfrm>
            <a:off x="1295280" y="2133720"/>
            <a:ext cx="44460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762120" y="2057400"/>
            <a:ext cx="57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 flipH="1">
            <a:off x="1752480" y="20574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1295280" y="1600200"/>
            <a:ext cx="38088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990720" y="152388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685800" y="1066680"/>
            <a:ext cx="2666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= {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5334120" y="10666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6705720" y="19810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 flipH="1">
            <a:off x="6476400" y="1752480"/>
            <a:ext cx="533160" cy="22860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6553080" y="12952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5638680" y="1219320"/>
            <a:ext cx="456840" cy="405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4343400" y="2057400"/>
            <a:ext cx="609480" cy="60948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4343400" y="1523880"/>
            <a:ext cx="456840" cy="61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4038480" y="1371600"/>
            <a:ext cx="24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4876920" y="1905120"/>
            <a:ext cx="380880" cy="22860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4876920" y="13716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4952880" y="21337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4038480" y="243828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5257800" y="1600200"/>
            <a:ext cx="129528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5361120" y="1608120"/>
            <a:ext cx="1090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5257800" y="2362320"/>
            <a:ext cx="129528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5361120" y="2370240"/>
            <a:ext cx="1090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 flipV="1">
            <a:off x="4876920" y="2513880"/>
            <a:ext cx="380880" cy="22860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5334120" y="1676520"/>
            <a:ext cx="114300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 flipH="1" flipV="1">
            <a:off x="6476400" y="2666160"/>
            <a:ext cx="533160" cy="22860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6629400" y="26668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 flipV="1">
            <a:off x="5638680" y="3022200"/>
            <a:ext cx="456840" cy="405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5334120" y="28954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5334120" y="2438280"/>
            <a:ext cx="114300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3" name=""/>
          <p:cNvGrpSpPr/>
          <p:nvPr/>
        </p:nvGrpSpPr>
        <p:grpSpPr>
          <a:xfrm>
            <a:off x="1295280" y="1523880"/>
            <a:ext cx="6553440" cy="1904400"/>
            <a:chOff x="1295280" y="1523880"/>
            <a:chExt cx="6553440" cy="1904400"/>
          </a:xfrm>
        </p:grpSpPr>
        <p:sp>
          <p:nvSpPr>
            <p:cNvPr id="1174" name=""/>
            <p:cNvSpPr/>
            <p:nvPr/>
          </p:nvSpPr>
          <p:spPr>
            <a:xfrm rot="16200000">
              <a:off x="1174680" y="2863080"/>
              <a:ext cx="685800" cy="444600"/>
            </a:xfrm>
            <a:prstGeom prst="rightArrow">
              <a:avLst>
                <a:gd name="adj1" fmla="val 50000"/>
                <a:gd name="adj2" fmla="val 38563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 rot="5400000">
              <a:off x="7341120" y="2082600"/>
              <a:ext cx="456840" cy="40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7391520" y="15238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7" name=""/>
          <p:cNvGrpSpPr/>
          <p:nvPr/>
        </p:nvGrpSpPr>
        <p:grpSpPr>
          <a:xfrm>
            <a:off x="6108480" y="2057400"/>
            <a:ext cx="2387880" cy="1676880"/>
            <a:chOff x="6108480" y="2057400"/>
            <a:chExt cx="2387880" cy="1676880"/>
          </a:xfrm>
        </p:grpSpPr>
        <p:sp>
          <p:nvSpPr>
            <p:cNvPr id="1178" name=""/>
            <p:cNvSpPr/>
            <p:nvPr/>
          </p:nvSpPr>
          <p:spPr>
            <a:xfrm>
              <a:off x="6781680" y="2057400"/>
              <a:ext cx="533520" cy="5331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6108480" y="3154680"/>
              <a:ext cx="2387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:=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0" name=""/>
          <p:cNvGrpSpPr/>
          <p:nvPr/>
        </p:nvGrpSpPr>
        <p:grpSpPr>
          <a:xfrm>
            <a:off x="574200" y="1981080"/>
            <a:ext cx="4106160" cy="1753560"/>
            <a:chOff x="574200" y="1981080"/>
            <a:chExt cx="4106160" cy="1753560"/>
          </a:xfrm>
        </p:grpSpPr>
        <p:sp>
          <p:nvSpPr>
            <p:cNvPr id="1181" name=""/>
            <p:cNvSpPr/>
            <p:nvPr/>
          </p:nvSpPr>
          <p:spPr>
            <a:xfrm>
              <a:off x="2819520" y="1981080"/>
              <a:ext cx="533160" cy="6858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1143000" y="2742840"/>
              <a:ext cx="68580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685800" y="2819160"/>
              <a:ext cx="35053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 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= R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574200" y="3155040"/>
              <a:ext cx="41061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new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 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5" name=""/>
          <p:cNvGrpSpPr/>
          <p:nvPr/>
        </p:nvGrpSpPr>
        <p:grpSpPr>
          <a:xfrm>
            <a:off x="609480" y="3687840"/>
            <a:ext cx="8077320" cy="3019680"/>
            <a:chOff x="609480" y="3687840"/>
            <a:chExt cx="8077320" cy="3019680"/>
          </a:xfrm>
        </p:grpSpPr>
        <p:sp>
          <p:nvSpPr>
            <p:cNvPr id="1186" name=""/>
            <p:cNvSpPr/>
            <p:nvPr/>
          </p:nvSpPr>
          <p:spPr>
            <a:xfrm>
              <a:off x="2209680" y="376416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1143000" y="3764160"/>
              <a:ext cx="24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3352680" y="368784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2133720" y="475452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1066680" y="47545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609480" y="4983120"/>
              <a:ext cx="457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3200400" y="467856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1697040" y="4496040"/>
              <a:ext cx="2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1600200" y="502920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1676520" y="563904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1752480" y="612612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3276720" y="4754520"/>
              <a:ext cx="53316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990720" y="425628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2057400" y="422136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2209680" y="58975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2763720" y="4496040"/>
              <a:ext cx="2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2666880" y="502920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3200400" y="414504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 flipV="1">
              <a:off x="2057400" y="6209280"/>
              <a:ext cx="914040" cy="450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1447920" y="5246640"/>
              <a:ext cx="1904760" cy="193680"/>
            </a:xfrm>
            <a:custGeom>
              <a:avLst/>
              <a:gdLst/>
              <a:ahLst/>
              <a:rect l="l" t="t" r="r" b="b"/>
              <a:pathLst>
                <a:path w="1152" h="192">
                  <a:moveTo>
                    <a:pt x="0" y="0"/>
                  </a:moveTo>
                  <a:cubicBezTo>
                    <a:pt x="216" y="96"/>
                    <a:pt x="432" y="192"/>
                    <a:pt x="624" y="192"/>
                  </a:cubicBezTo>
                  <a:cubicBezTo>
                    <a:pt x="816" y="192"/>
                    <a:pt x="1056" y="40"/>
                    <a:pt x="1152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1676520" y="48769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1371600" y="5322960"/>
              <a:ext cx="2057400" cy="498600"/>
            </a:xfrm>
            <a:custGeom>
              <a:avLst/>
              <a:gdLst/>
              <a:ahLst/>
              <a:rect l="l" t="t" r="r" b="b"/>
              <a:pathLst>
                <a:path w="1152" h="192">
                  <a:moveTo>
                    <a:pt x="0" y="0"/>
                  </a:moveTo>
                  <a:cubicBezTo>
                    <a:pt x="216" y="96"/>
                    <a:pt x="432" y="192"/>
                    <a:pt x="624" y="192"/>
                  </a:cubicBezTo>
                  <a:cubicBezTo>
                    <a:pt x="816" y="192"/>
                    <a:pt x="1056" y="40"/>
                    <a:pt x="1152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2286000" y="53341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 flipV="1">
              <a:off x="1219320" y="5245920"/>
              <a:ext cx="990360" cy="9558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 flipH="1" flipV="1">
              <a:off x="2743200" y="5322240"/>
              <a:ext cx="990720" cy="87948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2971800" y="56689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685800" y="384012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4191120" y="5059440"/>
              <a:ext cx="533160" cy="6858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6172200" y="399276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7543800" y="490716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 flipH="1">
              <a:off x="7315200" y="4678560"/>
              <a:ext cx="533520" cy="2286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7391520" y="422136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6477120" y="4145040"/>
              <a:ext cx="456840" cy="40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5181480" y="4983120"/>
              <a:ext cx="609840" cy="6098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5181480" y="4449960"/>
              <a:ext cx="4568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4876920" y="4297320"/>
              <a:ext cx="24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5715000" y="4830840"/>
              <a:ext cx="380880" cy="2286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5715000" y="42973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5791320" y="505944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4876920" y="536436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6095880" y="4525920"/>
              <a:ext cx="129564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6199200" y="4533840"/>
              <a:ext cx="10900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6095880" y="5288040"/>
              <a:ext cx="129564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6199200" y="5295960"/>
              <a:ext cx="10900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 flipV="1">
              <a:off x="5715000" y="5439600"/>
              <a:ext cx="380880" cy="2286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6172200" y="4602240"/>
              <a:ext cx="114300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 flipH="1" flipV="1">
              <a:off x="7315200" y="5592240"/>
              <a:ext cx="533520" cy="2286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7467480" y="559296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 flipV="1">
              <a:off x="6477120" y="5947920"/>
              <a:ext cx="456840" cy="40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6172200" y="582156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6172200" y="5364360"/>
              <a:ext cx="1143000" cy="5331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 rot="5400000">
              <a:off x="8179200" y="5008680"/>
              <a:ext cx="456840" cy="40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8229600" y="444996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7620120" y="4983120"/>
              <a:ext cx="53316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3962520" y="3763080"/>
              <a:ext cx="203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Summary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-free FA to DFA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Example 3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"/>
          <p:cNvSpPr/>
          <p:nvPr/>
        </p:nvSpPr>
        <p:spPr>
          <a:xfrm>
            <a:off x="685800" y="1981080"/>
            <a:ext cx="7772400" cy="13716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685800" y="1905120"/>
            <a:ext cx="8001000" cy="14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DFA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state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terminatin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ther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exis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29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such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that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qw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i="1" lang="cs-CZ" sz="29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with 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otherwise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nonterminating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5715000" y="37339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2971800" y="38098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4343400" y="38098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3505320" y="411480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3657600" y="35812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5791320" y="380988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2590920" y="41148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4876920" y="411480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609480" y="365760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3581280" y="42670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5029200" y="35812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7" name=""/>
          <p:cNvGrpSpPr/>
          <p:nvPr/>
        </p:nvGrpSpPr>
        <p:grpSpPr>
          <a:xfrm>
            <a:off x="609480" y="4708440"/>
            <a:ext cx="8382240" cy="2276640"/>
            <a:chOff x="609480" y="4708440"/>
            <a:chExt cx="8382240" cy="2276640"/>
          </a:xfrm>
        </p:grpSpPr>
        <p:sp>
          <p:nvSpPr>
            <p:cNvPr id="1258" name=""/>
            <p:cNvSpPr/>
            <p:nvPr/>
          </p:nvSpPr>
          <p:spPr>
            <a:xfrm>
              <a:off x="609480" y="4708440"/>
              <a:ext cx="800100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State 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s 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- terminating: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cs-CZ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: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s</a:t>
              </a:r>
              <a:r>
                <a:rPr b="1" i="1" lang="cs-CZ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 </a:t>
              </a:r>
              <a:r>
                <a:rPr b="1" i="1" lang="cs-CZ" sz="3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3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1" lang="cs-CZ" sz="3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609480" y="5089680"/>
              <a:ext cx="800100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State 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cs-CZ" sz="30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- terminating: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cs-CZ" sz="30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1" lang="cs-CZ" sz="3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609480" y="5470560"/>
              <a:ext cx="8001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State 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f 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- terminating: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lang="cs-CZ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i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f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0" lang="cs-CZ" sz="30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609480" y="5851440"/>
              <a:ext cx="8382240" cy="113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State 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cs-CZ" sz="30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- </a:t>
              </a:r>
              <a:r>
                <a:rPr b="1" lang="cs-CZ" sz="3000" spc="-1" strike="noStrike">
                  <a:solidFill>
                    <a:srgbClr val="ff0000"/>
                  </a:solidFill>
                  <a:latin typeface="Times New Roman"/>
                </a:rPr>
                <a:t>nonterminating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there is no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30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    such that 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cs-CZ" sz="30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w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0" i="1" lang="cs-CZ" sz="3000" spc="-1" strike="noStrike" baseline="30000">
                  <a:solidFill>
                    <a:srgbClr val="000000"/>
                  </a:solidFill>
                  <a:latin typeface="Times New Roman"/>
                </a:rPr>
                <a:t>*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 q </a:t>
              </a:r>
              <a:r>
                <a:rPr b="0" lang="cs-CZ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2" name=""/>
          <p:cNvSpPr/>
          <p:nvPr/>
        </p:nvSpPr>
        <p:spPr>
          <a:xfrm>
            <a:off x="533520" y="3276720"/>
            <a:ext cx="8229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Each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nonterminating state can be removed from DF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erminating St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1676520" y="1066680"/>
            <a:ext cx="70866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tate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is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terminating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if a string takes DFA from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to a final stat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3187800" y="4330800"/>
            <a:ext cx="406440" cy="334800"/>
          </a:xfrm>
          <a:custGeom>
            <a:avLst/>
            <a:gdLst/>
            <a:ahLst/>
            <a:rect l="l" t="t" r="r" b="b"/>
            <a:pathLst>
              <a:path w="256" h="211">
                <a:moveTo>
                  <a:pt x="256" y="208"/>
                </a:moveTo>
                <a:cubicBezTo>
                  <a:pt x="231" y="203"/>
                  <a:pt x="147" y="211"/>
                  <a:pt x="104" y="176"/>
                </a:cubicBezTo>
                <a:cubicBezTo>
                  <a:pt x="61" y="141"/>
                  <a:pt x="22" y="37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2895480" y="42670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4419720" y="42670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 flipH="1">
            <a:off x="4114080" y="4343400"/>
            <a:ext cx="406440" cy="334800"/>
          </a:xfrm>
          <a:custGeom>
            <a:avLst/>
            <a:gdLst/>
            <a:ahLst/>
            <a:rect l="l" t="t" r="r" b="b"/>
            <a:pathLst>
              <a:path w="256" h="211">
                <a:moveTo>
                  <a:pt x="256" y="208"/>
                </a:moveTo>
                <a:cubicBezTo>
                  <a:pt x="231" y="203"/>
                  <a:pt x="147" y="211"/>
                  <a:pt x="104" y="176"/>
                </a:cubicBezTo>
                <a:cubicBezTo>
                  <a:pt x="61" y="141"/>
                  <a:pt x="22" y="37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"/>
          <p:cNvSpPr/>
          <p:nvPr/>
        </p:nvSpPr>
        <p:spPr>
          <a:xfrm>
            <a:off x="685800" y="1219320"/>
            <a:ext cx="777240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DFA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DFA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685800" y="2362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685800" y="2362320"/>
            <a:ext cx="8458200" cy="43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= 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+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unti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=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q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Algorithm: 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Removal of nont. state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4038480" y="4648320"/>
            <a:ext cx="4343400" cy="1571760"/>
            <a:chOff x="4038480" y="4648320"/>
            <a:chExt cx="4343400" cy="1571760"/>
          </a:xfrm>
        </p:grpSpPr>
        <p:sp>
          <p:nvSpPr>
            <p:cNvPr id="83" name=""/>
            <p:cNvSpPr/>
            <p:nvPr/>
          </p:nvSpPr>
          <p:spPr>
            <a:xfrm>
              <a:off x="7924680" y="4648320"/>
              <a:ext cx="4572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038480" y="5334120"/>
              <a:ext cx="3810240" cy="885960"/>
            </a:xfrm>
            <a:prstGeom prst="rect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Answer: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600" spc="-1" strike="noStrike">
                  <a:solidFill>
                    <a:srgbClr val="ff0000"/>
                  </a:solidFill>
                  <a:latin typeface="Times New Roman"/>
                </a:rPr>
                <a:t>YES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because 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153280" y="53341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7848720" y="579132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609480" y="1143000"/>
            <a:ext cx="8077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imula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on of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ll possible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move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from every configuratio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8128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167652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952880" y="2971800"/>
            <a:ext cx="1524240" cy="1676520"/>
            <a:chOff x="4952880" y="2971800"/>
            <a:chExt cx="1524240" cy="1676520"/>
          </a:xfrm>
        </p:grpSpPr>
        <p:sp>
          <p:nvSpPr>
            <p:cNvPr id="91" name=""/>
            <p:cNvSpPr/>
            <p:nvPr/>
          </p:nvSpPr>
          <p:spPr>
            <a:xfrm>
              <a:off x="5105520" y="2971800"/>
              <a:ext cx="12952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–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105520" y="3505320"/>
              <a:ext cx="13716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105520" y="403884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952880" y="3124440"/>
              <a:ext cx="152640" cy="1523880"/>
            </a:xfrm>
            <a:custGeom>
              <a:avLst/>
              <a:gdLst>
                <a:gd name="textAreaLeft" fmla="*/ 97560 w 152640"/>
                <a:gd name="textAreaRight" fmla="*/ 153000 w 152640"/>
                <a:gd name="textAreaTop" fmla="*/ 39600 h 1523880"/>
                <a:gd name="textAreaBottom" fmla="*/ 1484280 h 152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2209680" y="35053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143000" y="35053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373392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86000" y="25146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276720" y="34290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1676520" y="3276720"/>
            <a:ext cx="533160" cy="520560"/>
            <a:chOff x="1676520" y="3276720"/>
            <a:chExt cx="533160" cy="520560"/>
          </a:xfrm>
        </p:grpSpPr>
        <p:sp>
          <p:nvSpPr>
            <p:cNvPr id="101" name=""/>
            <p:cNvSpPr/>
            <p:nvPr/>
          </p:nvSpPr>
          <p:spPr>
            <a:xfrm>
              <a:off x="1773360" y="3276720"/>
              <a:ext cx="242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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676520" y="3733920"/>
              <a:ext cx="533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2743200" y="39625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752480" y="39625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447920" y="4038480"/>
            <a:ext cx="761760" cy="609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743200" y="4038480"/>
            <a:ext cx="60948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86000" y="50292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352680" y="3505320"/>
            <a:ext cx="5335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066680" y="3006720"/>
            <a:ext cx="6854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19320" y="2514600"/>
            <a:ext cx="24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133720" y="2971800"/>
            <a:ext cx="6854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09680" y="44197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429000" y="24382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743200" y="3276720"/>
            <a:ext cx="533520" cy="520560"/>
            <a:chOff x="2743200" y="3276720"/>
            <a:chExt cx="533520" cy="520560"/>
          </a:xfrm>
        </p:grpSpPr>
        <p:sp>
          <p:nvSpPr>
            <p:cNvPr id="115" name=""/>
            <p:cNvSpPr/>
            <p:nvPr/>
          </p:nvSpPr>
          <p:spPr>
            <a:xfrm>
              <a:off x="2840040" y="3276720"/>
              <a:ext cx="2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9933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743200" y="373392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3276720" y="2895480"/>
            <a:ext cx="685440" cy="61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2133720" y="4913640"/>
            <a:ext cx="685440" cy="61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" y="556272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7391520" y="4038480"/>
            <a:ext cx="1066680" cy="1190880"/>
            <a:chOff x="7391520" y="4038480"/>
            <a:chExt cx="1066680" cy="1190880"/>
          </a:xfrm>
        </p:grpSpPr>
        <p:sp>
          <p:nvSpPr>
            <p:cNvPr id="122" name=""/>
            <p:cNvSpPr/>
            <p:nvPr/>
          </p:nvSpPr>
          <p:spPr>
            <a:xfrm>
              <a:off x="7391520" y="4190760"/>
              <a:ext cx="228600" cy="99072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25560 h 990720"/>
                <a:gd name="textAreaBottom" fmla="*/ 96516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543800" y="4038480"/>
              <a:ext cx="9144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543800" y="464796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– 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172200" y="3809880"/>
            <a:ext cx="1295280" cy="1181880"/>
            <a:chOff x="6172200" y="3809880"/>
            <a:chExt cx="1295280" cy="1181880"/>
          </a:xfrm>
        </p:grpSpPr>
        <p:sp>
          <p:nvSpPr>
            <p:cNvPr id="126" name=""/>
            <p:cNvSpPr/>
            <p:nvPr/>
          </p:nvSpPr>
          <p:spPr>
            <a:xfrm>
              <a:off x="6324480" y="3809880"/>
              <a:ext cx="11430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324480" y="4343040"/>
              <a:ext cx="11430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172200" y="3962160"/>
              <a:ext cx="228600" cy="91440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609480" y="2133720"/>
            <a:ext cx="5029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is defined a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6248520" y="1828800"/>
            <a:ext cx="2209680" cy="1371600"/>
            <a:chOff x="6248520" y="1828800"/>
            <a:chExt cx="2209680" cy="1371600"/>
          </a:xfrm>
        </p:grpSpPr>
        <p:sp>
          <p:nvSpPr>
            <p:cNvPr id="131" name=""/>
            <p:cNvSpPr/>
            <p:nvPr/>
          </p:nvSpPr>
          <p:spPr>
            <a:xfrm>
              <a:off x="6248520" y="1828800"/>
              <a:ext cx="2209680" cy="11430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No nex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configu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6324480" y="2819520"/>
              <a:ext cx="30492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 flipV="1">
            <a:off x="6324480" y="2895120"/>
            <a:ext cx="457200" cy="8384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086600" y="2971800"/>
            <a:ext cx="15228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7772040" y="2895120"/>
            <a:ext cx="304920" cy="1295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Use of FA in Gene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"/>
          <p:cNvSpPr/>
          <p:nvPr/>
        </p:nvSpPr>
        <p:spPr>
          <a:xfrm>
            <a:off x="685800" y="1143000"/>
            <a:ext cx="8001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685800" y="1523880"/>
            <a:ext cx="7848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s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762120" y="2057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685800" y="5943600"/>
            <a:ext cx="7848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0" name=""/>
          <p:cNvGrpSpPr/>
          <p:nvPr/>
        </p:nvGrpSpPr>
        <p:grpSpPr>
          <a:xfrm>
            <a:off x="3200400" y="6095520"/>
            <a:ext cx="609480" cy="305280"/>
            <a:chOff x="3200400" y="6095520"/>
            <a:chExt cx="609480" cy="305280"/>
          </a:xfrm>
        </p:grpSpPr>
        <p:sp>
          <p:nvSpPr>
            <p:cNvPr id="1281" name=""/>
            <p:cNvSpPr/>
            <p:nvPr/>
          </p:nvSpPr>
          <p:spPr>
            <a:xfrm flipV="1">
              <a:off x="3200400" y="6095520"/>
              <a:ext cx="60948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3200400" y="6095880"/>
              <a:ext cx="60948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3" name=""/>
          <p:cNvGrpSpPr/>
          <p:nvPr/>
        </p:nvGrpSpPr>
        <p:grpSpPr>
          <a:xfrm>
            <a:off x="4648320" y="6095520"/>
            <a:ext cx="609480" cy="305280"/>
            <a:chOff x="4648320" y="6095520"/>
            <a:chExt cx="609480" cy="305280"/>
          </a:xfrm>
        </p:grpSpPr>
        <p:sp>
          <p:nvSpPr>
            <p:cNvPr id="1284" name=""/>
            <p:cNvSpPr/>
            <p:nvPr/>
          </p:nvSpPr>
          <p:spPr>
            <a:xfrm flipV="1">
              <a:off x="4648320" y="6095520"/>
              <a:ext cx="60948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4648320" y="6095880"/>
              <a:ext cx="60948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4300" spc="-1" strike="noStrike">
                <a:solidFill>
                  <a:srgbClr val="000000"/>
                </a:solidFill>
                <a:latin typeface="Times New Roman"/>
              </a:rPr>
              <a:t>ont</a:t>
            </a: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erminating</a:t>
            </a:r>
            <a:r>
              <a:rPr b="0" lang="cs-CZ" sz="4300" spc="-1" strike="noStrike">
                <a:solidFill>
                  <a:srgbClr val="000000"/>
                </a:solidFill>
                <a:latin typeface="Times New Roman"/>
              </a:rPr>
              <a:t> States</a:t>
            </a: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4300" spc="-1" strike="noStrike">
                <a:solidFill>
                  <a:srgbClr val="000000"/>
                </a:solidFill>
                <a:latin typeface="Times New Roman"/>
              </a:rPr>
              <a:t> Exampl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7" name=""/>
          <p:cNvGrpSpPr/>
          <p:nvPr/>
        </p:nvGrpSpPr>
        <p:grpSpPr>
          <a:xfrm>
            <a:off x="685800" y="1981080"/>
            <a:ext cx="7848720" cy="579600"/>
            <a:chOff x="685800" y="1981080"/>
            <a:chExt cx="7848720" cy="579600"/>
          </a:xfrm>
        </p:grpSpPr>
        <p:sp>
          <p:nvSpPr>
            <p:cNvPr id="1288" name=""/>
            <p:cNvSpPr/>
            <p:nvPr/>
          </p:nvSpPr>
          <p:spPr>
            <a:xfrm>
              <a:off x="685800" y="1981080"/>
              <a:ext cx="1752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762120" y="25146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0" name=""/>
          <p:cNvGrpSpPr/>
          <p:nvPr/>
        </p:nvGrpSpPr>
        <p:grpSpPr>
          <a:xfrm>
            <a:off x="685800" y="2438280"/>
            <a:ext cx="7924680" cy="960840"/>
            <a:chOff x="685800" y="2438280"/>
            <a:chExt cx="7924680" cy="960840"/>
          </a:xfrm>
        </p:grpSpPr>
        <p:sp>
          <p:nvSpPr>
            <p:cNvPr id="1291" name=""/>
            <p:cNvSpPr/>
            <p:nvPr/>
          </p:nvSpPr>
          <p:spPr>
            <a:xfrm>
              <a:off x="685800" y="2438280"/>
              <a:ext cx="79246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)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d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685800" y="2819520"/>
              <a:ext cx="4419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{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=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762120" y="335268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4" name=""/>
          <p:cNvGrpSpPr/>
          <p:nvPr/>
        </p:nvGrpSpPr>
        <p:grpSpPr>
          <a:xfrm>
            <a:off x="685800" y="3276720"/>
            <a:ext cx="8001000" cy="1265400"/>
            <a:chOff x="685800" y="3276720"/>
            <a:chExt cx="8001000" cy="1265400"/>
          </a:xfrm>
        </p:grpSpPr>
        <p:sp>
          <p:nvSpPr>
            <p:cNvPr id="1295" name=""/>
            <p:cNvSpPr/>
            <p:nvPr/>
          </p:nvSpPr>
          <p:spPr>
            <a:xfrm>
              <a:off x="685800" y="3276720"/>
              <a:ext cx="77724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2)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d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685800" y="3581280"/>
              <a:ext cx="8001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d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685800" y="3962520"/>
              <a:ext cx="51055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{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=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762120" y="449568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9" name=""/>
          <p:cNvGrpSpPr/>
          <p:nvPr/>
        </p:nvGrpSpPr>
        <p:grpSpPr>
          <a:xfrm>
            <a:off x="685800" y="4419720"/>
            <a:ext cx="8229600" cy="1569960"/>
            <a:chOff x="685800" y="4419720"/>
            <a:chExt cx="8229600" cy="1569960"/>
          </a:xfrm>
        </p:grpSpPr>
        <p:sp>
          <p:nvSpPr>
            <p:cNvPr id="1300" name=""/>
            <p:cNvSpPr/>
            <p:nvPr/>
          </p:nvSpPr>
          <p:spPr>
            <a:xfrm>
              <a:off x="685800" y="4419720"/>
              <a:ext cx="77724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3)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 qd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  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685800" y="4724280"/>
              <a:ext cx="8001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d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685800" y="5029200"/>
              <a:ext cx="8001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d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  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none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685800" y="5410080"/>
              <a:ext cx="8229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{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=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=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762120" y="59436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"/>
          <p:cNvSpPr/>
          <p:nvPr/>
        </p:nvSpPr>
        <p:spPr>
          <a:xfrm>
            <a:off x="4495680" y="16765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1066680" y="17524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2819520" y="175248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1600200" y="205740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4572000" y="17524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685800" y="20574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3352680" y="205740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685800" y="1066680"/>
            <a:ext cx="48769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1) Inaccessible state (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 flipV="1" rot="16200000">
            <a:off x="2743200" y="2362320"/>
            <a:ext cx="457200" cy="30456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2286000" y="25146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2666880" y="20574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3733920" y="2438280"/>
            <a:ext cx="4343400" cy="137376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ere exists no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atio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start state to this inaccessible st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1600200" y="2286000"/>
            <a:ext cx="609480" cy="380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2743200" y="2971800"/>
            <a:ext cx="990720" cy="38088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1981080" y="15238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3657600" y="15238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 flipV="1">
            <a:off x="1676520" y="2133360"/>
            <a:ext cx="380880" cy="609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 flipH="1" flipV="1">
            <a:off x="1676520" y="2133360"/>
            <a:ext cx="380880" cy="609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685800" y="3962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7620120" y="43434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4191120" y="4419720"/>
            <a:ext cx="53316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5943600" y="44197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4724280" y="472428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7696080" y="44197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3809880" y="472428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6477120" y="472428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685800" y="3886200"/>
            <a:ext cx="5181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2) Nonterminating state (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 flipV="1">
            <a:off x="6248520" y="4952880"/>
            <a:ext cx="457200" cy="5335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6705720" y="518148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6324480" y="48006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 flipV="1">
            <a:off x="7315200" y="5028840"/>
            <a:ext cx="533520" cy="3049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 flipH="1">
            <a:off x="5029200" y="5638680"/>
            <a:ext cx="1752480" cy="3812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5105520" y="419112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6781680" y="419112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 flipV="1">
            <a:off x="7315200" y="4876560"/>
            <a:ext cx="380880" cy="609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 flipH="1" flipV="1">
            <a:off x="7315200" y="4876560"/>
            <a:ext cx="380880" cy="609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685800" y="5029200"/>
            <a:ext cx="4343400" cy="137376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ere exists no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atio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rom this nonterminating state to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inal st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ummary: States to Remo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"/>
          <p:cNvSpPr/>
          <p:nvPr/>
        </p:nvSpPr>
        <p:spPr>
          <a:xfrm>
            <a:off x="668160" y="1600200"/>
            <a:ext cx="7772400" cy="2057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685800" y="1600200"/>
            <a:ext cx="7696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be a </a:t>
            </a:r>
            <a:r>
              <a:rPr b="1" lang="cs-CZ" sz="3200" spc="-1" strike="noStrike" u="sng">
                <a:solidFill>
                  <a:srgbClr val="ff0000"/>
                </a:solidFill>
                <a:uFillTx/>
                <a:latin typeface="Times New Roman"/>
              </a:rPr>
              <a:t>DF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omplet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if for any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re is exactly one rule of the form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a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R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or som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otherwise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omple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685800" y="373392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702000" y="6277680"/>
            <a:ext cx="224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1084320" y="4038480"/>
            <a:ext cx="24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1008000" y="505944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550800" y="5334120"/>
            <a:ext cx="457200" cy="1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2075040" y="49831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2151000" y="5059440"/>
            <a:ext cx="5335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932040" y="4525920"/>
            <a:ext cx="6854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1638360" y="4800600"/>
            <a:ext cx="2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1541520" y="5334120"/>
            <a:ext cx="53352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2075040" y="4449600"/>
            <a:ext cx="685440" cy="61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2379600" y="399240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533520" y="3732840"/>
            <a:ext cx="41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Conversion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ncomplete DF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0" name=""/>
          <p:cNvGrpSpPr/>
          <p:nvPr/>
        </p:nvGrpSpPr>
        <p:grpSpPr>
          <a:xfrm>
            <a:off x="1312920" y="4495680"/>
            <a:ext cx="2437920" cy="1752480"/>
            <a:chOff x="1312920" y="4495680"/>
            <a:chExt cx="2437920" cy="1752480"/>
          </a:xfrm>
        </p:grpSpPr>
        <p:sp>
          <p:nvSpPr>
            <p:cNvPr id="1361" name=""/>
            <p:cNvSpPr/>
            <p:nvPr/>
          </p:nvSpPr>
          <p:spPr>
            <a:xfrm>
              <a:off x="1998360" y="571464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Times New Roman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2760480" y="4495680"/>
              <a:ext cx="24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2760480" y="5105160"/>
              <a:ext cx="45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1541160" y="5486040"/>
              <a:ext cx="45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 flipV="1">
              <a:off x="1312920" y="5562360"/>
              <a:ext cx="685440" cy="53352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2760480" y="4952880"/>
              <a:ext cx="456840" cy="2286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 flipV="1">
              <a:off x="2760480" y="5485320"/>
              <a:ext cx="456840" cy="2286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3217680" y="4724280"/>
              <a:ext cx="53316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Times New Roman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3217680" y="5410080"/>
              <a:ext cx="53316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Times New Roman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0" name=""/>
          <p:cNvGrpSpPr/>
          <p:nvPr/>
        </p:nvGrpSpPr>
        <p:grpSpPr>
          <a:xfrm>
            <a:off x="5808600" y="5257800"/>
            <a:ext cx="606960" cy="884160"/>
            <a:chOff x="5808600" y="5257800"/>
            <a:chExt cx="606960" cy="884160"/>
          </a:xfrm>
        </p:grpSpPr>
        <p:sp>
          <p:nvSpPr>
            <p:cNvPr id="1371" name=""/>
            <p:cNvSpPr/>
            <p:nvPr/>
          </p:nvSpPr>
          <p:spPr>
            <a:xfrm>
              <a:off x="5808600" y="54403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 flipV="1">
              <a:off x="5810040" y="5257800"/>
              <a:ext cx="605520" cy="884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12" y="13376"/>
                  </a:moveTo>
                  <a:arcTo wR="10800" hR="10800" stAng="9971972" swAng="5298209"/>
                  <a:lnTo>
                    <a:pt x="10800" y="10800"/>
                  </a:lnTo>
                  <a:close/>
                </a:path>
                <a:path fill="none" w="21600" h="21600">
                  <a:moveTo>
                    <a:pt x="312" y="13376"/>
                  </a:moveTo>
                  <a:arcTo wR="10800" hR="10800" stAng="9971972" swAng="5298209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3" name=""/>
          <p:cNvGrpSpPr/>
          <p:nvPr/>
        </p:nvGrpSpPr>
        <p:grpSpPr>
          <a:xfrm>
            <a:off x="6495480" y="5380200"/>
            <a:ext cx="1523160" cy="757800"/>
            <a:chOff x="6495480" y="5380200"/>
            <a:chExt cx="1523160" cy="757800"/>
          </a:xfrm>
        </p:grpSpPr>
        <p:sp>
          <p:nvSpPr>
            <p:cNvPr id="1374" name=""/>
            <p:cNvSpPr/>
            <p:nvPr/>
          </p:nvSpPr>
          <p:spPr>
            <a:xfrm>
              <a:off x="7104240" y="544032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 flipH="1" flipV="1">
              <a:off x="6495120" y="5379840"/>
              <a:ext cx="606600" cy="757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12" y="13376"/>
                  </a:moveTo>
                  <a:arcTo wR="10800" hR="10800" stAng="9971972" swAng="5298209"/>
                  <a:lnTo>
                    <a:pt x="10800" y="10800"/>
                  </a:lnTo>
                  <a:close/>
                </a:path>
                <a:path fill="none" w="21600" h="21600">
                  <a:moveTo>
                    <a:pt x="312" y="13376"/>
                  </a:moveTo>
                  <a:arcTo wR="10800" hR="10800" stAng="9971972" swAng="5298209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6" name=""/>
          <p:cNvGrpSpPr/>
          <p:nvPr/>
        </p:nvGrpSpPr>
        <p:grpSpPr>
          <a:xfrm>
            <a:off x="5961240" y="5862960"/>
            <a:ext cx="2590200" cy="920520"/>
            <a:chOff x="5961240" y="5862960"/>
            <a:chExt cx="2590200" cy="920520"/>
          </a:xfrm>
        </p:grpSpPr>
        <p:grpSp>
          <p:nvGrpSpPr>
            <p:cNvPr id="1377" name=""/>
            <p:cNvGrpSpPr/>
            <p:nvPr/>
          </p:nvGrpSpPr>
          <p:grpSpPr>
            <a:xfrm>
              <a:off x="5961240" y="5862960"/>
              <a:ext cx="990360" cy="719640"/>
              <a:chOff x="5961240" y="5862960"/>
              <a:chExt cx="990360" cy="719640"/>
            </a:xfrm>
          </p:grpSpPr>
          <p:sp>
            <p:nvSpPr>
              <p:cNvPr id="1378" name=""/>
              <p:cNvSpPr/>
              <p:nvPr/>
            </p:nvSpPr>
            <p:spPr>
              <a:xfrm>
                <a:off x="5961240" y="5973480"/>
                <a:ext cx="990360" cy="60912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5994000" y="5862960"/>
                <a:ext cx="84060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3200" spc="-1" strike="noStrike">
                    <a:solidFill>
                      <a:srgbClr val="ff0000"/>
                    </a:solidFill>
                    <a:latin typeface="Times New Roman"/>
                  </a:rPr>
                  <a:t>q</a:t>
                </a:r>
                <a:r>
                  <a:rPr b="1" i="1" lang="cs-CZ" sz="3200" spc="-1" strike="noStrike" baseline="-25000">
                    <a:solidFill>
                      <a:srgbClr val="ff0000"/>
                    </a:solidFill>
                    <a:latin typeface="Times New Roman"/>
                  </a:rPr>
                  <a:t>fals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80" name=""/>
            <p:cNvSpPr/>
            <p:nvPr/>
          </p:nvSpPr>
          <p:spPr>
            <a:xfrm flipH="1" flipV="1" rot="16200000">
              <a:off x="6999120" y="6042960"/>
              <a:ext cx="400680" cy="568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8350415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8350415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7332480" y="6202080"/>
              <a:ext cx="121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2" name=""/>
          <p:cNvGrpSpPr/>
          <p:nvPr/>
        </p:nvGrpSpPr>
        <p:grpSpPr>
          <a:xfrm>
            <a:off x="4284720" y="3717000"/>
            <a:ext cx="3744720" cy="1951920"/>
            <a:chOff x="4284720" y="3717000"/>
            <a:chExt cx="3744720" cy="1951920"/>
          </a:xfrm>
        </p:grpSpPr>
        <p:sp>
          <p:nvSpPr>
            <p:cNvPr id="1383" name=""/>
            <p:cNvSpPr/>
            <p:nvPr/>
          </p:nvSpPr>
          <p:spPr>
            <a:xfrm>
              <a:off x="5562720" y="3717000"/>
              <a:ext cx="246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o 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Complete DF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6210360" y="4800600"/>
              <a:ext cx="2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6113520" y="5334120"/>
              <a:ext cx="53352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4284720" y="4983120"/>
              <a:ext cx="533520" cy="6858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5656320" y="4038840"/>
              <a:ext cx="24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5580360" y="505944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5123160" y="5334120"/>
              <a:ext cx="457200" cy="1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6647040" y="49831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5504040" y="4525920"/>
              <a:ext cx="685440" cy="61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6647040" y="444996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6723360" y="399276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6723360" y="5059440"/>
              <a:ext cx="53316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mplete DF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609480" y="106668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Complete DFA cannot get stuc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"/>
          <p:cNvSpPr/>
          <p:nvPr/>
        </p:nvSpPr>
        <p:spPr>
          <a:xfrm>
            <a:off x="685800" y="1752480"/>
            <a:ext cx="807732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complet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DFA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Complete DFA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685800" y="2895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685800" y="2971800"/>
            <a:ext cx="8305920" cy="21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fal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fal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Algorithm: DFA to Complete DFA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Add a “trap”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"/>
          <p:cNvSpPr/>
          <p:nvPr/>
        </p:nvSpPr>
        <p:spPr>
          <a:xfrm>
            <a:off x="685800" y="1219320"/>
            <a:ext cx="7772400" cy="1828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685800" y="1143000"/>
            <a:ext cx="77724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 be a </a:t>
            </a:r>
            <a:r>
              <a:rPr b="1" lang="cs-CZ" sz="3000" spc="-1" strike="noStrike" u="sng">
                <a:solidFill>
                  <a:srgbClr val="ff0000"/>
                </a:solidFill>
                <a:uFillTx/>
                <a:latin typeface="Times New Roman"/>
              </a:rPr>
              <a:t>complete DFA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 Then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well-specified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FA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WSFA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f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has no inaccessible stat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has no more than one nonterminating stat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685800" y="3200400"/>
            <a:ext cx="79246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f well-specified FA has one nonterminating state, then it is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false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rom the previous algorith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685800" y="4114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685800" y="4267080"/>
            <a:ext cx="7772400" cy="10670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685800" y="4191120"/>
            <a:ext cx="7924680" cy="12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0" i="1" lang="cs-CZ" sz="3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there is an equivalent WS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0" i="1" lang="cs-CZ" sz="3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400" spc="-1" strike="noStrike" baseline="-25000">
                <a:solidFill>
                  <a:srgbClr val="000000"/>
                </a:solidFill>
                <a:latin typeface="Times New Roman"/>
              </a:rPr>
              <a:t>ws</a:t>
            </a:r>
            <a:r>
              <a:rPr b="0" i="1" lang="cs-CZ" sz="3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609480" y="5257800"/>
            <a:ext cx="815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he nex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lgorith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Well-Specified F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"/>
          <p:cNvSpPr/>
          <p:nvPr/>
        </p:nvSpPr>
        <p:spPr>
          <a:xfrm>
            <a:off x="533520" y="1143000"/>
            <a:ext cx="763416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3200" spc="-1" strike="noStrike" baseline="-25000">
                <a:solidFill>
                  <a:srgbClr val="000000"/>
                </a:solidFill>
                <a:latin typeface="Times New Roman"/>
              </a:rPr>
              <a:t>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685800" y="2209680"/>
            <a:ext cx="763416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533520" y="2209680"/>
            <a:ext cx="8458200" cy="51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 equivalent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fre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 equivalent DFA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GB" sz="3200" spc="-1" strike="noStrike" baseline="-25000">
                <a:solidFill>
                  <a:srgbClr val="3333cc"/>
                </a:solidFill>
                <a:latin typeface="Times New Roman"/>
              </a:rPr>
              <a:t>d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naccessible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GB" sz="3200" spc="-1" strike="noStrike" baseline="-25000">
                <a:solidFill>
                  <a:srgbClr val="3333cc"/>
                </a:solidFill>
                <a:latin typeface="Times New Roman"/>
              </a:rPr>
              <a:t>d</a:t>
            </a:r>
            <a:r>
              <a:rPr b="0" lang="en-GB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 equivalent DFA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GB" sz="3200" spc="-1" strike="noStrike" baseline="-25000">
                <a:solidFill>
                  <a:srgbClr val="3333cc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ou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nonterminating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</a:t>
            </a:r>
            <a:r>
              <a:rPr b="0" lang="en-GB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t</a:t>
            </a:r>
            <a:r>
              <a:rPr b="0" i="1" lang="cs-CZ" sz="3200" spc="-1" strike="noStrike" baseline="-25000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 equivalent complete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GB" sz="3200" spc="-1" strike="noStrike" baseline="-25000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US" sz="3200" spc="-1" strike="noStrike" baseline="-25000">
                <a:solidFill>
                  <a:srgbClr val="3333cc"/>
                </a:solidFill>
                <a:latin typeface="Times New Roman"/>
              </a:rPr>
              <a:t>w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GB" sz="3200" spc="-1" strike="noStrike" baseline="-25000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o more than one nonterminating state in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w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2600" spc="-1" strike="noStrike" baseline="-25000">
                <a:solidFill>
                  <a:srgbClr val="000000"/>
                </a:solidFill>
                <a:latin typeface="Times New Roman"/>
              </a:rPr>
              <a:t>fals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FA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WSF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"/>
          <p:cNvSpPr/>
          <p:nvPr/>
        </p:nvSpPr>
        <p:spPr>
          <a:xfrm>
            <a:off x="685800" y="2590920"/>
            <a:ext cx="7772400" cy="2971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685800" y="2590920"/>
            <a:ext cx="8229600" cy="29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1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) be a WSFA, and let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q. 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States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are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distinguishable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if there exist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1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such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that: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pw </a:t>
            </a: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i="1" lang="cs-CZ" sz="3100" spc="-1" strike="noStrike" baseline="30000">
                <a:solidFill>
                  <a:srgbClr val="000000"/>
                </a:solidFill>
                <a:latin typeface="Times New Roman"/>
              </a:rPr>
              <a:t>*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qw </a:t>
            </a: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i="1" lang="cs-CZ" sz="3100" spc="-1" strike="noStrike" baseline="30000">
                <a:solidFill>
                  <a:srgbClr val="000000"/>
                </a:solidFill>
                <a:latin typeface="Times New Roman"/>
              </a:rPr>
              <a:t>*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’, where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((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) or (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));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therwise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states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are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indistinguishable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istinguishable St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1676520" y="1066680"/>
            <a:ext cx="70866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String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distinguishes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states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and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if WSFA reaches a final state from </a:t>
            </a:r>
            <a:r>
              <a:rPr b="1" lang="en-US" sz="3000" spc="-1" strike="noStrike" u="sng">
                <a:solidFill>
                  <a:srgbClr val="ff0000"/>
                </a:solidFill>
                <a:uFillTx/>
                <a:latin typeface="Times New Roman"/>
              </a:rPr>
              <a:t>precisely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one of configuration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pw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and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qw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"/>
          <p:cNvSpPr/>
          <p:nvPr/>
        </p:nvSpPr>
        <p:spPr>
          <a:xfrm>
            <a:off x="3200400" y="16765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4191120" y="12193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 flipH="1">
            <a:off x="4952160" y="12952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 flipH="1">
            <a:off x="5029200" y="13716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2209680" y="22096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 flipH="1">
            <a:off x="4952160" y="20574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 flipH="1">
            <a:off x="5029200" y="21337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6019920" y="12952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 flipV="1">
            <a:off x="2514600" y="2350800"/>
            <a:ext cx="456840" cy="39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948148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948148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2133720" y="20574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3733920" y="18288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 flipH="1" flipV="1" rot="16200000">
            <a:off x="5595120" y="2241720"/>
            <a:ext cx="456840" cy="391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948148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948148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4178160" y="1601640"/>
            <a:ext cx="1515240" cy="76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48029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48029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2514600" y="18288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4419720" y="19810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istinguishable States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685800" y="2819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3" name=""/>
          <p:cNvGrpSpPr/>
          <p:nvPr/>
        </p:nvGrpSpPr>
        <p:grpSpPr>
          <a:xfrm>
            <a:off x="380880" y="2819520"/>
            <a:ext cx="8077320" cy="1523880"/>
            <a:chOff x="380880" y="2819520"/>
            <a:chExt cx="8077320" cy="1523880"/>
          </a:xfrm>
        </p:grpSpPr>
        <p:sp>
          <p:nvSpPr>
            <p:cNvPr id="1444" name=""/>
            <p:cNvSpPr/>
            <p:nvPr/>
          </p:nvSpPr>
          <p:spPr>
            <a:xfrm>
              <a:off x="380880" y="2819520"/>
              <a:ext cx="7848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1" i="1" lang="cs-CZ" sz="28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are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distinguishable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 because for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3124080" y="3276720"/>
              <a:ext cx="327672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93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339933"/>
                  </a:solidFill>
                  <a:latin typeface="Times New Roman"/>
                </a:rPr>
                <a:t>  </a:t>
              </a:r>
              <a:r>
                <a:rPr b="1" i="1" lang="en-US" sz="30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en-US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0" i="1" lang="cs-CZ" sz="3000" spc="-1" strike="noStrike" baseline="30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3000" spc="-1" strike="noStrike">
                  <a:solidFill>
                    <a:srgbClr val="000000"/>
                  </a:solidFill>
                  <a:latin typeface="Times New Roman"/>
                </a:rPr>
                <a:t>s  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30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cs-CZ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en-US" sz="3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3124080" y="3657600"/>
              <a:ext cx="2971800" cy="62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93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0" lang="cs-CZ" sz="30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1" i="1" lang="en-US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 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cs-CZ" sz="3000" spc="-1" strike="noStrike" baseline="-25000">
                  <a:solidFill>
                    <a:srgbClr val="ff0000"/>
                  </a:solidFill>
                  <a:latin typeface="Times New Roman"/>
                </a:rPr>
                <a:t>2 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cs-CZ" sz="30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3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685800" y="43434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8" name=""/>
          <p:cNvSpPr/>
          <p:nvPr/>
        </p:nvSpPr>
        <p:spPr>
          <a:xfrm>
            <a:off x="3048120" y="21337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 flipV="1">
            <a:off x="4177080" y="1748880"/>
            <a:ext cx="1514880" cy="767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30" y="7167"/>
                </a:moveTo>
                <a:arcTo wR="10800" hR="10800" stAng="-9620462" swAng="4297162"/>
                <a:lnTo>
                  <a:pt x="10800" y="10800"/>
                </a:lnTo>
                <a:close/>
              </a:path>
              <a:path fill="none" w="21600" h="21600">
                <a:moveTo>
                  <a:pt x="630" y="7167"/>
                </a:moveTo>
                <a:arcTo wR="10800" hR="10800" stAng="-9620462" swAng="4297162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 flipH="1" flipV="1" rot="16200000">
            <a:off x="5595120" y="1403640"/>
            <a:ext cx="456840" cy="391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948148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948148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6019920" y="213372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2" name=""/>
          <p:cNvGrpSpPr/>
          <p:nvPr/>
        </p:nvGrpSpPr>
        <p:grpSpPr>
          <a:xfrm>
            <a:off x="380880" y="4343400"/>
            <a:ext cx="8763120" cy="1388880"/>
            <a:chOff x="380880" y="4343400"/>
            <a:chExt cx="8763120" cy="1388880"/>
          </a:xfrm>
        </p:grpSpPr>
        <p:sp>
          <p:nvSpPr>
            <p:cNvPr id="1453" name=""/>
            <p:cNvSpPr/>
            <p:nvPr/>
          </p:nvSpPr>
          <p:spPr>
            <a:xfrm>
              <a:off x="380880" y="4343400"/>
              <a:ext cx="8763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and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339933"/>
                  </a:solidFill>
                  <a:latin typeface="Times New Roman"/>
                </a:rPr>
                <a:t>3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re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indistinguishable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because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each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28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3124080" y="4724280"/>
              <a:ext cx="3276720" cy="62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93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0" lang="en-US" sz="30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r>
                <a:rPr b="1" i="1" lang="en-US" sz="30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1" lang="en-US" sz="30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i="1" lang="cs-CZ" sz="3000" spc="-1" strike="noStrike" baseline="30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en-US" sz="30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en-US" sz="30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3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685800" y="57150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3124080" y="5105520"/>
              <a:ext cx="3276720" cy="62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93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0" lang="en-US" sz="3000" spc="-1" strike="noStrike" baseline="-25000">
                  <a:solidFill>
                    <a:srgbClr val="339933"/>
                  </a:solidFill>
                  <a:latin typeface="Times New Roman"/>
                </a:rPr>
                <a:t>3</a:t>
              </a:r>
              <a:r>
                <a:rPr b="1" i="1" lang="en-US" sz="30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1" lang="en-US" sz="30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i="1" lang="cs-CZ" sz="3000" spc="-1" strike="noStrike" baseline="30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en-US" sz="3000" spc="-1" strike="noStrike" baseline="-25000">
                  <a:solidFill>
                    <a:srgbClr val="ff0000"/>
                  </a:solidFill>
                  <a:latin typeface="Times New Roman"/>
                </a:rPr>
                <a:t>3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en-US" sz="3000" spc="-1" strike="noStrike" baseline="-25000">
                  <a:solidFill>
                    <a:srgbClr val="ff0000"/>
                  </a:solidFill>
                  <a:latin typeface="Times New Roman"/>
                </a:rPr>
                <a:t>3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3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7" name=""/>
          <p:cNvSpPr/>
          <p:nvPr/>
        </p:nvSpPr>
        <p:spPr>
          <a:xfrm>
            <a:off x="380880" y="571500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ther pairs of states are trivially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distinguishabl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for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"/>
          <p:cNvSpPr/>
          <p:nvPr/>
        </p:nvSpPr>
        <p:spPr>
          <a:xfrm>
            <a:off x="685800" y="1219320"/>
            <a:ext cx="7772400" cy="16002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685800" y="1143000"/>
            <a:ext cx="78487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3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be a </a:t>
            </a:r>
            <a:r>
              <a:rPr b="1" lang="en-US" sz="3400" spc="-1" strike="noStrike" u="sng">
                <a:solidFill>
                  <a:srgbClr val="ff0000"/>
                </a:solidFill>
                <a:uFillTx/>
                <a:latin typeface="Times New Roman"/>
              </a:rPr>
              <a:t>WS</a:t>
            </a:r>
            <a:r>
              <a:rPr b="1" lang="cs-CZ" sz="3400" spc="-1" strike="noStrike" u="sng">
                <a:solidFill>
                  <a:srgbClr val="ff0000"/>
                </a:solidFill>
                <a:uFillTx/>
                <a:latin typeface="Times New Roman"/>
              </a:rPr>
              <a:t>FA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. Then, </a:t>
            </a:r>
            <a:r>
              <a:rPr b="0" i="1" lang="cs-CZ" sz="3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minimum-state </a:t>
            </a:r>
            <a:r>
              <a:rPr b="1" i="1" lang="en-US" sz="3400" spc="-1" strike="noStrike">
                <a:solidFill>
                  <a:srgbClr val="000000"/>
                </a:solidFill>
                <a:latin typeface="Times New Roman"/>
              </a:rPr>
              <a:t>FA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if  </a:t>
            </a:r>
            <a:r>
              <a:rPr b="0" i="1" lang="cs-CZ" sz="3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contains only distinguishable states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685800" y="2971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685800" y="3124080"/>
            <a:ext cx="7772400" cy="12193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685800" y="3124080"/>
            <a:ext cx="7696080" cy="12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WSFA </a:t>
            </a:r>
            <a:r>
              <a:rPr b="0" i="1" lang="cs-CZ" sz="3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, there is an equivalent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minimum-state FA </a:t>
            </a:r>
            <a:r>
              <a:rPr b="0" i="1" lang="cs-CZ" sz="3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3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inimum-State F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609480" y="4343400"/>
            <a:ext cx="815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nex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lgorith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"/>
          <p:cNvSpPr/>
          <p:nvPr/>
        </p:nvSpPr>
        <p:spPr>
          <a:xfrm>
            <a:off x="457200" y="1143000"/>
            <a:ext cx="8686800" cy="60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Minimu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e FA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if there exis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vid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nti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no division is possibl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Y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pa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q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ith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; 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2600" spc="-1" strike="noStrike" baseline="-25000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F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685800" y="2057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Algorithm: WSFA to Min-State FA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57200" y="1143000"/>
            <a:ext cx="868680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Preference in practice:</a:t>
            </a:r>
            <a:r>
              <a:rPr b="0" lang="en-US" sz="29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eterminictic F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(DFA) that makes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no more th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one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move from every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configuration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5800" y="2133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685800" y="4191120"/>
            <a:ext cx="7772400" cy="2057400"/>
            <a:chOff x="685800" y="4191120"/>
            <a:chExt cx="7772400" cy="2057400"/>
          </a:xfrm>
        </p:grpSpPr>
        <p:sp>
          <p:nvSpPr>
            <p:cNvPr id="141" name=""/>
            <p:cNvSpPr/>
            <p:nvPr/>
          </p:nvSpPr>
          <p:spPr>
            <a:xfrm>
              <a:off x="685800" y="4191120"/>
              <a:ext cx="7772400" cy="205740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2120" y="4191120"/>
              <a:ext cx="761976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Definition: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Let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= (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) be a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FA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is an </a:t>
              </a:r>
              <a:r>
                <a:rPr b="1" i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-free finite automaton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if for all rules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pa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 q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 where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hold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(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i="1" lang="en-GB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m FA to DFA in Essence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324480" y="25909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09680" y="26668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581280" y="26668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743200" y="297180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952880" y="26668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400800" y="26668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486400" y="297180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29718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4267080" y="2743200"/>
            <a:ext cx="380880" cy="457200"/>
            <a:chOff x="4267080" y="2743200"/>
            <a:chExt cx="380880" cy="457200"/>
          </a:xfrm>
        </p:grpSpPr>
        <p:sp>
          <p:nvSpPr>
            <p:cNvPr id="153" name=""/>
            <p:cNvSpPr/>
            <p:nvPr/>
          </p:nvSpPr>
          <p:spPr>
            <a:xfrm>
              <a:off x="4267080" y="2743200"/>
              <a:ext cx="38088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4267080" y="2743200"/>
              <a:ext cx="38088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3672000" y="1753200"/>
            <a:ext cx="3126960" cy="1708560"/>
            <a:chOff x="3672000" y="1753200"/>
            <a:chExt cx="3126960" cy="1708560"/>
          </a:xfrm>
        </p:grpSpPr>
        <p:sp>
          <p:nvSpPr>
            <p:cNvPr id="156" name=""/>
            <p:cNvSpPr/>
            <p:nvPr/>
          </p:nvSpPr>
          <p:spPr>
            <a:xfrm flipH="1">
              <a:off x="3672000" y="1753200"/>
              <a:ext cx="3126960" cy="1675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068" y="17748"/>
                  </a:moveTo>
                  <a:arcTo wR="10800" hR="10800" stAng="2402385" swAng="5886570"/>
                  <a:lnTo>
                    <a:pt x="10800" y="10800"/>
                  </a:lnTo>
                  <a:close/>
                </a:path>
                <a:path fill="none" w="21600" h="21600">
                  <a:moveTo>
                    <a:pt x="19068" y="17748"/>
                  </a:moveTo>
                  <a:arcTo wR="10800" hR="10800" stAng="2402385" swAng="5886570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647960" y="281916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2531520" y="2133720"/>
            <a:ext cx="4026600" cy="1709280"/>
            <a:chOff x="2531520" y="2133720"/>
            <a:chExt cx="4026600" cy="1709280"/>
          </a:xfrm>
        </p:grpSpPr>
        <p:sp>
          <p:nvSpPr>
            <p:cNvPr id="159" name=""/>
            <p:cNvSpPr/>
            <p:nvPr/>
          </p:nvSpPr>
          <p:spPr>
            <a:xfrm flipH="1">
              <a:off x="2531160" y="2133720"/>
              <a:ext cx="402660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283" y="13398"/>
                  </a:moveTo>
                  <a:arcTo wR="10800" hR="10800" stAng="835055" swAng="8980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21283" y="13398"/>
                  </a:moveTo>
                  <a:arcTo wR="10800" hR="10800" stAng="835055" swAng="8980497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886200" y="320040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2895480" y="2743200"/>
            <a:ext cx="380880" cy="457200"/>
            <a:chOff x="2895480" y="2743200"/>
            <a:chExt cx="380880" cy="457200"/>
          </a:xfrm>
        </p:grpSpPr>
        <p:sp>
          <p:nvSpPr>
            <p:cNvPr id="162" name=""/>
            <p:cNvSpPr/>
            <p:nvPr/>
          </p:nvSpPr>
          <p:spPr>
            <a:xfrm>
              <a:off x="2895480" y="2743200"/>
              <a:ext cx="38088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>
              <a:off x="2895480" y="2743200"/>
              <a:ext cx="38088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4114800" y="297180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" y="4038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09480" y="20574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Removal of </a:t>
            </a:r>
            <a:r>
              <a:rPr b="1" lang="en-GB" sz="32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-mo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971800" y="24382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343400" y="24382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638680" y="24382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"/>
          <p:cNvSpPr/>
          <p:nvPr/>
        </p:nvSpPr>
        <p:spPr>
          <a:xfrm>
            <a:off x="1981080" y="12952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2590920" y="9907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2057400" y="13716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2819520" y="1371600"/>
            <a:ext cx="24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1600200" y="20574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1752480" y="144792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 flipH="1" flipV="1">
            <a:off x="3733200" y="2361600"/>
            <a:ext cx="685800" cy="22860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 rot="5400000">
            <a:off x="4748760" y="1854360"/>
            <a:ext cx="456840" cy="405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369972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369972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4800600" y="13716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1066680" y="18288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2057400" y="22096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 flipH="1">
            <a:off x="3199680" y="12952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 flipH="1">
            <a:off x="3276000" y="13716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 flipH="1">
            <a:off x="4267080" y="18288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 flipH="1">
            <a:off x="3276000" y="220968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2661840" y="1447920"/>
            <a:ext cx="538200" cy="30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101262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101262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 rot="10800000">
            <a:off x="2667240" y="1600200"/>
            <a:ext cx="53820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101262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101262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2819520" y="18288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2743200" y="2209680"/>
            <a:ext cx="24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2584440" y="2286000"/>
            <a:ext cx="691920" cy="30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101262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101262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 rot="10800000">
            <a:off x="2590920" y="2440080"/>
            <a:ext cx="691920" cy="30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101262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101262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 flipH="1" rot="16200000">
            <a:off x="659880" y="1855080"/>
            <a:ext cx="456840" cy="405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369972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369972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685800" y="13716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1828800" y="17524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3962520" y="20574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4419720" y="12952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3657600" y="17524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 rot="5400000">
            <a:off x="3591000" y="1875960"/>
            <a:ext cx="531000" cy="436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" y="11282"/>
                </a:moveTo>
                <a:arcTo wR="10800" hR="10800" stAng="10646603" swAng="11696882"/>
                <a:lnTo>
                  <a:pt x="10800" y="10800"/>
                </a:lnTo>
                <a:close/>
              </a:path>
              <a:path fill="none" w="21600" h="21600">
                <a:moveTo>
                  <a:pt x="11" y="11282"/>
                </a:moveTo>
                <a:arcTo wR="10800" hR="10800" stAng="10646603" swAng="11696882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 flipV="1" rot="10800000">
            <a:off x="3885840" y="1599120"/>
            <a:ext cx="685800" cy="22860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 flipV="1">
            <a:off x="1447920" y="2361600"/>
            <a:ext cx="685800" cy="22860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 flipH="1">
            <a:off x="1143000" y="12952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 flipH="1" rot="16200000">
            <a:off x="1780920" y="1877040"/>
            <a:ext cx="531000" cy="435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" y="11282"/>
                </a:moveTo>
                <a:arcTo wR="10800" hR="10800" stAng="10646603" swAng="11696882"/>
                <a:lnTo>
                  <a:pt x="10800" y="10800"/>
                </a:lnTo>
                <a:close/>
              </a:path>
              <a:path fill="none" w="21600" h="21600">
                <a:moveTo>
                  <a:pt x="11" y="11282"/>
                </a:moveTo>
                <a:arcTo wR="10800" hR="10800" stAng="10646603" swAng="11696882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 flipH="1" flipV="1" rot="10800000">
            <a:off x="1294200" y="1599120"/>
            <a:ext cx="685800" cy="22860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4" name=""/>
          <p:cNvGrpSpPr/>
          <p:nvPr/>
        </p:nvGrpSpPr>
        <p:grpSpPr>
          <a:xfrm>
            <a:off x="685800" y="1066680"/>
            <a:ext cx="7924680" cy="1828800"/>
            <a:chOff x="685800" y="1066680"/>
            <a:chExt cx="7924680" cy="1828800"/>
          </a:xfrm>
        </p:grpSpPr>
        <p:sp>
          <p:nvSpPr>
            <p:cNvPr id="1505" name=""/>
            <p:cNvSpPr/>
            <p:nvPr/>
          </p:nvSpPr>
          <p:spPr>
            <a:xfrm>
              <a:off x="685800" y="289548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4572000" y="1066680"/>
              <a:ext cx="403848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3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4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5410080" y="1922040"/>
              <a:ext cx="1067040" cy="825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Final Stat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6629400" y="1922040"/>
              <a:ext cx="1523880" cy="825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cc99"/>
                  </a:solidFill>
                  <a:latin typeface="Times New Roman"/>
                </a:rPr>
                <a:t>Other Stat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 rot="16200000">
              <a:off x="5829120" y="1485000"/>
              <a:ext cx="152280" cy="53352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13680 h 533520"/>
                <a:gd name="textAreaBottom" fmla="*/ 51984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 rot="16200000">
              <a:off x="7277040" y="1027800"/>
              <a:ext cx="152280" cy="144792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37440 h 1447920"/>
                <a:gd name="textAreaBottom" fmla="*/ 1410480 h 144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1" name=""/>
          <p:cNvGrpSpPr/>
          <p:nvPr/>
        </p:nvGrpSpPr>
        <p:grpSpPr>
          <a:xfrm>
            <a:off x="533520" y="2819520"/>
            <a:ext cx="5181480" cy="1281600"/>
            <a:chOff x="533520" y="2819520"/>
            <a:chExt cx="5181480" cy="1281600"/>
          </a:xfrm>
        </p:grpSpPr>
        <p:sp>
          <p:nvSpPr>
            <p:cNvPr id="1512" name=""/>
            <p:cNvSpPr/>
            <p:nvPr/>
          </p:nvSpPr>
          <p:spPr>
            <a:xfrm>
              <a:off x="533520" y="2819520"/>
              <a:ext cx="51814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1)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2243160" y="3276000"/>
              <a:ext cx="116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2243160" y="3580560"/>
              <a:ext cx="116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990720" y="3276720"/>
              <a:ext cx="15238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6" name=""/>
          <p:cNvSpPr/>
          <p:nvPr/>
        </p:nvSpPr>
        <p:spPr>
          <a:xfrm>
            <a:off x="664920" y="5917320"/>
            <a:ext cx="3232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vision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US" sz="24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cc99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cc99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inimization: Example 1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8" name=""/>
          <p:cNvGrpSpPr/>
          <p:nvPr/>
        </p:nvGrpSpPr>
        <p:grpSpPr>
          <a:xfrm>
            <a:off x="6575400" y="4629240"/>
            <a:ext cx="2416320" cy="704880"/>
            <a:chOff x="6575400" y="4629240"/>
            <a:chExt cx="2416320" cy="704880"/>
          </a:xfrm>
        </p:grpSpPr>
        <p:sp>
          <p:nvSpPr>
            <p:cNvPr id="1519" name=""/>
            <p:cNvSpPr/>
            <p:nvPr/>
          </p:nvSpPr>
          <p:spPr>
            <a:xfrm>
              <a:off x="6575400" y="4629240"/>
              <a:ext cx="442800" cy="70488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7010280" y="5016600"/>
              <a:ext cx="22068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7162920" y="4788000"/>
              <a:ext cx="1828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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2" name=""/>
          <p:cNvGrpSpPr/>
          <p:nvPr/>
        </p:nvGrpSpPr>
        <p:grpSpPr>
          <a:xfrm>
            <a:off x="6324480" y="5365800"/>
            <a:ext cx="2590920" cy="1240200"/>
            <a:chOff x="6324480" y="5365800"/>
            <a:chExt cx="2590920" cy="1240200"/>
          </a:xfrm>
        </p:grpSpPr>
        <p:sp>
          <p:nvSpPr>
            <p:cNvPr id="1523" name=""/>
            <p:cNvSpPr/>
            <p:nvPr/>
          </p:nvSpPr>
          <p:spPr>
            <a:xfrm>
              <a:off x="6575400" y="5365800"/>
              <a:ext cx="442800" cy="665280"/>
            </a:xfrm>
            <a:prstGeom prst="rect">
              <a:avLst/>
            </a:prstGeom>
            <a:noFill/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6781680" y="6019920"/>
              <a:ext cx="0" cy="22860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6324480" y="6095880"/>
              <a:ext cx="2590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4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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6" name=""/>
          <p:cNvGrpSpPr/>
          <p:nvPr/>
        </p:nvGrpSpPr>
        <p:grpSpPr>
          <a:xfrm>
            <a:off x="2895480" y="2895480"/>
            <a:ext cx="1981440" cy="1143000"/>
            <a:chOff x="2895480" y="2895480"/>
            <a:chExt cx="1981440" cy="1143000"/>
          </a:xfrm>
        </p:grpSpPr>
        <p:sp>
          <p:nvSpPr>
            <p:cNvPr id="1527" name=""/>
            <p:cNvSpPr/>
            <p:nvPr/>
          </p:nvSpPr>
          <p:spPr>
            <a:xfrm>
              <a:off x="3048120" y="3352680"/>
              <a:ext cx="457200" cy="68580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3505320" y="3429000"/>
              <a:ext cx="4572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2895480" y="2895480"/>
              <a:ext cx="198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From one s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3962520" y="3276720"/>
              <a:ext cx="0" cy="152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1" name=""/>
          <p:cNvGrpSpPr/>
          <p:nvPr/>
        </p:nvGrpSpPr>
        <p:grpSpPr>
          <a:xfrm>
            <a:off x="685800" y="2895480"/>
            <a:ext cx="7772400" cy="1295640"/>
            <a:chOff x="685800" y="2895480"/>
            <a:chExt cx="7772400" cy="1295640"/>
          </a:xfrm>
        </p:grpSpPr>
        <p:sp>
          <p:nvSpPr>
            <p:cNvPr id="1532" name=""/>
            <p:cNvSpPr/>
            <p:nvPr/>
          </p:nvSpPr>
          <p:spPr>
            <a:xfrm>
              <a:off x="685800" y="419112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33" name=""/>
            <p:cNvGrpSpPr/>
            <p:nvPr/>
          </p:nvGrpSpPr>
          <p:grpSpPr>
            <a:xfrm>
              <a:off x="6248520" y="2895480"/>
              <a:ext cx="1981080" cy="1219320"/>
              <a:chOff x="6248520" y="2895480"/>
              <a:chExt cx="1981080" cy="1219320"/>
            </a:xfrm>
          </p:grpSpPr>
          <p:sp>
            <p:nvSpPr>
              <p:cNvPr id="1534" name=""/>
              <p:cNvSpPr/>
              <p:nvPr/>
            </p:nvSpPr>
            <p:spPr>
              <a:xfrm>
                <a:off x="6400800" y="3352680"/>
                <a:ext cx="457200" cy="762120"/>
              </a:xfrm>
              <a:prstGeom prst="rect">
                <a:avLst/>
              </a:prstGeom>
              <a:noFill/>
              <a:ln w="381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6248520" y="2895480"/>
                <a:ext cx="1981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00cc99"/>
                    </a:solidFill>
                    <a:latin typeface="Times New Roman"/>
                  </a:rPr>
                  <a:t>From one se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6858000" y="3429000"/>
                <a:ext cx="457200" cy="0"/>
              </a:xfrm>
              <a:prstGeom prst="line">
                <a:avLst/>
              </a:prstGeom>
              <a:ln w="38160">
                <a:solidFill>
                  <a:srgbClr val="00cc99"/>
                </a:solidFill>
                <a:miter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7315200" y="3276720"/>
                <a:ext cx="0" cy="152280"/>
              </a:xfrm>
              <a:prstGeom prst="line">
                <a:avLst/>
              </a:prstGeom>
              <a:ln w="381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38" name=""/>
          <p:cNvGrpSpPr/>
          <p:nvPr/>
        </p:nvGrpSpPr>
        <p:grpSpPr>
          <a:xfrm>
            <a:off x="533520" y="4114800"/>
            <a:ext cx="3352680" cy="1920960"/>
            <a:chOff x="533520" y="4114800"/>
            <a:chExt cx="3352680" cy="1920960"/>
          </a:xfrm>
        </p:grpSpPr>
        <p:sp>
          <p:nvSpPr>
            <p:cNvPr id="1539" name=""/>
            <p:cNvSpPr/>
            <p:nvPr/>
          </p:nvSpPr>
          <p:spPr>
            <a:xfrm>
              <a:off x="2259720" y="4541760"/>
              <a:ext cx="1476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533520" y="4114800"/>
              <a:ext cx="335268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2)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3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4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2259720" y="4846680"/>
              <a:ext cx="1476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2259720" y="5151240"/>
              <a:ext cx="1476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3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2259720" y="5456160"/>
              <a:ext cx="1476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4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990720" y="4572000"/>
              <a:ext cx="15238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5" name=""/>
          <p:cNvGrpSpPr/>
          <p:nvPr/>
        </p:nvGrpSpPr>
        <p:grpSpPr>
          <a:xfrm>
            <a:off x="4289400" y="4541760"/>
            <a:ext cx="2721600" cy="1494000"/>
            <a:chOff x="4289400" y="4541760"/>
            <a:chExt cx="2721600" cy="1494000"/>
          </a:xfrm>
        </p:grpSpPr>
        <p:sp>
          <p:nvSpPr>
            <p:cNvPr id="1546" name=""/>
            <p:cNvSpPr/>
            <p:nvPr/>
          </p:nvSpPr>
          <p:spPr>
            <a:xfrm>
              <a:off x="5560200" y="4846680"/>
              <a:ext cx="1312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5535000" y="5151240"/>
              <a:ext cx="1476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3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5535000" y="5456160"/>
              <a:ext cx="1476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4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5527800" y="4541760"/>
              <a:ext cx="1332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4289400" y="4565520"/>
              <a:ext cx="137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1" name=""/>
          <p:cNvGrpSpPr/>
          <p:nvPr/>
        </p:nvGrpSpPr>
        <p:grpSpPr>
          <a:xfrm>
            <a:off x="4267080" y="3246480"/>
            <a:ext cx="2549160" cy="884160"/>
            <a:chOff x="4267080" y="3246480"/>
            <a:chExt cx="2549160" cy="884160"/>
          </a:xfrm>
        </p:grpSpPr>
        <p:sp>
          <p:nvSpPr>
            <p:cNvPr id="1552" name=""/>
            <p:cNvSpPr/>
            <p:nvPr/>
          </p:nvSpPr>
          <p:spPr>
            <a:xfrm>
              <a:off x="5483520" y="3246480"/>
              <a:ext cx="1332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cc99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5483880" y="3551040"/>
              <a:ext cx="1312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cc99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4267080" y="3276720"/>
              <a:ext cx="137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5" name=""/>
          <p:cNvGrpSpPr/>
          <p:nvPr/>
        </p:nvGrpSpPr>
        <p:grpSpPr>
          <a:xfrm>
            <a:off x="3352680" y="4267080"/>
            <a:ext cx="2438640" cy="1752840"/>
            <a:chOff x="3352680" y="4267080"/>
            <a:chExt cx="2438640" cy="1752840"/>
          </a:xfrm>
        </p:grpSpPr>
        <p:sp>
          <p:nvSpPr>
            <p:cNvPr id="1556" name=""/>
            <p:cNvSpPr/>
            <p:nvPr/>
          </p:nvSpPr>
          <p:spPr>
            <a:xfrm>
              <a:off x="3352680" y="4724280"/>
              <a:ext cx="457200" cy="1295640"/>
            </a:xfrm>
            <a:prstGeom prst="rect">
              <a:avLst/>
            </a:prstGeom>
            <a:noFill/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3809880" y="4267080"/>
              <a:ext cx="198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cc99"/>
                  </a:solidFill>
                  <a:latin typeface="Times New Roman"/>
                </a:rPr>
                <a:t>From one s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3809880" y="4800600"/>
              <a:ext cx="45720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4267080" y="4648320"/>
              <a:ext cx="0" cy="15228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0" name=""/>
          <p:cNvGrpSpPr/>
          <p:nvPr/>
        </p:nvGrpSpPr>
        <p:grpSpPr>
          <a:xfrm>
            <a:off x="3824640" y="4794120"/>
            <a:ext cx="2651400" cy="2228400"/>
            <a:chOff x="3824640" y="4794120"/>
            <a:chExt cx="2651400" cy="2228400"/>
          </a:xfrm>
        </p:grpSpPr>
        <p:sp>
          <p:nvSpPr>
            <p:cNvPr id="1561" name=""/>
            <p:cNvSpPr/>
            <p:nvPr/>
          </p:nvSpPr>
          <p:spPr>
            <a:xfrm>
              <a:off x="5432400" y="4794120"/>
              <a:ext cx="147600" cy="574920"/>
            </a:xfrm>
            <a:custGeom>
              <a:avLst/>
              <a:gdLst>
                <a:gd name="textAreaLeft" fmla="*/ 94320 w 147600"/>
                <a:gd name="textAreaRight" fmla="*/ 147960 w 147600"/>
                <a:gd name="textAreaTop" fmla="*/ 14760 h 574920"/>
                <a:gd name="textAreaBottom" fmla="*/ 560160 h 57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 flipH="1">
              <a:off x="4343400" y="5105520"/>
              <a:ext cx="2132640" cy="1917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3824640" y="5906160"/>
              <a:ext cx="1107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 rot="5400000">
              <a:off x="4228560" y="6057720"/>
              <a:ext cx="152640" cy="6858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4114800" y="640080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cs-CZ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6" name=""/>
          <p:cNvGrpSpPr/>
          <p:nvPr/>
        </p:nvGrpSpPr>
        <p:grpSpPr>
          <a:xfrm>
            <a:off x="4815360" y="5403960"/>
            <a:ext cx="1031040" cy="1506960"/>
            <a:chOff x="4815360" y="5403960"/>
            <a:chExt cx="1031040" cy="1506960"/>
          </a:xfrm>
        </p:grpSpPr>
        <p:sp>
          <p:nvSpPr>
            <p:cNvPr id="1567" name=""/>
            <p:cNvSpPr/>
            <p:nvPr/>
          </p:nvSpPr>
          <p:spPr>
            <a:xfrm>
              <a:off x="5432400" y="5403960"/>
              <a:ext cx="147600" cy="590400"/>
            </a:xfrm>
            <a:custGeom>
              <a:avLst/>
              <a:gdLst>
                <a:gd name="textAreaLeft" fmla="*/ 94320 w 147600"/>
                <a:gd name="textAreaRight" fmla="*/ 147960 w 147600"/>
                <a:gd name="textAreaTop" fmla="*/ 15120 h 590400"/>
                <a:gd name="textAreaBottom" fmla="*/ 575280 h 590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 flipH="1">
              <a:off x="5181480" y="5715000"/>
              <a:ext cx="456480" cy="653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4815360" y="5898960"/>
              <a:ext cx="1031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4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4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 rot="5400000">
              <a:off x="5218920" y="6057720"/>
              <a:ext cx="152640" cy="6858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5105520" y="640080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cs-CZ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3" name=""/>
          <p:cNvGrpSpPr/>
          <p:nvPr/>
        </p:nvGrpSpPr>
        <p:grpSpPr>
          <a:xfrm>
            <a:off x="609480" y="1600200"/>
            <a:ext cx="5181840" cy="1281960"/>
            <a:chOff x="609480" y="1600200"/>
            <a:chExt cx="5181840" cy="1281960"/>
          </a:xfrm>
        </p:grpSpPr>
        <p:sp>
          <p:nvSpPr>
            <p:cNvPr id="1574" name=""/>
            <p:cNvSpPr/>
            <p:nvPr/>
          </p:nvSpPr>
          <p:spPr>
            <a:xfrm>
              <a:off x="609480" y="1600200"/>
              <a:ext cx="51818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2243160" y="2056680"/>
              <a:ext cx="116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2243160" y="2361600"/>
              <a:ext cx="116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990720" y="2057400"/>
              <a:ext cx="12952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8" name=""/>
          <p:cNvSpPr/>
          <p:nvPr/>
        </p:nvSpPr>
        <p:spPr>
          <a:xfrm>
            <a:off x="609480" y="1066680"/>
            <a:ext cx="441972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8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9" name=""/>
          <p:cNvGrpSpPr/>
          <p:nvPr/>
        </p:nvGrpSpPr>
        <p:grpSpPr>
          <a:xfrm>
            <a:off x="4495680" y="2027160"/>
            <a:ext cx="2517480" cy="884520"/>
            <a:chOff x="4495680" y="2027160"/>
            <a:chExt cx="2517480" cy="884520"/>
          </a:xfrm>
        </p:grpSpPr>
        <p:sp>
          <p:nvSpPr>
            <p:cNvPr id="1580" name=""/>
            <p:cNvSpPr/>
            <p:nvPr/>
          </p:nvSpPr>
          <p:spPr>
            <a:xfrm>
              <a:off x="5680440" y="2027160"/>
              <a:ext cx="1332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5680800" y="2332080"/>
              <a:ext cx="1312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ff66ff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4495680" y="2057400"/>
              <a:ext cx="1479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3" name=""/>
          <p:cNvGrpSpPr/>
          <p:nvPr/>
        </p:nvGrpSpPr>
        <p:grpSpPr>
          <a:xfrm>
            <a:off x="609480" y="2971800"/>
            <a:ext cx="5181840" cy="1235160"/>
            <a:chOff x="609480" y="2971800"/>
            <a:chExt cx="5181840" cy="1235160"/>
          </a:xfrm>
        </p:grpSpPr>
        <p:sp>
          <p:nvSpPr>
            <p:cNvPr id="1584" name=""/>
            <p:cNvSpPr/>
            <p:nvPr/>
          </p:nvSpPr>
          <p:spPr>
            <a:xfrm>
              <a:off x="609480" y="2971800"/>
              <a:ext cx="518184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2)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2289600" y="3322440"/>
              <a:ext cx="1387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2289600" y="3627360"/>
              <a:ext cx="1387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609480" y="3352680"/>
              <a:ext cx="22100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8" name=""/>
          <p:cNvGrpSpPr/>
          <p:nvPr/>
        </p:nvGrpSpPr>
        <p:grpSpPr>
          <a:xfrm>
            <a:off x="4068720" y="3322440"/>
            <a:ext cx="3092400" cy="884520"/>
            <a:chOff x="4068720" y="3322440"/>
            <a:chExt cx="3092400" cy="884520"/>
          </a:xfrm>
        </p:grpSpPr>
        <p:sp>
          <p:nvSpPr>
            <p:cNvPr id="1589" name=""/>
            <p:cNvSpPr/>
            <p:nvPr/>
          </p:nvSpPr>
          <p:spPr>
            <a:xfrm>
              <a:off x="5745240" y="3322440"/>
              <a:ext cx="1415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5745240" y="3627360"/>
              <a:ext cx="1396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4068720" y="3352680"/>
              <a:ext cx="2209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2" name=""/>
          <p:cNvGrpSpPr/>
          <p:nvPr/>
        </p:nvGrpSpPr>
        <p:grpSpPr>
          <a:xfrm>
            <a:off x="579600" y="4267080"/>
            <a:ext cx="5211720" cy="1235160"/>
            <a:chOff x="579600" y="4267080"/>
            <a:chExt cx="5211720" cy="1235160"/>
          </a:xfrm>
        </p:grpSpPr>
        <p:sp>
          <p:nvSpPr>
            <p:cNvPr id="1593" name=""/>
            <p:cNvSpPr/>
            <p:nvPr/>
          </p:nvSpPr>
          <p:spPr>
            <a:xfrm>
              <a:off x="609480" y="4267080"/>
              <a:ext cx="518184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3)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66ff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66ff"/>
                  </a:solidFill>
                  <a:latin typeface="Times New Roman"/>
                </a:rPr>
                <a:t>3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ff66ff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66ff"/>
                  </a:solidFill>
                  <a:latin typeface="Times New Roman"/>
                </a:rPr>
                <a:t>4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2229480" y="4618080"/>
              <a:ext cx="1387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66ff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66ff"/>
                  </a:solidFill>
                  <a:latin typeface="Times New Roman"/>
                </a:rPr>
                <a:t>3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66ff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2229480" y="4922640"/>
              <a:ext cx="1387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66ff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66ff"/>
                  </a:solidFill>
                  <a:latin typeface="Times New Roman"/>
                </a:rPr>
                <a:t>4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66ff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66ff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579600" y="4648320"/>
              <a:ext cx="2209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7" name=""/>
          <p:cNvGrpSpPr/>
          <p:nvPr/>
        </p:nvGrpSpPr>
        <p:grpSpPr>
          <a:xfrm>
            <a:off x="4119480" y="4618080"/>
            <a:ext cx="3109320" cy="884160"/>
            <a:chOff x="4119480" y="4618080"/>
            <a:chExt cx="3109320" cy="884160"/>
          </a:xfrm>
        </p:grpSpPr>
        <p:sp>
          <p:nvSpPr>
            <p:cNvPr id="1598" name=""/>
            <p:cNvSpPr/>
            <p:nvPr/>
          </p:nvSpPr>
          <p:spPr>
            <a:xfrm>
              <a:off x="5841000" y="4618080"/>
              <a:ext cx="1387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66ff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66ff"/>
                  </a:solidFill>
                  <a:latin typeface="Times New Roman"/>
                </a:rPr>
                <a:t>3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5831280" y="4922640"/>
              <a:ext cx="1387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66ff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66ff"/>
                  </a:solidFill>
                  <a:latin typeface="Times New Roman"/>
                </a:rPr>
                <a:t>4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4119480" y="4648320"/>
              <a:ext cx="22100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1" name=""/>
          <p:cNvSpPr/>
          <p:nvPr/>
        </p:nvSpPr>
        <p:spPr>
          <a:xfrm>
            <a:off x="2839680" y="5809680"/>
            <a:ext cx="4080600" cy="6426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No next divisions !!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inimization: Example 2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4" name=""/>
          <p:cNvGrpSpPr/>
          <p:nvPr/>
        </p:nvGrpSpPr>
        <p:grpSpPr>
          <a:xfrm>
            <a:off x="2895480" y="1676520"/>
            <a:ext cx="1981440" cy="1143000"/>
            <a:chOff x="2895480" y="1676520"/>
            <a:chExt cx="1981440" cy="1143000"/>
          </a:xfrm>
        </p:grpSpPr>
        <p:sp>
          <p:nvSpPr>
            <p:cNvPr id="1605" name=""/>
            <p:cNvSpPr/>
            <p:nvPr/>
          </p:nvSpPr>
          <p:spPr>
            <a:xfrm>
              <a:off x="3048120" y="2133720"/>
              <a:ext cx="457200" cy="68580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3505320" y="2209680"/>
              <a:ext cx="4572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2895480" y="1676520"/>
              <a:ext cx="198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From one s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3962520" y="2057400"/>
              <a:ext cx="0" cy="152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9" name=""/>
          <p:cNvGrpSpPr/>
          <p:nvPr/>
        </p:nvGrpSpPr>
        <p:grpSpPr>
          <a:xfrm>
            <a:off x="685800" y="1676520"/>
            <a:ext cx="7772400" cy="1371600"/>
            <a:chOff x="685800" y="1676520"/>
            <a:chExt cx="7772400" cy="1371600"/>
          </a:xfrm>
        </p:grpSpPr>
        <p:sp>
          <p:nvSpPr>
            <p:cNvPr id="1610" name=""/>
            <p:cNvSpPr/>
            <p:nvPr/>
          </p:nvSpPr>
          <p:spPr>
            <a:xfrm>
              <a:off x="685800" y="304812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11" name=""/>
            <p:cNvGrpSpPr/>
            <p:nvPr/>
          </p:nvGrpSpPr>
          <p:grpSpPr>
            <a:xfrm>
              <a:off x="6324480" y="1676520"/>
              <a:ext cx="1981440" cy="1218960"/>
              <a:chOff x="6324480" y="1676520"/>
              <a:chExt cx="1981440" cy="1218960"/>
            </a:xfrm>
          </p:grpSpPr>
          <p:sp>
            <p:nvSpPr>
              <p:cNvPr id="1612" name=""/>
              <p:cNvSpPr/>
              <p:nvPr/>
            </p:nvSpPr>
            <p:spPr>
              <a:xfrm>
                <a:off x="6553080" y="2133720"/>
                <a:ext cx="457200" cy="761760"/>
              </a:xfrm>
              <a:prstGeom prst="rect">
                <a:avLst/>
              </a:prstGeom>
              <a:noFill/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7010280" y="2209680"/>
                <a:ext cx="381240" cy="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6324480" y="1676520"/>
                <a:ext cx="1981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ff66ff"/>
                    </a:solidFill>
                    <a:latin typeface="Times New Roman"/>
                  </a:rPr>
                  <a:t>From one se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7391520" y="2057400"/>
                <a:ext cx="0" cy="15228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16" name=""/>
          <p:cNvGrpSpPr/>
          <p:nvPr/>
        </p:nvGrpSpPr>
        <p:grpSpPr>
          <a:xfrm>
            <a:off x="3078000" y="3048120"/>
            <a:ext cx="1981440" cy="1143000"/>
            <a:chOff x="3078000" y="3048120"/>
            <a:chExt cx="1981440" cy="1143000"/>
          </a:xfrm>
        </p:grpSpPr>
        <p:sp>
          <p:nvSpPr>
            <p:cNvPr id="1617" name=""/>
            <p:cNvSpPr/>
            <p:nvPr/>
          </p:nvSpPr>
          <p:spPr>
            <a:xfrm>
              <a:off x="3276720" y="3505320"/>
              <a:ext cx="457200" cy="685800"/>
            </a:xfrm>
            <a:prstGeom prst="rect">
              <a:avLst/>
            </a:prstGeom>
            <a:noFill/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3733920" y="3581280"/>
              <a:ext cx="41112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3078000" y="3048120"/>
              <a:ext cx="198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cc99"/>
                  </a:solidFill>
                  <a:latin typeface="Times New Roman"/>
                </a:rPr>
                <a:t>From one s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4145040" y="3429000"/>
              <a:ext cx="0" cy="15228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1" name=""/>
          <p:cNvGrpSpPr/>
          <p:nvPr/>
        </p:nvGrpSpPr>
        <p:grpSpPr>
          <a:xfrm>
            <a:off x="716040" y="3048120"/>
            <a:ext cx="7924680" cy="1295280"/>
            <a:chOff x="716040" y="3048120"/>
            <a:chExt cx="7924680" cy="1295280"/>
          </a:xfrm>
        </p:grpSpPr>
        <p:sp>
          <p:nvSpPr>
            <p:cNvPr id="1622" name=""/>
            <p:cNvSpPr/>
            <p:nvPr/>
          </p:nvSpPr>
          <p:spPr>
            <a:xfrm>
              <a:off x="716040" y="43434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23" name=""/>
            <p:cNvGrpSpPr/>
            <p:nvPr/>
          </p:nvGrpSpPr>
          <p:grpSpPr>
            <a:xfrm>
              <a:off x="6659640" y="3048120"/>
              <a:ext cx="1981080" cy="1143000"/>
              <a:chOff x="6659640" y="3048120"/>
              <a:chExt cx="1981080" cy="1143000"/>
            </a:xfrm>
          </p:grpSpPr>
          <p:sp>
            <p:nvSpPr>
              <p:cNvPr id="1624" name=""/>
              <p:cNvSpPr/>
              <p:nvPr/>
            </p:nvSpPr>
            <p:spPr>
              <a:xfrm>
                <a:off x="6811920" y="3505320"/>
                <a:ext cx="456840" cy="685800"/>
              </a:xfrm>
              <a:prstGeom prst="rect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7269120" y="3581640"/>
                <a:ext cx="45684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>
                <a:off x="6659640" y="3048120"/>
                <a:ext cx="1981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From one se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>
                <a:off x="7726320" y="3429360"/>
                <a:ext cx="0" cy="1522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28" name=""/>
          <p:cNvGrpSpPr/>
          <p:nvPr/>
        </p:nvGrpSpPr>
        <p:grpSpPr>
          <a:xfrm>
            <a:off x="3048120" y="4343400"/>
            <a:ext cx="1981080" cy="1143000"/>
            <a:chOff x="3048120" y="4343400"/>
            <a:chExt cx="1981080" cy="1143000"/>
          </a:xfrm>
        </p:grpSpPr>
        <p:sp>
          <p:nvSpPr>
            <p:cNvPr id="1629" name=""/>
            <p:cNvSpPr/>
            <p:nvPr/>
          </p:nvSpPr>
          <p:spPr>
            <a:xfrm>
              <a:off x="3246480" y="4800600"/>
              <a:ext cx="457200" cy="685800"/>
            </a:xfrm>
            <a:prstGeom prst="rect">
              <a:avLst/>
            </a:prstGeom>
            <a:noFill/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3703680" y="4876920"/>
              <a:ext cx="41112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3048120" y="434340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From one s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4114800" y="4724280"/>
              <a:ext cx="0" cy="15264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3" name=""/>
          <p:cNvGrpSpPr/>
          <p:nvPr/>
        </p:nvGrpSpPr>
        <p:grpSpPr>
          <a:xfrm>
            <a:off x="685800" y="4343400"/>
            <a:ext cx="7954920" cy="1295280"/>
            <a:chOff x="685800" y="4343400"/>
            <a:chExt cx="7954920" cy="1295280"/>
          </a:xfrm>
        </p:grpSpPr>
        <p:sp>
          <p:nvSpPr>
            <p:cNvPr id="1634" name=""/>
            <p:cNvSpPr/>
            <p:nvPr/>
          </p:nvSpPr>
          <p:spPr>
            <a:xfrm>
              <a:off x="685800" y="563868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35" name=""/>
            <p:cNvGrpSpPr/>
            <p:nvPr/>
          </p:nvGrpSpPr>
          <p:grpSpPr>
            <a:xfrm>
              <a:off x="6659640" y="4343400"/>
              <a:ext cx="1981080" cy="1143000"/>
              <a:chOff x="6659640" y="4343400"/>
              <a:chExt cx="1981080" cy="1143000"/>
            </a:xfrm>
          </p:grpSpPr>
          <p:sp>
            <p:nvSpPr>
              <p:cNvPr id="1636" name=""/>
              <p:cNvSpPr/>
              <p:nvPr/>
            </p:nvSpPr>
            <p:spPr>
              <a:xfrm>
                <a:off x="6858000" y="4800600"/>
                <a:ext cx="457200" cy="685800"/>
              </a:xfrm>
              <a:prstGeom prst="rect">
                <a:avLst/>
              </a:prstGeom>
              <a:noFill/>
              <a:ln w="381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>
                <a:off x="7315200" y="4876920"/>
                <a:ext cx="411120" cy="0"/>
              </a:xfrm>
              <a:prstGeom prst="line">
                <a:avLst/>
              </a:prstGeom>
              <a:ln w="38160">
                <a:solidFill>
                  <a:srgbClr val="00cc99"/>
                </a:solidFill>
                <a:miter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>
                <a:off x="6659640" y="4343400"/>
                <a:ext cx="1981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00cc99"/>
                    </a:solidFill>
                    <a:latin typeface="Times New Roman"/>
                  </a:rPr>
                  <a:t>From one se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9" name=""/>
              <p:cNvSpPr/>
              <p:nvPr/>
            </p:nvSpPr>
            <p:spPr>
              <a:xfrm>
                <a:off x="7726320" y="4724280"/>
                <a:ext cx="0" cy="152640"/>
              </a:xfrm>
              <a:prstGeom prst="line">
                <a:avLst/>
              </a:prstGeom>
              <a:ln w="381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4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"/>
          <p:cNvSpPr/>
          <p:nvPr/>
        </p:nvSpPr>
        <p:spPr>
          <a:xfrm>
            <a:off x="609480" y="1066680"/>
            <a:ext cx="7848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8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>
            <a:off x="600120" y="1614240"/>
            <a:ext cx="2371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685800" y="1600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3733920" y="1717920"/>
            <a:ext cx="44956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 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609480" y="1904760"/>
            <a:ext cx="2371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i="1" lang="cs-CZ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609480" y="2258280"/>
            <a:ext cx="247500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609480" y="2563200"/>
            <a:ext cx="26672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609480" y="3020400"/>
            <a:ext cx="265752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1" i="1" lang="cs-CZ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1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3810600" y="3089520"/>
            <a:ext cx="4102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609480" y="3324960"/>
            <a:ext cx="28958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1" i="1" lang="cs-CZ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2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3794040" y="2403720"/>
            <a:ext cx="4162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609480" y="3782160"/>
            <a:ext cx="257976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b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3733920" y="3927960"/>
            <a:ext cx="4800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 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619200" y="4072680"/>
            <a:ext cx="255420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b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619200" y="4529880"/>
            <a:ext cx="265752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1" i="1" lang="cs-CZ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619200" y="4834800"/>
            <a:ext cx="266688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1" i="1" lang="cs-CZ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cs-CZ" sz="2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619200" y="5292000"/>
            <a:ext cx="265752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3810600" y="5451840"/>
            <a:ext cx="4102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619200" y="5596920"/>
            <a:ext cx="289548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3810600" y="4689720"/>
            <a:ext cx="4102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inimization: Example 3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2666880" y="1828800"/>
            <a:ext cx="228600" cy="457200"/>
          </a:xfrm>
          <a:custGeom>
            <a:avLst/>
            <a:gdLst>
              <a:gd name="textAreaLeft" fmla="*/ 0 w 228600"/>
              <a:gd name="textAreaRight" fmla="*/ 82440 w 22860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2666880" y="2514600"/>
            <a:ext cx="228600" cy="457200"/>
          </a:xfrm>
          <a:custGeom>
            <a:avLst/>
            <a:gdLst>
              <a:gd name="textAreaLeft" fmla="*/ 0 w 228600"/>
              <a:gd name="textAreaRight" fmla="*/ 82440 w 22860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2666880" y="3200400"/>
            <a:ext cx="228600" cy="457200"/>
          </a:xfrm>
          <a:custGeom>
            <a:avLst/>
            <a:gdLst>
              <a:gd name="textAreaLeft" fmla="*/ 0 w 228600"/>
              <a:gd name="textAreaRight" fmla="*/ 82440 w 22860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2666880" y="3962520"/>
            <a:ext cx="228600" cy="457200"/>
          </a:xfrm>
          <a:custGeom>
            <a:avLst/>
            <a:gdLst>
              <a:gd name="textAreaLeft" fmla="*/ 0 w 228600"/>
              <a:gd name="textAreaRight" fmla="*/ 82440 w 22860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2666880" y="4800600"/>
            <a:ext cx="228600" cy="457200"/>
          </a:xfrm>
          <a:custGeom>
            <a:avLst/>
            <a:gdLst>
              <a:gd name="textAreaLeft" fmla="*/ 0 w 228600"/>
              <a:gd name="textAreaRight" fmla="*/ 82440 w 22860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2666880" y="5562720"/>
            <a:ext cx="228600" cy="457200"/>
          </a:xfrm>
          <a:custGeom>
            <a:avLst/>
            <a:gdLst>
              <a:gd name="textAreaLeft" fmla="*/ 0 w 228600"/>
              <a:gd name="textAreaRight" fmla="*/ 82440 w 22860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3048120" y="190512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3048120" y="259092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3048120" y="327672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3048120" y="4038480"/>
            <a:ext cx="609480" cy="381240"/>
          </a:xfrm>
          <a:prstGeom prst="rightArrow">
            <a:avLst>
              <a:gd name="adj1" fmla="val 50000"/>
              <a:gd name="adj2" fmla="val 39967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3048120" y="487692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3048120" y="5638680"/>
            <a:ext cx="609480" cy="381240"/>
          </a:xfrm>
          <a:prstGeom prst="rightArrow">
            <a:avLst>
              <a:gd name="adj1" fmla="val 50000"/>
              <a:gd name="adj2" fmla="val 39967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5" name=""/>
          <p:cNvSpPr/>
          <p:nvPr/>
        </p:nvSpPr>
        <p:spPr>
          <a:xfrm>
            <a:off x="609480" y="1064160"/>
            <a:ext cx="4953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2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685800" y="2438280"/>
            <a:ext cx="8229600" cy="18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, where: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,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cs-CZ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cs-CZ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685800" y="4191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inimization: Example 4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>
            <a:off x="762840" y="1676160"/>
            <a:ext cx="1104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1752480" y="1828800"/>
            <a:ext cx="152640" cy="533520"/>
          </a:xfrm>
          <a:custGeom>
            <a:avLst/>
            <a:gdLst>
              <a:gd name="textAreaLeft" fmla="*/ 0 w 152640"/>
              <a:gd name="textAreaRight" fmla="*/ 55080 w 152640"/>
              <a:gd name="textAreaTop" fmla="*/ 13680 h 533520"/>
              <a:gd name="textAreaBottom" fmla="*/ 519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>
            <a:off x="2984040" y="1717920"/>
            <a:ext cx="18788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762480" y="1980720"/>
            <a:ext cx="1004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2362320" y="121932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2362320" y="190512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8" name=""/>
          <p:cNvGrpSpPr/>
          <p:nvPr/>
        </p:nvGrpSpPr>
        <p:grpSpPr>
          <a:xfrm>
            <a:off x="762120" y="4114080"/>
            <a:ext cx="7772400" cy="2410920"/>
            <a:chOff x="762120" y="4114080"/>
            <a:chExt cx="7772400" cy="2410920"/>
          </a:xfrm>
        </p:grpSpPr>
        <p:sp>
          <p:nvSpPr>
            <p:cNvPr id="1689" name=""/>
            <p:cNvSpPr/>
            <p:nvPr/>
          </p:nvSpPr>
          <p:spPr>
            <a:xfrm>
              <a:off x="8077320" y="59436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6070680" y="5230800"/>
              <a:ext cx="914400" cy="7621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2057400" y="47242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2133720" y="480060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2895480" y="4800600"/>
              <a:ext cx="24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1676520" y="54864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1828800" y="487692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 flipH="1" flipV="1">
              <a:off x="3809160" y="5790600"/>
              <a:ext cx="685800" cy="2286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 rot="5400000">
              <a:off x="4825080" y="5283360"/>
              <a:ext cx="456840" cy="405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72" y="20605"/>
                  </a:moveTo>
                  <a:arcTo wR="10800" hR="10800" stAng="6887234" swAng="18369972"/>
                  <a:lnTo>
                    <a:pt x="10800" y="10800"/>
                  </a:lnTo>
                  <a:close/>
                </a:path>
                <a:path fill="none" w="21600" h="21600">
                  <a:moveTo>
                    <a:pt x="6272" y="20605"/>
                  </a:moveTo>
                  <a:arcTo wR="10800" hR="10800" stAng="6887234" swAng="18369972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4876920" y="48006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1143000" y="52578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2133720" y="563868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 flipH="1">
              <a:off x="3276000" y="47242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 flipH="1">
              <a:off x="3352680" y="48006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 flipH="1">
              <a:off x="4343400" y="52578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 flipH="1">
              <a:off x="3352680" y="56386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2738160" y="4876920"/>
              <a:ext cx="538200" cy="30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" y="8697"/>
                  </a:moveTo>
                  <a:arcTo wR="10800" hR="10800" stAng="-10126267" swAng="1012626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" y="8697"/>
                  </a:moveTo>
                  <a:arcTo wR="10800" hR="10800" stAng="-10126267" swAng="10126267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 rot="10800000">
              <a:off x="2743560" y="5029200"/>
              <a:ext cx="53820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" y="8697"/>
                  </a:moveTo>
                  <a:arcTo wR="10800" hR="10800" stAng="-10126267" swAng="1012626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" y="8697"/>
                  </a:moveTo>
                  <a:arcTo wR="10800" hR="10800" stAng="-10126267" swAng="10126267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2895480" y="52578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2819520" y="5638680"/>
              <a:ext cx="24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2660400" y="5715000"/>
              <a:ext cx="691920" cy="30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" y="8697"/>
                  </a:moveTo>
                  <a:arcTo wR="10800" hR="10800" stAng="-10126267" swAng="1012626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" y="8697"/>
                  </a:moveTo>
                  <a:arcTo wR="10800" hR="10800" stAng="-10126267" swAng="10126267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 rot="10800000">
              <a:off x="2666880" y="5869080"/>
              <a:ext cx="691920" cy="30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" y="8697"/>
                  </a:moveTo>
                  <a:arcTo wR="10800" hR="10800" stAng="-10126267" swAng="1012626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" y="8697"/>
                  </a:moveTo>
                  <a:arcTo wR="10800" hR="10800" stAng="-10126267" swAng="10126267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 flipH="1" rot="16200000">
              <a:off x="736200" y="5284080"/>
              <a:ext cx="456840" cy="405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72" y="20605"/>
                  </a:moveTo>
                  <a:arcTo wR="10800" hR="10800" stAng="6887234" swAng="18369972"/>
                  <a:lnTo>
                    <a:pt x="10800" y="10800"/>
                  </a:lnTo>
                  <a:close/>
                </a:path>
                <a:path fill="none" w="21600" h="21600">
                  <a:moveTo>
                    <a:pt x="6272" y="20605"/>
                  </a:moveTo>
                  <a:arcTo wR="10800" hR="10800" stAng="6887234" swAng="18369972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762120" y="48006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1905120" y="51814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4038480" y="54864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4495680" y="47242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3733920" y="51814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 rot="5400000">
              <a:off x="3667680" y="5305320"/>
              <a:ext cx="531000" cy="435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" y="11282"/>
                  </a:moveTo>
                  <a:arcTo wR="10800" hR="10800" stAng="10646603" swAng="11696882"/>
                  <a:lnTo>
                    <a:pt x="10800" y="10800"/>
                  </a:lnTo>
                  <a:close/>
                </a:path>
                <a:path fill="none" w="21600" h="21600">
                  <a:moveTo>
                    <a:pt x="11" y="11282"/>
                  </a:moveTo>
                  <a:arcTo wR="10800" hR="10800" stAng="10646603" swAng="11696882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 flipV="1" rot="10800000">
              <a:off x="3962160" y="5028120"/>
              <a:ext cx="685800" cy="2286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 flipV="1">
              <a:off x="1523880" y="5790600"/>
              <a:ext cx="685800" cy="2286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 flipH="1">
              <a:off x="1219320" y="47242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 flipH="1" rot="16200000">
              <a:off x="1857240" y="5306040"/>
              <a:ext cx="531000" cy="435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" y="11282"/>
                  </a:moveTo>
                  <a:arcTo wR="10800" hR="10800" stAng="10646603" swAng="11696882"/>
                  <a:lnTo>
                    <a:pt x="10800" y="10800"/>
                  </a:lnTo>
                  <a:close/>
                </a:path>
                <a:path fill="none" w="21600" h="21600">
                  <a:moveTo>
                    <a:pt x="11" y="11282"/>
                  </a:moveTo>
                  <a:arcTo wR="10800" hR="10800" stAng="10646603" swAng="11696882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 flipH="1" flipV="1" rot="10800000">
              <a:off x="1370520" y="5028120"/>
              <a:ext cx="685800" cy="2286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6017400" y="5306400"/>
              <a:ext cx="104940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5410080" y="5105520"/>
              <a:ext cx="533520" cy="6858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3505320" y="4114080"/>
              <a:ext cx="203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Summary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7467480" y="5257800"/>
              <a:ext cx="914400" cy="7621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7414560" y="5333400"/>
              <a:ext cx="104940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6781680" y="4648320"/>
              <a:ext cx="9144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6781680" y="4723920"/>
              <a:ext cx="8575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6858000" y="4724280"/>
              <a:ext cx="76212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6553080" y="4495680"/>
              <a:ext cx="38124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7467480" y="41148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 flipV="1">
              <a:off x="6248520" y="5925240"/>
              <a:ext cx="456840" cy="405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72" y="20605"/>
                  </a:moveTo>
                  <a:arcTo wR="10800" hR="10800" stAng="6887234" swAng="18369972"/>
                  <a:lnTo>
                    <a:pt x="10800" y="10800"/>
                  </a:lnTo>
                  <a:close/>
                </a:path>
                <a:path fill="none" w="21600" h="21600">
                  <a:moveTo>
                    <a:pt x="6272" y="20605"/>
                  </a:moveTo>
                  <a:arcTo wR="10800" hR="10800" stAng="6887234" swAng="18369972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 flipV="1">
              <a:off x="7696080" y="6001560"/>
              <a:ext cx="456840" cy="405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72" y="20605"/>
                  </a:moveTo>
                  <a:arcTo wR="10800" hR="10800" stAng="6887234" swAng="18369972"/>
                  <a:lnTo>
                    <a:pt x="10800" y="10800"/>
                  </a:lnTo>
                  <a:close/>
                </a:path>
                <a:path fill="none" w="21600" h="21600">
                  <a:moveTo>
                    <a:pt x="6272" y="20605"/>
                  </a:moveTo>
                  <a:arcTo wR="10800" hR="10800" stAng="6887234" swAng="18369972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6705720" y="58672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 rot="10800000">
              <a:off x="6934320" y="5487120"/>
              <a:ext cx="614880" cy="60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" y="8697"/>
                  </a:moveTo>
                  <a:arcTo wR="10800" hR="10800" stAng="-10126267" swAng="1012626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" y="8697"/>
                  </a:moveTo>
                  <a:arcTo wR="10800" hR="10800" stAng="-10126267" swAng="10126267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7086600" y="556272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5867280" y="46483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 flipV="1" rot="10800000">
              <a:off x="7451640" y="4876920"/>
              <a:ext cx="784440" cy="496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02" y="18057"/>
                  </a:moveTo>
                  <a:arcTo wR="10800" hR="10800" stAng="8266937" swAng="9258625"/>
                  <a:lnTo>
                    <a:pt x="10800" y="10800"/>
                  </a:lnTo>
                  <a:close/>
                </a:path>
                <a:path fill="none" w="21600" h="21600">
                  <a:moveTo>
                    <a:pt x="2802" y="18057"/>
                  </a:moveTo>
                  <a:arcTo wR="10800" hR="10800" stAng="8266937" swAng="9258625"/>
                </a:path>
              </a:pathLst>
            </a:custGeom>
            <a:noFill/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8001000" y="44197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7010280" y="4267080"/>
              <a:ext cx="456840" cy="405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72" y="20605"/>
                  </a:moveTo>
                  <a:arcTo wR="10800" hR="10800" stAng="6887234" swAng="18369972"/>
                  <a:lnTo>
                    <a:pt x="10800" y="10800"/>
                  </a:lnTo>
                  <a:close/>
                </a:path>
                <a:path fill="none" w="21600" h="21600">
                  <a:moveTo>
                    <a:pt x="6272" y="20605"/>
                  </a:moveTo>
                  <a:arcTo wR="10800" hR="10800" stAng="6887234" swAng="18369972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 flipH="1" flipV="1" rot="10800000">
              <a:off x="6171480" y="4876200"/>
              <a:ext cx="894600" cy="49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02" y="18057"/>
                  </a:moveTo>
                  <a:arcTo wR="10800" hR="10800" stAng="8266937" swAng="9258625"/>
                  <a:lnTo>
                    <a:pt x="10800" y="10800"/>
                  </a:lnTo>
                  <a:close/>
                </a:path>
                <a:path fill="none" w="21600" h="21600">
                  <a:moveTo>
                    <a:pt x="2802" y="18057"/>
                  </a:moveTo>
                  <a:arcTo wR="10800" hR="10800" stAng="8266937" swAng="9258625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2819520" y="4419720"/>
              <a:ext cx="24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iants of FA: 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"/>
          <p:cNvSpPr/>
          <p:nvPr/>
        </p:nvSpPr>
        <p:spPr>
          <a:xfrm>
            <a:off x="685800" y="3124080"/>
            <a:ext cx="41911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Number of rules of the form </a:t>
            </a:r>
            <a:r>
              <a:rPr b="0" i="1" lang="en-US" sz="21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1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, where </a:t>
            </a:r>
            <a:r>
              <a:rPr b="0" i="1" lang="en-US" sz="21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0" i="1" lang="en-US" sz="2100" spc="-1" strike="noStrike">
                <a:solidFill>
                  <a:srgbClr val="3333cc"/>
                </a:solidFill>
                <a:latin typeface="Times New Roman"/>
              </a:rPr>
              <a:t> q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1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>
            <a:off x="685800" y="3962520"/>
            <a:ext cx="4267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Number of rules of the form </a:t>
            </a:r>
            <a:r>
              <a:rPr b="0" i="1" lang="en-US" sz="2100" spc="-1" strike="noStrike">
                <a:solidFill>
                  <a:srgbClr val="3333cc"/>
                </a:solidFill>
                <a:latin typeface="Times New Roman"/>
              </a:rPr>
              <a:t>pa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1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,  for </a:t>
            </a:r>
            <a:r>
              <a:rPr b="0" lang="cs-CZ" sz="2100" spc="-1" strike="noStrike">
                <a:solidFill>
                  <a:srgbClr val="3333cc"/>
                </a:solidFill>
                <a:latin typeface="Times New Roman"/>
              </a:rPr>
              <a:t>any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1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1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i="1" lang="cs-CZ" sz="21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1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3333cc"/>
                </a:solidFill>
                <a:latin typeface="Symbol"/>
                <a:ea typeface="Symbol"/>
              </a:rPr>
              <a:t>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>
            <a:off x="685800" y="4724280"/>
            <a:ext cx="3886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Number of inaccessible stat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>
            <a:off x="685800" y="5181480"/>
            <a:ext cx="41148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Number of nonterminating stat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>
            <a:off x="685800" y="5638680"/>
            <a:ext cx="4114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Number of this FAs for </a:t>
            </a:r>
            <a:r>
              <a:rPr b="0" lang="cs-CZ" sz="2100" spc="-1" strike="noStrike">
                <a:solidFill>
                  <a:srgbClr val="3333cc"/>
                </a:solidFill>
                <a:latin typeface="Times New Roman"/>
              </a:rPr>
              <a:t>any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regular language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 rot="16200000">
            <a:off x="4649400" y="243684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 rot="16200000">
            <a:off x="5030280" y="220824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free F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 rot="16200000">
            <a:off x="5830560" y="23986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F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 rot="16200000">
            <a:off x="5945040" y="19033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omplete F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 rot="16200000">
            <a:off x="7011720" y="2360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SF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 rot="16200000">
            <a:off x="7164000" y="19033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in-State F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8458200" y="1219320"/>
            <a:ext cx="0" cy="5181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>
            <a:off x="7848720" y="1219320"/>
            <a:ext cx="0" cy="5181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6629400" y="1219320"/>
            <a:ext cx="0" cy="5181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7238880" y="1219320"/>
            <a:ext cx="0" cy="5181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5410080" y="1219320"/>
            <a:ext cx="0" cy="5181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>
            <a:off x="6019920" y="1219320"/>
            <a:ext cx="0" cy="5181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>
            <a:off x="4800600" y="1219320"/>
            <a:ext cx="0" cy="5181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 flipH="1">
            <a:off x="685800" y="1219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 flipH="1">
            <a:off x="685800" y="3124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>
            <a:off x="685800" y="1219320"/>
            <a:ext cx="0" cy="5181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 flipH="1">
            <a:off x="685800" y="3962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 flipH="1">
            <a:off x="685800" y="4724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 flipH="1">
            <a:off x="685800" y="5181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 flipH="1">
            <a:off x="685800" y="5638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 flipH="1">
            <a:off x="685800" y="6400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4800600" y="3352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4800600" y="4114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4800600" y="4724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4800600" y="51814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>
            <a:off x="4876920" y="57913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5562720" y="3352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>
            <a:off x="5410080" y="41148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>
            <a:off x="5410080" y="4724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>
            <a:off x="5410080" y="51814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>
            <a:off x="5486400" y="57913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"/>
          <p:cNvSpPr/>
          <p:nvPr/>
        </p:nvSpPr>
        <p:spPr>
          <a:xfrm>
            <a:off x="6172200" y="3352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"/>
          <p:cNvSpPr/>
          <p:nvPr/>
        </p:nvSpPr>
        <p:spPr>
          <a:xfrm>
            <a:off x="6019920" y="4114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"/>
          <p:cNvSpPr/>
          <p:nvPr/>
        </p:nvSpPr>
        <p:spPr>
          <a:xfrm>
            <a:off x="6019920" y="4724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"/>
          <p:cNvSpPr/>
          <p:nvPr/>
        </p:nvSpPr>
        <p:spPr>
          <a:xfrm>
            <a:off x="6019920" y="51814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"/>
          <p:cNvSpPr/>
          <p:nvPr/>
        </p:nvSpPr>
        <p:spPr>
          <a:xfrm>
            <a:off x="6095880" y="57913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>
            <a:off x="6781680" y="3352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6781680" y="41148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>
            <a:off x="6629400" y="4724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>
            <a:off x="6629400" y="51814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"/>
          <p:cNvSpPr/>
          <p:nvPr/>
        </p:nvSpPr>
        <p:spPr>
          <a:xfrm>
            <a:off x="6705720" y="57913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>
            <a:off x="7391520" y="3352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>
            <a:off x="7391520" y="4114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"/>
          <p:cNvSpPr/>
          <p:nvPr/>
        </p:nvSpPr>
        <p:spPr>
          <a:xfrm>
            <a:off x="7391520" y="4724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"/>
          <p:cNvSpPr/>
          <p:nvPr/>
        </p:nvSpPr>
        <p:spPr>
          <a:xfrm>
            <a:off x="7238880" y="51814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"/>
          <p:cNvSpPr/>
          <p:nvPr/>
        </p:nvSpPr>
        <p:spPr>
          <a:xfrm>
            <a:off x="7315200" y="57913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"/>
          <p:cNvSpPr/>
          <p:nvPr/>
        </p:nvSpPr>
        <p:spPr>
          <a:xfrm>
            <a:off x="8001000" y="3352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"/>
          <p:cNvSpPr/>
          <p:nvPr/>
        </p:nvSpPr>
        <p:spPr>
          <a:xfrm>
            <a:off x="8001000" y="4114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"/>
          <p:cNvSpPr/>
          <p:nvPr/>
        </p:nvSpPr>
        <p:spPr>
          <a:xfrm>
            <a:off x="8001000" y="4724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"/>
          <p:cNvSpPr/>
          <p:nvPr/>
        </p:nvSpPr>
        <p:spPr>
          <a:xfrm>
            <a:off x="7848720" y="51814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"/>
          <p:cNvSpPr/>
          <p:nvPr/>
        </p:nvSpPr>
        <p:spPr>
          <a:xfrm>
            <a:off x="8001000" y="57913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609480" y="3581280"/>
            <a:ext cx="7772400" cy="25146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3520" y="3581280"/>
            <a:ext cx="8001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be an </a:t>
            </a:r>
            <a:r>
              <a:rPr b="1" lang="en-GB" sz="32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-free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F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deterministi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finite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utomaton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DFA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each rule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pa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t holds tha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{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pa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contains no rule with the left-hand side equal to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p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m FA to DFA in Essence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Removal of nodetermini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09480" y="1600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76520" y="15238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339933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85800" y="20574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24382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17524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295280" y="22096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362320" y="1905120"/>
            <a:ext cx="53316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362320" y="25146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1752480" y="2666160"/>
            <a:ext cx="660600" cy="3049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752480" y="1981080"/>
            <a:ext cx="660600" cy="3049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828800" y="22860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339933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3657600" y="1676520"/>
            <a:ext cx="4724280" cy="1600200"/>
            <a:chOff x="3657600" y="1676520"/>
            <a:chExt cx="4724280" cy="1600200"/>
          </a:xfrm>
        </p:grpSpPr>
        <p:sp>
          <p:nvSpPr>
            <p:cNvPr id="187" name=""/>
            <p:cNvSpPr/>
            <p:nvPr/>
          </p:nvSpPr>
          <p:spPr>
            <a:xfrm>
              <a:off x="3657600" y="2438280"/>
              <a:ext cx="914400" cy="533520"/>
            </a:xfrm>
            <a:prstGeom prst="rightArrow">
              <a:avLst>
                <a:gd name="adj1" fmla="val 50000"/>
                <a:gd name="adj2" fmla="val 73793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029200" y="26668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791320" y="236232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339933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400800" y="2590920"/>
              <a:ext cx="129528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562720" y="297180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95680" y="2514600"/>
              <a:ext cx="685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696080" y="2514600"/>
              <a:ext cx="685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334120" y="1676520"/>
              <a:ext cx="1828800" cy="52056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New Stat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 flipV="1">
              <a:off x="6781680" y="2209320"/>
              <a:ext cx="23832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609480" y="3429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685800" y="1219320"/>
            <a:ext cx="7772400" cy="6094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09480" y="1219320"/>
            <a:ext cx="792504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there is an equivalent DF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09480" y="19051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based on these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conversion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143000" y="2819520"/>
            <a:ext cx="4495680" cy="52056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Finite Automaton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143000" y="3962520"/>
            <a:ext cx="4495680" cy="52056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-free Finite Automaton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143000" y="5105520"/>
            <a:ext cx="4495680" cy="57960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FA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429000" y="3429000"/>
            <a:ext cx="0" cy="533520"/>
          </a:xfrm>
          <a:prstGeom prst="line">
            <a:avLst/>
          </a:prstGeom>
          <a:ln w="572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429000" y="4572000"/>
            <a:ext cx="0" cy="533520"/>
          </a:xfrm>
          <a:prstGeom prst="line">
            <a:avLst/>
          </a:prstGeom>
          <a:ln w="572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562720" y="4114800"/>
            <a:ext cx="2361960" cy="5205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562720" y="5257800"/>
            <a:ext cx="2361960" cy="579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or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85800" y="1905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"/>
          <p:cNvGrpSpPr/>
          <p:nvPr/>
        </p:nvGrpSpPr>
        <p:grpSpPr>
          <a:xfrm>
            <a:off x="1219320" y="3124080"/>
            <a:ext cx="4835520" cy="2791440"/>
            <a:chOff x="1219320" y="3124080"/>
            <a:chExt cx="4835520" cy="2791440"/>
          </a:xfrm>
        </p:grpSpPr>
        <p:sp>
          <p:nvSpPr>
            <p:cNvPr id="212" name=""/>
            <p:cNvSpPr/>
            <p:nvPr/>
          </p:nvSpPr>
          <p:spPr>
            <a:xfrm>
              <a:off x="2286000" y="3124080"/>
              <a:ext cx="3768840" cy="198144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219320" y="5334120"/>
              <a:ext cx="2438280" cy="58140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-closure(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2133720" y="4648320"/>
              <a:ext cx="466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2209680" y="3352680"/>
            <a:ext cx="3733560" cy="3324600"/>
            <a:chOff x="2209680" y="3352680"/>
            <a:chExt cx="3733560" cy="3324600"/>
          </a:xfrm>
        </p:grpSpPr>
        <p:sp>
          <p:nvSpPr>
            <p:cNvPr id="216" name=""/>
            <p:cNvSpPr/>
            <p:nvPr/>
          </p:nvSpPr>
          <p:spPr>
            <a:xfrm>
              <a:off x="3657240" y="3352680"/>
              <a:ext cx="2286000" cy="1524240"/>
            </a:xfrm>
            <a:prstGeom prst="ellipse">
              <a:avLst/>
            </a:prstGeom>
            <a:solidFill>
              <a:srgbClr val="99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209680" y="6095880"/>
              <a:ext cx="2438280" cy="58140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-closure(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3885840" y="4800600"/>
              <a:ext cx="457200" cy="1295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4876920" y="3581280"/>
            <a:ext cx="2438280" cy="3096000"/>
            <a:chOff x="4876920" y="3581280"/>
            <a:chExt cx="2438280" cy="3096000"/>
          </a:xfrm>
        </p:grpSpPr>
        <p:sp>
          <p:nvSpPr>
            <p:cNvPr id="220" name=""/>
            <p:cNvSpPr/>
            <p:nvPr/>
          </p:nvSpPr>
          <p:spPr>
            <a:xfrm>
              <a:off x="4876920" y="3581280"/>
              <a:ext cx="914400" cy="1067040"/>
            </a:xfrm>
            <a:prstGeom prst="ellipse">
              <a:avLst/>
            </a:prstGeom>
            <a:solidFill>
              <a:srgbClr val="3366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876920" y="6095880"/>
              <a:ext cx="2438280" cy="58140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-closure(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334120" y="4648320"/>
              <a:ext cx="228600" cy="1447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5943600" y="3581280"/>
            <a:ext cx="2438280" cy="2257920"/>
            <a:chOff x="5943600" y="3581280"/>
            <a:chExt cx="2438280" cy="2257920"/>
          </a:xfrm>
        </p:grpSpPr>
        <p:sp>
          <p:nvSpPr>
            <p:cNvPr id="224" name=""/>
            <p:cNvSpPr/>
            <p:nvPr/>
          </p:nvSpPr>
          <p:spPr>
            <a:xfrm>
              <a:off x="6400440" y="3581280"/>
              <a:ext cx="838080" cy="1067040"/>
            </a:xfrm>
            <a:prstGeom prst="ellipse">
              <a:avLst/>
            </a:prstGeom>
            <a:solidFill>
              <a:srgbClr val="3366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791040" y="4648320"/>
              <a:ext cx="52344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943600" y="5257800"/>
              <a:ext cx="2438280" cy="58140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-closure(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f 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685800" y="2057400"/>
            <a:ext cx="7772400" cy="914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85800" y="1981080"/>
            <a:ext cx="8001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ver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state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w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defin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-closur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 a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-closure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5800" y="3048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09480" y="304812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477120" y="38098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362320" y="38862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3920" y="38862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895480" y="419112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048120" y="35812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105520" y="38862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267080" y="419112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419720" y="35812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553080" y="3886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419112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019920" y="35812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981080" y="419112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clos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9480" y="1066680"/>
            <a:ext cx="777240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is in </a:t>
            </a:r>
            <a:r>
              <a:rPr b="1" lang="cs-CZ" sz="30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-closure(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if FA can reach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from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without reading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60948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480" y="11430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-closure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09480" y="2438280"/>
            <a:ext cx="8001000" cy="43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= 0;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+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-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unti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-closure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: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: </a:t>
            </a: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clos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85800" y="15238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q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" y="190512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ask: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-closure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closure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685800" y="2362320"/>
            <a:ext cx="7772400" cy="579600"/>
            <a:chOff x="685800" y="2362320"/>
            <a:chExt cx="7772400" cy="579600"/>
          </a:xfrm>
        </p:grpSpPr>
        <p:sp>
          <p:nvSpPr>
            <p:cNvPr id="257" name=""/>
            <p:cNvSpPr/>
            <p:nvPr/>
          </p:nvSpPr>
          <p:spPr>
            <a:xfrm>
              <a:off x="685800" y="2362320"/>
              <a:ext cx="1752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85800" y="289548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685800" y="2819520"/>
            <a:ext cx="7924680" cy="960480"/>
            <a:chOff x="685800" y="2819520"/>
            <a:chExt cx="7924680" cy="960480"/>
          </a:xfrm>
        </p:grpSpPr>
        <p:sp>
          <p:nvSpPr>
            <p:cNvPr id="260" name=""/>
            <p:cNvSpPr/>
            <p:nvPr/>
          </p:nvSpPr>
          <p:spPr>
            <a:xfrm>
              <a:off x="685800" y="2819520"/>
              <a:ext cx="7924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)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85800" y="3200400"/>
              <a:ext cx="4419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{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=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85800" y="373392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685800" y="3657600"/>
            <a:ext cx="7772400" cy="1265400"/>
            <a:chOff x="685800" y="3657600"/>
            <a:chExt cx="7772400" cy="1265400"/>
          </a:xfrm>
        </p:grpSpPr>
        <p:sp>
          <p:nvSpPr>
            <p:cNvPr id="264" name=""/>
            <p:cNvSpPr/>
            <p:nvPr/>
          </p:nvSpPr>
          <p:spPr>
            <a:xfrm>
              <a:off x="685800" y="3657600"/>
              <a:ext cx="7620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2)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85800" y="3962520"/>
              <a:ext cx="769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85800" y="4343400"/>
              <a:ext cx="4724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{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=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" y="487692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5800" y="4800600"/>
            <a:ext cx="8229600" cy="1570320"/>
            <a:chOff x="685800" y="4800600"/>
            <a:chExt cx="8229600" cy="1570320"/>
          </a:xfrm>
        </p:grpSpPr>
        <p:sp>
          <p:nvSpPr>
            <p:cNvPr id="269" name=""/>
            <p:cNvSpPr/>
            <p:nvPr/>
          </p:nvSpPr>
          <p:spPr>
            <a:xfrm>
              <a:off x="685800" y="4800600"/>
              <a:ext cx="7238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3)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85800" y="5105520"/>
              <a:ext cx="777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85800" y="5410080"/>
              <a:ext cx="7010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non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85800" y="5791320"/>
              <a:ext cx="8229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{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=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=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-closure(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85800" y="632448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Roman Lukáš</cp:lastModifiedBy>
  <dcterms:modified xsi:type="dcterms:W3CDTF">2005-09-29T09:48:58Z</dcterms:modified>
  <cp:revision>130</cp:revision>
  <dc:subject/>
  <dc:title>Variants of Finite Automata</dc:title>
</cp:coreProperties>
</file>