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2B77-F7E3-4328-9E37-48FED2064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A873-C2AA-4ABA-945F-EE715873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85B7-0D2A-4067-918D-F0FCF9C1F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6A12-87A5-45A5-86C7-45692315B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3424-0BCD-41A8-B86E-BBA9263A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0943-5B37-4903-A1FF-F76A3B2B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0984-8125-4120-B3E9-25FAC1A7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4479-40DD-486D-80D0-EA649962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2D99-FB61-4745-846B-D02551A8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7202-F4C0-477C-B597-0C120A69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BA5D-999F-4FB7-A3B1-1C516CFB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43E2-8131-427F-8E2D-68EE0B9A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C6DE-EC1E-46A8-9C65-9E5E859C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35A3-9CDB-428F-90D0-D84436DA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3D97-EBA6-4C08-831F-B309F77E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C095-B0B1-4695-9B56-C34CA568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4075-EC54-41F6-9ADB-7D8897CC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DFC7-B89E-4861-A9BF-17E2FCEB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7EEE-24E5-44F5-96D1-88C6D792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7560-AC5C-4F2A-8F1F-46A45061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D250-FAE9-4239-92E6-8B7E7458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62CB-2F4F-4966-B0B1-1B62BF24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5569-968F-439C-962D-DF3A1090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1850-8067-430D-B2F7-3109D184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70CD-C990-41DE-968C-EE7667E8CB2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1F31-B35E-4D95-8F86-4FC8FDFD4D4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49484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ertion and Deletion Operations in Formal Language Theory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35280" y="4941720"/>
                <a:ext cx="56721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sSub>
                          <m:e>
                            <m:r>
                              <m:t xml:space="preserve">←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90560" y="2565360"/>
                <a:ext cx="835344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2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abb},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cd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←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35280" y="1809720"/>
            <a:ext cx="604836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9850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Mapping epsil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408720" cy="444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164360" y="3860640"/>
                <a:ext cx="15480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24" name=""/>
          <p:cNvGraphicFramePr/>
          <p:nvPr/>
        </p:nvGraphicFramePr>
        <p:xfrm>
          <a:off x="4356000" y="4724280"/>
          <a:ext cx="4540320" cy="2070360"/>
        </p:xfrm>
        <a:graphic>
          <a:graphicData uri="http://schemas.openxmlformats.org/drawingml/2006/table">
            <a:tbl>
              <a:tblPr/>
              <a:tblGrid>
                <a:gridCol w="2592360"/>
                <a:gridCol w="194796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rom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, D, E,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5508720" y="2492280"/>
            <a:ext cx="19429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5950080"/>
            <a:ext cx="19432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  <a:ea typeface="Arial"/>
              </a:rPr>
              <a:t>→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00000" y="2781360"/>
                <a:ext cx="7417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→</m:t>
                    </m:r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3860640"/>
                <a:ext cx="396072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b, 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aba}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→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aba, abba, ab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→ aba = {baba, abba, ab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 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 → aba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8317080" cy="489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43640" y="4941720"/>
          <a:ext cx="230364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1541520"/>
            <a:ext cx="6912000" cy="531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395280" y="3500280"/>
          <a:ext cx="2160360" cy="1462320"/>
        </p:xfrm>
        <a:graphic>
          <a:graphicData uri="http://schemas.openxmlformats.org/drawingml/2006/table">
            <a:tbl>
              <a:tblPr/>
              <a:tblGrid>
                <a:gridCol w="338040"/>
                <a:gridCol w="18223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843280" y="5084640"/>
                <a:ext cx="37447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14280" y="3213000"/>
                <a:ext cx="882972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∃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uch that 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here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∩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</m:d>
                                  </m:e>
                                </m:d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Stringology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modern part of theoretical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als with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sertion and deletion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ababa, abaaba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, abba, aba, a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b, ab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aba, a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aba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55640" y="1566720"/>
            <a:ext cx="7632720" cy="529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6724800" y="518796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8172360" cy="5167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443640" y="494172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9320" y="1484280"/>
            <a:ext cx="559584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95640" y="1512720"/>
            <a:ext cx="6408720" cy="53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0" y="1496880"/>
            <a:ext cx="734364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5640" y="5084640"/>
                <a:ext cx="44845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24000" y="2898720"/>
                <a:ext cx="88200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1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→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0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95640" y="1541520"/>
            <a:ext cx="5400720" cy="53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1544760"/>
            <a:ext cx="5832720" cy="53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miliarize with new oper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 their proper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sign algorithms constructing finite automata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hat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cept results of these operations if we have operands in the form of finite autom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 of the oper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d processing, searching in text, compilers,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rac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biology and medic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 of mutations in genetics, simulation of reproducing cells, microorganisms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 insertion and deletion in formal language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iversity of Turku, Finland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99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ower of Controlled Insertion and Delet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NCS 812, Springer, Berlin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lexander Meduna, Martin Vítek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w language operations in formal language theor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Schedae Informaticae vol. 13, Kraków, Poland, 2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exander Meduna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utomata and Languages: Theory and Application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pringer, London, 2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axime Crochemore, Wojciech Rytter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Text algorithm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Oxford University Press, Oxford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| u = 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56000" y="4292640"/>
                <a:ext cx="39592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←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2360" y="2657160"/>
            <a:ext cx="514980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ings u = cd, v = 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d, c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, cd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4595760" cy="530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84328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31640" y="201780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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27200" y="3500280"/>
                <a:ext cx="84168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Σ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700360" y="5229360"/>
                <a:ext cx="34560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2449440"/>
            <a:ext cx="731340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cd},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, 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1460520"/>
            <a:ext cx="6480360" cy="536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3T13:58:42Z</dcterms:created>
  <dc:creator>Ing. Martin Vítek</dc:creator>
  <dc:description/>
  <dc:language>en-US</dc:language>
  <cp:lastModifiedBy>Martin Vítek</cp:lastModifiedBy>
  <dcterms:modified xsi:type="dcterms:W3CDTF">2006-06-25T20:36:53Z</dcterms:modified>
  <cp:revision>26</cp:revision>
  <dc:subject/>
  <dc:title>New language operations in formal language theory</dc:title>
</cp:coreProperties>
</file>