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D28-C761-47F1-A9DC-3210C77E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70A-47C7-41B8-A8B7-3135333C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5155-5276-4545-8A34-FC5E2673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1BF-8824-4343-8479-C1FCB3D0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D26-EC47-4328-B9BA-EDF5D2C6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480-BAFB-4B30-A953-528942D8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10A-ECB6-44C5-867E-7784D748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BC7-9FB3-43E5-8C52-8FEB719B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7AB-1EF5-423E-B24E-8BBB9D10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0E5-D435-4852-AE58-810FB7A2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CF1-9DB4-41B0-A733-0B6B4A2D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648-235A-41EF-A792-5BFD6233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0C4A-B476-4A3E-A390-6B2277AD772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1:54Z</dcterms:modified>
  <cp:revision>144</cp:revision>
  <dc:subject/>
  <dc:title>Properties of Regular Languages</dc:title>
</cp:coreProperties>
</file>