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6D29-040A-4E34-B742-93F0C3884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8920-6DDE-411B-99B5-0EB696F5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4494-0514-48B4-8575-F63D174D3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6828-4BE1-4F5F-9490-91BDB38AB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9FF6-2B14-450D-A2E7-AF70E6D1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3E4B-C50E-4DBD-94F0-142D8F07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1CFD-5B90-4194-85F3-AC0D2DD7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6A0E-E232-432D-9025-F23DA4D8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3A6A-28FC-4D8D-ACF0-5424875A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792D-EA73-4EE2-9EEE-4BAF97ED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0C48-BBA8-495F-86EB-860CF051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C859-70ED-443A-B9CA-8D48F30F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5CA4-AE4C-42AF-B087-4662A208AFC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X.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ormal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Forms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nd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Properties of C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FL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809880" y="327672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3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15200" y="518148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838080" y="4191120"/>
            <a:ext cx="2971800" cy="1066680"/>
            <a:chOff x="838080" y="4191120"/>
            <a:chExt cx="2971800" cy="1066680"/>
          </a:xfrm>
        </p:grpSpPr>
        <p:sp>
          <p:nvSpPr>
            <p:cNvPr id="291" name=""/>
            <p:cNvSpPr/>
            <p:nvPr/>
          </p:nvSpPr>
          <p:spPr>
            <a:xfrm flipH="1" flipV="1">
              <a:off x="2895480" y="41911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3808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752480" y="4191120"/>
            <a:ext cx="2895840" cy="1066680"/>
            <a:chOff x="1752480" y="4191120"/>
            <a:chExt cx="2895840" cy="1066680"/>
          </a:xfrm>
        </p:grpSpPr>
        <p:sp>
          <p:nvSpPr>
            <p:cNvPr id="294" name=""/>
            <p:cNvSpPr/>
            <p:nvPr/>
          </p:nvSpPr>
          <p:spPr>
            <a:xfrm flipV="1">
              <a:off x="1752480" y="4266720"/>
              <a:ext cx="76212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97180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1056" y="672"/>
                  </a:moveTo>
                  <a:cubicBezTo>
                    <a:pt x="1023" y="595"/>
                    <a:pt x="1032" y="320"/>
                    <a:pt x="856" y="208"/>
                  </a:cubicBezTo>
                  <a:cubicBezTo>
                    <a:pt x="680" y="96"/>
                    <a:pt x="178" y="43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590920" y="4191120"/>
            <a:ext cx="2971800" cy="1066680"/>
            <a:chOff x="2590920" y="4191120"/>
            <a:chExt cx="2971800" cy="1066680"/>
          </a:xfrm>
        </p:grpSpPr>
        <p:sp>
          <p:nvSpPr>
            <p:cNvPr id="297" name=""/>
            <p:cNvSpPr/>
            <p:nvPr/>
          </p:nvSpPr>
          <p:spPr>
            <a:xfrm flipH="1" flipV="1">
              <a:off x="4648320" y="4191120"/>
              <a:ext cx="914400" cy="380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4191120"/>
              <a:ext cx="167616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505320" y="4191120"/>
            <a:ext cx="2965320" cy="1054080"/>
            <a:chOff x="3505320" y="4191120"/>
            <a:chExt cx="2965320" cy="1054080"/>
          </a:xfrm>
        </p:grpSpPr>
        <p:sp>
          <p:nvSpPr>
            <p:cNvPr id="300" name=""/>
            <p:cNvSpPr/>
            <p:nvPr/>
          </p:nvSpPr>
          <p:spPr>
            <a:xfrm flipV="1">
              <a:off x="3505320" y="4266720"/>
              <a:ext cx="7617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24280" y="4191120"/>
              <a:ext cx="1746360" cy="1054080"/>
            </a:xfrm>
            <a:custGeom>
              <a:avLst/>
              <a:gdLst/>
              <a:ahLst/>
              <a:rect l="l" t="t" r="r" b="b"/>
              <a:pathLst>
                <a:path w="1100" h="664">
                  <a:moveTo>
                    <a:pt x="1032" y="664"/>
                  </a:moveTo>
                  <a:cubicBezTo>
                    <a:pt x="1011" y="585"/>
                    <a:pt x="1100" y="311"/>
                    <a:pt x="928" y="200"/>
                  </a:cubicBezTo>
                  <a:cubicBezTo>
                    <a:pt x="756" y="89"/>
                    <a:pt x="193" y="42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267080" y="4191120"/>
            <a:ext cx="2895480" cy="1066680"/>
            <a:chOff x="4267080" y="4191120"/>
            <a:chExt cx="2895480" cy="1066680"/>
          </a:xfrm>
        </p:grpSpPr>
        <p:sp>
          <p:nvSpPr>
            <p:cNvPr id="303" name=""/>
            <p:cNvSpPr/>
            <p:nvPr/>
          </p:nvSpPr>
          <p:spPr>
            <a:xfrm flipH="1" flipV="1">
              <a:off x="6324120" y="4191120"/>
              <a:ext cx="83844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6708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181480" y="4191120"/>
            <a:ext cx="2895840" cy="1066680"/>
            <a:chOff x="5181480" y="4191120"/>
            <a:chExt cx="2895840" cy="1066680"/>
          </a:xfrm>
        </p:grpSpPr>
        <p:sp>
          <p:nvSpPr>
            <p:cNvPr id="306" name=""/>
            <p:cNvSpPr/>
            <p:nvPr/>
          </p:nvSpPr>
          <p:spPr>
            <a:xfrm flipV="1">
              <a:off x="5181480" y="4266720"/>
              <a:ext cx="76212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0080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1056" y="672"/>
                  </a:moveTo>
                  <a:cubicBezTo>
                    <a:pt x="1023" y="595"/>
                    <a:pt x="1032" y="320"/>
                    <a:pt x="856" y="208"/>
                  </a:cubicBezTo>
                  <a:cubicBezTo>
                    <a:pt x="680" y="96"/>
                    <a:pt x="178" y="43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96252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724280" y="274320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4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838080" y="3580920"/>
            <a:ext cx="3810240" cy="1676880"/>
            <a:chOff x="838080" y="3580920"/>
            <a:chExt cx="3810240" cy="1676880"/>
          </a:xfrm>
        </p:grpSpPr>
        <p:sp>
          <p:nvSpPr>
            <p:cNvPr id="345" name=""/>
            <p:cNvSpPr/>
            <p:nvPr/>
          </p:nvSpPr>
          <p:spPr>
            <a:xfrm flipH="1" flipV="1">
              <a:off x="3733920" y="3580920"/>
              <a:ext cx="914400" cy="3049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8080" y="3594240"/>
              <a:ext cx="2629080" cy="1663560"/>
            </a:xfrm>
            <a:custGeom>
              <a:avLst/>
              <a:gdLst/>
              <a:ahLst/>
              <a:rect l="l" t="t" r="r" b="b"/>
              <a:pathLst>
                <a:path w="1656" h="1048">
                  <a:moveTo>
                    <a:pt x="0" y="1048"/>
                  </a:moveTo>
                  <a:cubicBezTo>
                    <a:pt x="71" y="909"/>
                    <a:pt x="148" y="391"/>
                    <a:pt x="424" y="216"/>
                  </a:cubicBezTo>
                  <a:cubicBezTo>
                    <a:pt x="700" y="41"/>
                    <a:pt x="1399" y="45"/>
                    <a:pt x="16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4952880" y="2743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4956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80204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862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6386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676520" y="3581280"/>
            <a:ext cx="3855960" cy="990720"/>
            <a:chOff x="1676520" y="3581280"/>
            <a:chExt cx="3855960" cy="990720"/>
          </a:xfrm>
        </p:grpSpPr>
        <p:sp>
          <p:nvSpPr>
            <p:cNvPr id="353" name=""/>
            <p:cNvSpPr/>
            <p:nvPr/>
          </p:nvSpPr>
          <p:spPr>
            <a:xfrm>
              <a:off x="3809880" y="3581280"/>
              <a:ext cx="1722600" cy="965160"/>
            </a:xfrm>
            <a:custGeom>
              <a:avLst/>
              <a:gdLst/>
              <a:ahLst/>
              <a:rect l="l" t="t" r="r" b="b"/>
              <a:pathLst>
                <a:path w="1085" h="608">
                  <a:moveTo>
                    <a:pt x="1064" y="608"/>
                  </a:moveTo>
                  <a:cubicBezTo>
                    <a:pt x="1056" y="536"/>
                    <a:pt x="1085" y="252"/>
                    <a:pt x="1016" y="176"/>
                  </a:cubicBezTo>
                  <a:cubicBezTo>
                    <a:pt x="947" y="100"/>
                    <a:pt x="817" y="181"/>
                    <a:pt x="648" y="152"/>
                  </a:cubicBezTo>
                  <a:cubicBezTo>
                    <a:pt x="479" y="123"/>
                    <a:pt x="135" y="32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76520" y="3619440"/>
              <a:ext cx="1752480" cy="952560"/>
            </a:xfrm>
            <a:custGeom>
              <a:avLst/>
              <a:gdLst/>
              <a:ahLst/>
              <a:rect l="l" t="t" r="r" b="b"/>
              <a:pathLst>
                <a:path w="1104" h="600">
                  <a:moveTo>
                    <a:pt x="0" y="600"/>
                  </a:moveTo>
                  <a:cubicBezTo>
                    <a:pt x="47" y="535"/>
                    <a:pt x="96" y="308"/>
                    <a:pt x="280" y="208"/>
                  </a:cubicBezTo>
                  <a:cubicBezTo>
                    <a:pt x="464" y="108"/>
                    <a:pt x="932" y="43"/>
                    <a:pt x="1104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590920" y="3606840"/>
            <a:ext cx="3821040" cy="1638360"/>
            <a:chOff x="2590920" y="3606840"/>
            <a:chExt cx="3821040" cy="1638360"/>
          </a:xfrm>
        </p:grpSpPr>
        <p:sp>
          <p:nvSpPr>
            <p:cNvPr id="356" name=""/>
            <p:cNvSpPr/>
            <p:nvPr/>
          </p:nvSpPr>
          <p:spPr>
            <a:xfrm>
              <a:off x="4000680" y="3606840"/>
              <a:ext cx="2411280" cy="1638360"/>
            </a:xfrm>
            <a:custGeom>
              <a:avLst/>
              <a:gdLst/>
              <a:ahLst/>
              <a:rect l="l" t="t" r="r" b="b"/>
              <a:pathLst>
                <a:path w="1519" h="1032">
                  <a:moveTo>
                    <a:pt x="1488" y="1032"/>
                  </a:moveTo>
                  <a:cubicBezTo>
                    <a:pt x="1481" y="959"/>
                    <a:pt x="1519" y="688"/>
                    <a:pt x="1448" y="592"/>
                  </a:cubicBezTo>
                  <a:cubicBezTo>
                    <a:pt x="1377" y="496"/>
                    <a:pt x="1153" y="535"/>
                    <a:pt x="1064" y="456"/>
                  </a:cubicBezTo>
                  <a:cubicBezTo>
                    <a:pt x="975" y="377"/>
                    <a:pt x="985" y="179"/>
                    <a:pt x="912" y="120"/>
                  </a:cubicBezTo>
                  <a:cubicBezTo>
                    <a:pt x="839" y="61"/>
                    <a:pt x="776" y="124"/>
                    <a:pt x="624" y="104"/>
                  </a:cubicBezTo>
                  <a:cubicBezTo>
                    <a:pt x="472" y="84"/>
                    <a:pt x="130" y="22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2590920" y="3657240"/>
              <a:ext cx="76176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2654280" y="3556080"/>
            <a:ext cx="3669840" cy="1727280"/>
            <a:chOff x="2654280" y="3556080"/>
            <a:chExt cx="3669840" cy="1727280"/>
          </a:xfrm>
        </p:grpSpPr>
        <p:sp>
          <p:nvSpPr>
            <p:cNvPr id="359" name=""/>
            <p:cNvSpPr/>
            <p:nvPr/>
          </p:nvSpPr>
          <p:spPr>
            <a:xfrm flipH="1" flipV="1">
              <a:off x="5676480" y="3645000"/>
              <a:ext cx="647640" cy="241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54280" y="3556080"/>
              <a:ext cx="2451240" cy="1727280"/>
            </a:xfrm>
            <a:custGeom>
              <a:avLst/>
              <a:gdLst/>
              <a:ahLst/>
              <a:rect l="l" t="t" r="r" b="b"/>
              <a:pathLst>
                <a:path w="1544" h="1088">
                  <a:moveTo>
                    <a:pt x="0" y="1088"/>
                  </a:moveTo>
                  <a:cubicBezTo>
                    <a:pt x="12" y="1016"/>
                    <a:pt x="3" y="751"/>
                    <a:pt x="80" y="656"/>
                  </a:cubicBezTo>
                  <a:cubicBezTo>
                    <a:pt x="157" y="561"/>
                    <a:pt x="375" y="599"/>
                    <a:pt x="464" y="520"/>
                  </a:cubicBezTo>
                  <a:cubicBezTo>
                    <a:pt x="553" y="441"/>
                    <a:pt x="543" y="243"/>
                    <a:pt x="616" y="184"/>
                  </a:cubicBezTo>
                  <a:cubicBezTo>
                    <a:pt x="689" y="125"/>
                    <a:pt x="749" y="199"/>
                    <a:pt x="904" y="168"/>
                  </a:cubicBezTo>
                  <a:cubicBezTo>
                    <a:pt x="1059" y="137"/>
                    <a:pt x="1411" y="35"/>
                    <a:pt x="1544" y="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540240" y="3556080"/>
            <a:ext cx="3681360" cy="990360"/>
            <a:chOff x="3540240" y="3556080"/>
            <a:chExt cx="3681360" cy="990360"/>
          </a:xfrm>
        </p:grpSpPr>
        <p:sp>
          <p:nvSpPr>
            <p:cNvPr id="362" name=""/>
            <p:cNvSpPr/>
            <p:nvPr/>
          </p:nvSpPr>
          <p:spPr>
            <a:xfrm>
              <a:off x="5600880" y="3606840"/>
              <a:ext cx="1620720" cy="939600"/>
            </a:xfrm>
            <a:custGeom>
              <a:avLst/>
              <a:gdLst/>
              <a:ahLst/>
              <a:rect l="l" t="t" r="r" b="b"/>
              <a:pathLst>
                <a:path w="1021" h="592">
                  <a:moveTo>
                    <a:pt x="992" y="592"/>
                  </a:moveTo>
                  <a:cubicBezTo>
                    <a:pt x="969" y="521"/>
                    <a:pt x="1021" y="267"/>
                    <a:pt x="856" y="168"/>
                  </a:cubicBezTo>
                  <a:cubicBezTo>
                    <a:pt x="691" y="69"/>
                    <a:pt x="178" y="35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40240" y="3556080"/>
              <a:ext cx="1654200" cy="990360"/>
            </a:xfrm>
            <a:custGeom>
              <a:avLst/>
              <a:gdLst/>
              <a:ahLst/>
              <a:rect l="l" t="t" r="r" b="b"/>
              <a:pathLst>
                <a:path w="1042" h="624">
                  <a:moveTo>
                    <a:pt x="0" y="624"/>
                  </a:moveTo>
                  <a:cubicBezTo>
                    <a:pt x="18" y="565"/>
                    <a:pt x="34" y="345"/>
                    <a:pt x="106" y="272"/>
                  </a:cubicBezTo>
                  <a:cubicBezTo>
                    <a:pt x="178" y="199"/>
                    <a:pt x="278" y="229"/>
                    <a:pt x="434" y="184"/>
                  </a:cubicBezTo>
                  <a:cubicBezTo>
                    <a:pt x="590" y="139"/>
                    <a:pt x="915" y="38"/>
                    <a:pt x="1042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4343400" y="3580920"/>
            <a:ext cx="3746520" cy="1638720"/>
            <a:chOff x="4343400" y="3580920"/>
            <a:chExt cx="3746520" cy="1638720"/>
          </a:xfrm>
        </p:grpSpPr>
        <p:sp>
          <p:nvSpPr>
            <p:cNvPr id="365" name=""/>
            <p:cNvSpPr/>
            <p:nvPr/>
          </p:nvSpPr>
          <p:spPr>
            <a:xfrm flipV="1">
              <a:off x="4343400" y="3580920"/>
              <a:ext cx="8380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562720" y="3581280"/>
              <a:ext cx="2527200" cy="1638360"/>
            </a:xfrm>
            <a:custGeom>
              <a:avLst/>
              <a:gdLst/>
              <a:ahLst/>
              <a:rect l="l" t="t" r="r" b="b"/>
              <a:pathLst>
                <a:path w="1592" h="1032">
                  <a:moveTo>
                    <a:pt x="1592" y="1032"/>
                  </a:moveTo>
                  <a:cubicBezTo>
                    <a:pt x="1532" y="896"/>
                    <a:pt x="1497" y="388"/>
                    <a:pt x="1232" y="216"/>
                  </a:cubicBezTo>
                  <a:cubicBezTo>
                    <a:pt x="967" y="44"/>
                    <a:pt x="257" y="45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286000" y="243828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5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146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80204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862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6386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11320" y="259092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724280" y="2590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505320" y="2895480"/>
            <a:ext cx="4495320" cy="2360880"/>
            <a:chOff x="3505320" y="2895480"/>
            <a:chExt cx="4495320" cy="2360880"/>
          </a:xfrm>
        </p:grpSpPr>
        <p:sp>
          <p:nvSpPr>
            <p:cNvPr id="410" name=""/>
            <p:cNvSpPr/>
            <p:nvPr/>
          </p:nvSpPr>
          <p:spPr>
            <a:xfrm flipV="1">
              <a:off x="3505320" y="3047760"/>
              <a:ext cx="76176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4647600" y="2895480"/>
              <a:ext cx="3352680" cy="2360880"/>
            </a:xfrm>
            <a:custGeom>
              <a:avLst/>
              <a:gdLst/>
              <a:ahLst/>
              <a:rect l="l" t="t" r="r" b="b"/>
              <a:pathLst>
                <a:path w="2112" h="1487">
                  <a:moveTo>
                    <a:pt x="0" y="1487"/>
                  </a:moveTo>
                  <a:cubicBezTo>
                    <a:pt x="88" y="1279"/>
                    <a:pt x="176" y="478"/>
                    <a:pt x="528" y="239"/>
                  </a:cubicBezTo>
                  <a:cubicBezTo>
                    <a:pt x="880" y="0"/>
                    <a:pt x="1782" y="93"/>
                    <a:pt x="2112" y="55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914400" y="2884320"/>
            <a:ext cx="4572000" cy="2360880"/>
            <a:chOff x="914400" y="2884320"/>
            <a:chExt cx="4572000" cy="2360880"/>
          </a:xfrm>
        </p:grpSpPr>
        <p:sp>
          <p:nvSpPr>
            <p:cNvPr id="413" name=""/>
            <p:cNvSpPr/>
            <p:nvPr/>
          </p:nvSpPr>
          <p:spPr>
            <a:xfrm>
              <a:off x="914400" y="2884320"/>
              <a:ext cx="3352680" cy="2360880"/>
            </a:xfrm>
            <a:custGeom>
              <a:avLst/>
              <a:gdLst/>
              <a:ahLst/>
              <a:rect l="l" t="t" r="r" b="b"/>
              <a:pathLst>
                <a:path w="2112" h="1487">
                  <a:moveTo>
                    <a:pt x="0" y="1487"/>
                  </a:moveTo>
                  <a:cubicBezTo>
                    <a:pt x="88" y="1279"/>
                    <a:pt x="176" y="478"/>
                    <a:pt x="528" y="239"/>
                  </a:cubicBezTo>
                  <a:cubicBezTo>
                    <a:pt x="880" y="0"/>
                    <a:pt x="1782" y="93"/>
                    <a:pt x="2112" y="55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4648320" y="3047760"/>
              <a:ext cx="838080" cy="2286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2532240" y="3009960"/>
            <a:ext cx="4724280" cy="1560600"/>
            <a:chOff x="2532240" y="3009960"/>
            <a:chExt cx="4724280" cy="1560600"/>
          </a:xfrm>
        </p:grpSpPr>
        <p:sp>
          <p:nvSpPr>
            <p:cNvPr id="416" name=""/>
            <p:cNvSpPr/>
            <p:nvPr/>
          </p:nvSpPr>
          <p:spPr>
            <a:xfrm>
              <a:off x="2532240" y="3009960"/>
              <a:ext cx="1684080" cy="825480"/>
            </a:xfrm>
            <a:custGeom>
              <a:avLst/>
              <a:gdLst/>
              <a:ahLst/>
              <a:rect l="l" t="t" r="r" b="b"/>
              <a:pathLst>
                <a:path w="1061" h="520">
                  <a:moveTo>
                    <a:pt x="0" y="520"/>
                  </a:moveTo>
                  <a:cubicBezTo>
                    <a:pt x="46" y="464"/>
                    <a:pt x="100" y="271"/>
                    <a:pt x="277" y="184"/>
                  </a:cubicBezTo>
                  <a:cubicBezTo>
                    <a:pt x="454" y="97"/>
                    <a:pt x="898" y="38"/>
                    <a:pt x="1061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624560" y="3021120"/>
              <a:ext cx="2631960" cy="1549440"/>
            </a:xfrm>
            <a:custGeom>
              <a:avLst/>
              <a:gdLst/>
              <a:ahLst/>
              <a:rect l="l" t="t" r="r" b="b"/>
              <a:pathLst>
                <a:path w="1658" h="976">
                  <a:moveTo>
                    <a:pt x="1600" y="976"/>
                  </a:moveTo>
                  <a:cubicBezTo>
                    <a:pt x="1565" y="842"/>
                    <a:pt x="1658" y="332"/>
                    <a:pt x="1391" y="169"/>
                  </a:cubicBezTo>
                  <a:cubicBezTo>
                    <a:pt x="1124" y="6"/>
                    <a:pt x="290" y="35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1735200" y="3009960"/>
            <a:ext cx="4857840" cy="1549440"/>
            <a:chOff x="1735200" y="3009960"/>
            <a:chExt cx="4857840" cy="1549440"/>
          </a:xfrm>
        </p:grpSpPr>
        <p:sp>
          <p:nvSpPr>
            <p:cNvPr id="419" name=""/>
            <p:cNvSpPr/>
            <p:nvPr/>
          </p:nvSpPr>
          <p:spPr>
            <a:xfrm>
              <a:off x="1735200" y="3009960"/>
              <a:ext cx="2557440" cy="1549440"/>
            </a:xfrm>
            <a:custGeom>
              <a:avLst/>
              <a:gdLst/>
              <a:ahLst/>
              <a:rect l="l" t="t" r="r" b="b"/>
              <a:pathLst>
                <a:path w="1611" h="976">
                  <a:moveTo>
                    <a:pt x="11" y="976"/>
                  </a:moveTo>
                  <a:cubicBezTo>
                    <a:pt x="54" y="851"/>
                    <a:pt x="0" y="387"/>
                    <a:pt x="267" y="224"/>
                  </a:cubicBezTo>
                  <a:cubicBezTo>
                    <a:pt x="534" y="61"/>
                    <a:pt x="1331" y="47"/>
                    <a:pt x="1611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700520" y="3021120"/>
              <a:ext cx="1892520" cy="825480"/>
            </a:xfrm>
            <a:custGeom>
              <a:avLst/>
              <a:gdLst/>
              <a:ahLst/>
              <a:rect l="l" t="t" r="r" b="b"/>
              <a:pathLst>
                <a:path w="1192" h="520">
                  <a:moveTo>
                    <a:pt x="1061" y="520"/>
                  </a:moveTo>
                  <a:cubicBezTo>
                    <a:pt x="1053" y="457"/>
                    <a:pt x="1192" y="232"/>
                    <a:pt x="1015" y="145"/>
                  </a:cubicBezTo>
                  <a:cubicBezTo>
                    <a:pt x="838" y="58"/>
                    <a:pt x="211" y="30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5715000" y="2438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7467480" y="2438280"/>
            <a:ext cx="1295640" cy="520560"/>
            <a:chOff x="7467480" y="2438280"/>
            <a:chExt cx="1295640" cy="520560"/>
          </a:xfrm>
        </p:grpSpPr>
        <p:sp>
          <p:nvSpPr>
            <p:cNvPr id="423" name=""/>
            <p:cNvSpPr/>
            <p:nvPr/>
          </p:nvSpPr>
          <p:spPr>
            <a:xfrm>
              <a:off x="7467480" y="2514600"/>
              <a:ext cx="381240" cy="380880"/>
            </a:xfrm>
            <a:prstGeom prst="righ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48720" y="24382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</a:rPr>
                <a:t>Y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685800" y="1219320"/>
            <a:ext cx="7775640" cy="2176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CFL.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Then, there exist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1 such that: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, x, 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z = uvw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 for CF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3520" y="3061440"/>
            <a:ext cx="822960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generate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en-US" sz="2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</a:t>
            </a:r>
            <a:r>
              <a:rPr b="0" i="1" lang="en-US" sz="2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},  so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CF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33520" y="4190400"/>
            <a:ext cx="63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l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5440" y="4571280"/>
            <a:ext cx="56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5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28800" y="5029200"/>
            <a:ext cx="0" cy="2286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057400" y="50292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260440" y="5029200"/>
            <a:ext cx="0" cy="2286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2000" y="5028480"/>
            <a:ext cx="126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19240" y="5027760"/>
            <a:ext cx="4772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60160" y="601884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0560" y="5714280"/>
            <a:ext cx="280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 =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476440" y="50292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92440" y="5029200"/>
            <a:ext cx="0" cy="2286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25760" y="54853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373760" y="642204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4360" y="6095160"/>
            <a:ext cx="60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5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9480" y="10666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any context-free langu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838080" y="2438280"/>
            <a:ext cx="6705720" cy="962640"/>
            <a:chOff x="838080" y="2438280"/>
            <a:chExt cx="6705720" cy="962640"/>
          </a:xfrm>
        </p:grpSpPr>
        <p:sp>
          <p:nvSpPr>
            <p:cNvPr id="448" name=""/>
            <p:cNvSpPr/>
            <p:nvPr/>
          </p:nvSpPr>
          <p:spPr>
            <a:xfrm>
              <a:off x="838080" y="2971800"/>
              <a:ext cx="5715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6200000">
              <a:off x="2590560" y="10663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362320" y="24382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705720" y="2819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05320" y="2819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495680" y="29718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85800" y="1523880"/>
            <a:ext cx="7772400" cy="990720"/>
            <a:chOff x="685800" y="1523880"/>
            <a:chExt cx="7772400" cy="990720"/>
          </a:xfrm>
        </p:grpSpPr>
        <p:sp>
          <p:nvSpPr>
            <p:cNvPr id="456" name=""/>
            <p:cNvSpPr/>
            <p:nvPr/>
          </p:nvSpPr>
          <p:spPr>
            <a:xfrm>
              <a:off x="838080" y="2057400"/>
              <a:ext cx="266724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16200000">
              <a:off x="2590560" y="1519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362320" y="15238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828800" y="1905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00600" y="190512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05320" y="19051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486400" y="1828800"/>
              <a:ext cx="2819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nothing interesting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8580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3048120" y="3429000"/>
            <a:ext cx="1523880" cy="380880"/>
          </a:xfrm>
          <a:prstGeom prst="downArrow">
            <a:avLst>
              <a:gd name="adj1" fmla="val 45694"/>
              <a:gd name="adj2" fmla="val 5277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838080" y="3352680"/>
            <a:ext cx="6934320" cy="1145520"/>
            <a:chOff x="838080" y="3352680"/>
            <a:chExt cx="6934320" cy="1145520"/>
          </a:xfrm>
        </p:grpSpPr>
        <p:sp>
          <p:nvSpPr>
            <p:cNvPr id="466" name=""/>
            <p:cNvSpPr/>
            <p:nvPr/>
          </p:nvSpPr>
          <p:spPr>
            <a:xfrm>
              <a:off x="2362320" y="3962520"/>
              <a:ext cx="1218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38080" y="396252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600200" y="396252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6668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9144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2590560" y="2057400"/>
              <a:ext cx="152640" cy="3657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67652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362320" y="33526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77120" y="373392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400" spc="-1" strike="noStrike">
                  <a:solidFill>
                    <a:srgbClr val="ff66ff"/>
                  </a:solidFill>
                  <a:latin typeface="Times New Roman"/>
                </a:rPr>
                <a:t>= </a:t>
              </a:r>
              <a:r>
                <a:rPr b="1" i="1" lang="cs-CZ" sz="4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343400" y="396252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581280" y="396252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1814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6576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457200" y="4267080"/>
            <a:ext cx="3962520" cy="612360"/>
            <a:chOff x="457200" y="4267080"/>
            <a:chExt cx="3962520" cy="612360"/>
          </a:xfrm>
        </p:grpSpPr>
        <p:sp>
          <p:nvSpPr>
            <p:cNvPr id="480" name=""/>
            <p:cNvSpPr/>
            <p:nvPr/>
          </p:nvSpPr>
          <p:spPr>
            <a:xfrm flipV="1" rot="5400000">
              <a:off x="1866960" y="4075560"/>
              <a:ext cx="228600" cy="7621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828800" y="44197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72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 rot="5400000">
              <a:off x="3848040" y="4075560"/>
              <a:ext cx="228600" cy="7621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733920" y="4419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66880" y="434340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457200" y="4419720"/>
            <a:ext cx="3886200" cy="840600"/>
            <a:chOff x="457200" y="4419720"/>
            <a:chExt cx="3886200" cy="840600"/>
          </a:xfrm>
        </p:grpSpPr>
        <p:sp>
          <p:nvSpPr>
            <p:cNvPr id="487" name=""/>
            <p:cNvSpPr/>
            <p:nvPr/>
          </p:nvSpPr>
          <p:spPr>
            <a:xfrm flipV="1" rot="5400000">
              <a:off x="2819160" y="3503880"/>
              <a:ext cx="304920" cy="27432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71280 h 2743200"/>
                <a:gd name="textAreaBottom" fmla="*/ 26719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4340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97180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57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0020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457200" y="5105520"/>
            <a:ext cx="8381880" cy="1753560"/>
            <a:chOff x="457200" y="5105520"/>
            <a:chExt cx="8381880" cy="1753560"/>
          </a:xfrm>
        </p:grpSpPr>
        <p:sp>
          <p:nvSpPr>
            <p:cNvPr id="493" name=""/>
            <p:cNvSpPr/>
            <p:nvPr/>
          </p:nvSpPr>
          <p:spPr>
            <a:xfrm>
              <a:off x="5105520" y="5105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5720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553080" y="55306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001000" y="60199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038480" y="621648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362320" y="5715000"/>
              <a:ext cx="1218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38080" y="57150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00200" y="57150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666880" y="55627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91440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7652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343400" y="57150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581280" y="57150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181480" y="55627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65760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38080" y="52578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91440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600200" y="5257800"/>
              <a:ext cx="1219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90512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819520" y="52578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65760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24080" y="6172200"/>
              <a:ext cx="1219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8080" y="61722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00200" y="61722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4290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9144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7652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791320" y="61722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343400" y="61722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294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1972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362320" y="6172200"/>
              <a:ext cx="76176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438280" y="60199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105520" y="6172200"/>
              <a:ext cx="76176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181480" y="60199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9480" y="1066680"/>
            <a:ext cx="8382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Based on the pumping lemma for CFL, we often make a proof by contradiction to demonstrate that a language is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a CFL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590920" y="2151720"/>
            <a:ext cx="388620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F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829440" y="2666880"/>
            <a:ext cx="7323840" cy="1295640"/>
            <a:chOff x="829440" y="2666880"/>
            <a:chExt cx="7323840" cy="1295640"/>
          </a:xfrm>
        </p:grpSpPr>
        <p:sp>
          <p:nvSpPr>
            <p:cNvPr id="532" name=""/>
            <p:cNvSpPr/>
            <p:nvPr/>
          </p:nvSpPr>
          <p:spPr>
            <a:xfrm>
              <a:off x="1219320" y="3048120"/>
              <a:ext cx="6933960" cy="914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29440" y="3061800"/>
              <a:ext cx="7291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Consider the PL constan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and selec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, whos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176480" y="3428640"/>
              <a:ext cx="6034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length depends on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so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|z|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is surely true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75240" y="266688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783720" y="3962520"/>
            <a:ext cx="7868880" cy="1547640"/>
            <a:chOff x="783720" y="3962520"/>
            <a:chExt cx="7868880" cy="1547640"/>
          </a:xfrm>
        </p:grpSpPr>
        <p:sp>
          <p:nvSpPr>
            <p:cNvPr id="537" name=""/>
            <p:cNvSpPr/>
            <p:nvPr/>
          </p:nvSpPr>
          <p:spPr>
            <a:xfrm>
              <a:off x="838080" y="4267080"/>
              <a:ext cx="7696440" cy="12193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3720" y="4298040"/>
              <a:ext cx="786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lang="en-GB" sz="2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l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decompositions of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into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</a:rPr>
                <a:t>uvwxy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vx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ε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vwx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0" lang="cs-CZ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, show tha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23680" y="4669200"/>
              <a:ext cx="538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ere exists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0 such that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wx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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55360" y="5050440"/>
              <a:ext cx="522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rom the pumping lemma,  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wx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72200" y="4800600"/>
              <a:ext cx="152280" cy="6094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23400" y="4799520"/>
              <a:ext cx="22914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9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572000" y="39625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676800" y="5486400"/>
            <a:ext cx="2779560" cy="843120"/>
            <a:chOff x="676800" y="5486400"/>
            <a:chExt cx="2779560" cy="843120"/>
          </a:xfrm>
        </p:grpSpPr>
        <p:sp>
          <p:nvSpPr>
            <p:cNvPr id="545" name=""/>
            <p:cNvSpPr/>
            <p:nvPr/>
          </p:nvSpPr>
          <p:spPr>
            <a:xfrm>
              <a:off x="676800" y="5808960"/>
              <a:ext cx="277956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false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assumption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41120" y="5486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685800" y="2361960"/>
            <a:ext cx="1904760" cy="3429000"/>
            <a:chOff x="685800" y="2361960"/>
            <a:chExt cx="1904760" cy="3429000"/>
          </a:xfrm>
        </p:grpSpPr>
        <p:sp>
          <p:nvSpPr>
            <p:cNvPr id="548" name=""/>
            <p:cNvSpPr/>
            <p:nvPr/>
          </p:nvSpPr>
          <p:spPr>
            <a:xfrm flipV="1">
              <a:off x="685800" y="2361960"/>
              <a:ext cx="0" cy="3429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85800" y="2362320"/>
              <a:ext cx="19047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3809880" y="5791320"/>
            <a:ext cx="1676520" cy="4572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5638680" y="5562000"/>
            <a:ext cx="2895840" cy="931680"/>
            <a:chOff x="5638680" y="5562000"/>
            <a:chExt cx="2895840" cy="931680"/>
          </a:xfrm>
        </p:grpSpPr>
        <p:sp>
          <p:nvSpPr>
            <p:cNvPr id="552" name=""/>
            <p:cNvSpPr/>
            <p:nvPr/>
          </p:nvSpPr>
          <p:spPr>
            <a:xfrm>
              <a:off x="5638680" y="5653080"/>
              <a:ext cx="2895840" cy="8380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68960" y="5562000"/>
              <a:ext cx="1778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Therefore,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86360" y="5942880"/>
              <a:ext cx="2534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is not a CFL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11430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o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 is no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.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57200" y="1676520"/>
            <a:ext cx="81532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ssume tha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CFL. 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 the pum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mma constant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57200" y="2590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3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57200" y="304812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decompositions of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uvwx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19320" y="396144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aa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rot="5400000">
            <a:off x="3314520" y="3619440"/>
            <a:ext cx="152640" cy="1905120"/>
          </a:xfrm>
          <a:custGeom>
            <a:avLst/>
            <a:gdLst>
              <a:gd name="textAreaLeft" fmla="*/ 0 w 152640"/>
              <a:gd name="textAreaRight" fmla="*/ 55080 w 15264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rot="5400000">
            <a:off x="5333760" y="3657600"/>
            <a:ext cx="152640" cy="1828800"/>
          </a:xfrm>
          <a:custGeom>
            <a:avLst/>
            <a:gdLst>
              <a:gd name="textAreaLeft" fmla="*/ 0 w 152640"/>
              <a:gd name="textAreaRight" fmla="*/ 55080 w 1526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 rot="16200000">
            <a:off x="2492280" y="3145680"/>
            <a:ext cx="144360" cy="1776240"/>
          </a:xfrm>
          <a:custGeom>
            <a:avLst/>
            <a:gdLst>
              <a:gd name="textAreaLeft" fmla="*/ 0 w 144360"/>
              <a:gd name="textAreaRight" fmla="*/ 52200 w 144360"/>
              <a:gd name="textAreaTop" fmla="*/ 46080 h 1776240"/>
              <a:gd name="textAreaBottom" fmla="*/ 1730160 h 17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362320" y="3428280"/>
            <a:ext cx="449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 rot="16200000">
            <a:off x="4385160" y="3081600"/>
            <a:ext cx="144360" cy="1904760"/>
          </a:xfrm>
          <a:custGeom>
            <a:avLst/>
            <a:gdLst>
              <a:gd name="textAreaLeft" fmla="*/ 0 w 144360"/>
              <a:gd name="textAreaRight" fmla="*/ 52200 w 14436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048120" y="4724280"/>
            <a:ext cx="30456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486400" y="472428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14400" y="5029200"/>
            <a:ext cx="3352680" cy="1007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 rot="16200000">
            <a:off x="6225840" y="3145680"/>
            <a:ext cx="144360" cy="1776600"/>
          </a:xfrm>
          <a:custGeom>
            <a:avLst/>
            <a:gdLst>
              <a:gd name="textAreaLeft" fmla="*/ 0 w 144360"/>
              <a:gd name="textAreaRight" fmla="*/ 52200 w 144360"/>
              <a:gd name="textAreaTop" fmla="*/ 46080 h 1776600"/>
              <a:gd name="textAreaBottom" fmla="*/ 1730520 h 177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911840" y="5029200"/>
            <a:ext cx="3081240" cy="1007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 rot="5400000">
            <a:off x="4381200" y="2019240"/>
            <a:ext cx="152280" cy="228600"/>
          </a:xfrm>
          <a:custGeom>
            <a:avLst/>
            <a:gdLst>
              <a:gd name="textAreaLeft" fmla="*/ 0 w 152280"/>
              <a:gd name="textAreaRight" fmla="*/ 55080 w 1522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rot="5400000">
            <a:off x="7543440" y="1371240"/>
            <a:ext cx="152280" cy="1523880"/>
          </a:xfrm>
          <a:custGeom>
            <a:avLst/>
            <a:gdLst>
              <a:gd name="textAreaLeft" fmla="*/ 0 w 152280"/>
              <a:gd name="textAreaRight" fmla="*/ 55080 w 1522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rot="5400000">
            <a:off x="5638680" y="1066680"/>
            <a:ext cx="152280" cy="2133360"/>
          </a:xfrm>
          <a:custGeom>
            <a:avLst/>
            <a:gdLst>
              <a:gd name="textAreaLeft" fmla="*/ 0 w 152280"/>
              <a:gd name="textAreaRight" fmla="*/ 55080 w 15228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269240" y="2056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57800" y="2056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478280" y="2056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09480" y="106668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25320" y="2361600"/>
            <a:ext cx="291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990720" y="59580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Times New Roman"/>
              </a:rPr>
              <a:t>All these decompositions lead to a contradiction!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609480" y="6338160"/>
            <a:ext cx="7772400" cy="520560"/>
            <a:chOff x="609480" y="6338160"/>
            <a:chExt cx="7772400" cy="520560"/>
          </a:xfrm>
        </p:grpSpPr>
        <p:sp>
          <p:nvSpPr>
            <p:cNvPr id="585" name=""/>
            <p:cNvSpPr/>
            <p:nvPr/>
          </p:nvSpPr>
          <p:spPr>
            <a:xfrm>
              <a:off x="609480" y="64152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09480" y="6338160"/>
              <a:ext cx="555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4)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refore,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is not a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 flipV="1">
            <a:off x="4343400" y="160020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648320" y="1600200"/>
            <a:ext cx="213336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858000" y="160020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267080" y="152316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 rot="16200000">
            <a:off x="4952880" y="8373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876920" y="10656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 rot="16200000">
            <a:off x="6324480" y="8373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 rot="16200000">
            <a:off x="7657920" y="87552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9480" y="1523880"/>
            <a:ext cx="3048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rot="5400000">
            <a:off x="3542760" y="2857320"/>
            <a:ext cx="152640" cy="228600"/>
          </a:xfrm>
          <a:custGeom>
            <a:avLst/>
            <a:gdLst>
              <a:gd name="textAreaLeft" fmla="*/ 0 w 152640"/>
              <a:gd name="textAreaRight" fmla="*/ 55080 w 15264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rot="5400000">
            <a:off x="6705000" y="2209680"/>
            <a:ext cx="152640" cy="1523880"/>
          </a:xfrm>
          <a:custGeom>
            <a:avLst/>
            <a:gdLst>
              <a:gd name="textAreaLeft" fmla="*/ 0 w 152640"/>
              <a:gd name="textAreaRight" fmla="*/ 5508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rot="5400000">
            <a:off x="4799880" y="2133360"/>
            <a:ext cx="152640" cy="1676520"/>
          </a:xfrm>
          <a:custGeom>
            <a:avLst/>
            <a:gdLst>
              <a:gd name="textAreaLeft" fmla="*/ 0 w 152640"/>
              <a:gd name="textAreaRight" fmla="*/ 55080 w 15264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421440" y="2894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10000" y="2894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630480" y="2894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3505320" y="243828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038480" y="2438280"/>
            <a:ext cx="167652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019920" y="243828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429000" y="23612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33520" y="3200400"/>
            <a:ext cx="807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but fewer tha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09480" y="3657600"/>
            <a:ext cx="8001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rot="5400000">
            <a:off x="8115120" y="4533840"/>
            <a:ext cx="152280" cy="228600"/>
          </a:xfrm>
          <a:custGeom>
            <a:avLst/>
            <a:gdLst>
              <a:gd name="textAreaLeft" fmla="*/ 0 w 152280"/>
              <a:gd name="textAreaRight" fmla="*/ 55080 w 1522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rot="5400000">
            <a:off x="4914720" y="392400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rot="5400000">
            <a:off x="6819840" y="3543120"/>
            <a:ext cx="152280" cy="2209680"/>
          </a:xfrm>
          <a:custGeom>
            <a:avLst/>
            <a:gdLst>
              <a:gd name="textAreaLeft" fmla="*/ 0 w 152280"/>
              <a:gd name="textAreaRight" fmla="*/ 5508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802400" y="4570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400800" y="4570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078400" y="4570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33520" y="358128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49360" y="4876200"/>
            <a:ext cx="291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8077320" y="411480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791320" y="4114800"/>
            <a:ext cx="220968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267080" y="4114800"/>
            <a:ext cx="14479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191120" y="403776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 rot="16200000">
            <a:off x="4876560" y="33519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800600" y="3580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 rot="16200000">
            <a:off x="6248160" y="33519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 rot="16200000">
            <a:off x="7581600" y="3390120"/>
            <a:ext cx="152280" cy="129564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5400000">
            <a:off x="7200360" y="5371920"/>
            <a:ext cx="152640" cy="228600"/>
          </a:xfrm>
          <a:custGeom>
            <a:avLst/>
            <a:gdLst>
              <a:gd name="textAreaLeft" fmla="*/ 0 w 152640"/>
              <a:gd name="textAreaRight" fmla="*/ 55080 w 15264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5400000">
            <a:off x="4114080" y="4724280"/>
            <a:ext cx="152640" cy="1523880"/>
          </a:xfrm>
          <a:custGeom>
            <a:avLst/>
            <a:gdLst>
              <a:gd name="textAreaLeft" fmla="*/ 0 w 152640"/>
              <a:gd name="textAreaRight" fmla="*/ 5508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rot="5400000">
            <a:off x="6019200" y="4647960"/>
            <a:ext cx="152640" cy="1676520"/>
          </a:xfrm>
          <a:custGeom>
            <a:avLst/>
            <a:gdLst>
              <a:gd name="textAreaLeft" fmla="*/ 0 w 152640"/>
              <a:gd name="textAreaRight" fmla="*/ 55080 w 15264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105320" y="540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638680" y="540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32720" y="540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7162920" y="495288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257800" y="4952880"/>
            <a:ext cx="167652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429000" y="495288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352680" y="48758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cs-CZ" sz="20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33520" y="5638680"/>
            <a:ext cx="807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but fewer tha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9480" y="4038480"/>
            <a:ext cx="3048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ure properties of CF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609480" y="3123360"/>
            <a:ext cx="8305920" cy="2363040"/>
            <a:chOff x="609480" y="3123360"/>
            <a:chExt cx="8305920" cy="2363040"/>
          </a:xfrm>
        </p:grpSpPr>
        <p:sp>
          <p:nvSpPr>
            <p:cNvPr id="639" name=""/>
            <p:cNvSpPr/>
            <p:nvPr/>
          </p:nvSpPr>
          <p:spPr>
            <a:xfrm>
              <a:off x="2438280" y="4419720"/>
              <a:ext cx="2743200" cy="10666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29320" y="4267080"/>
              <a:ext cx="2981160" cy="10076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The family of CF languag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09480" y="312336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09480" y="3505320"/>
              <a:ext cx="8305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 family of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F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languages is closed unde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unio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915480" y="3885480"/>
              <a:ext cx="149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t mean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5105520" y="4571640"/>
              <a:ext cx="523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85800" y="11430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s is closed under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eration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language resulting from the application of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 as wel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1523880" y="4952880"/>
            <a:ext cx="1660320" cy="1334520"/>
            <a:chOff x="1523880" y="4952880"/>
            <a:chExt cx="1660320" cy="1334520"/>
          </a:xfrm>
        </p:grpSpPr>
        <p:sp>
          <p:nvSpPr>
            <p:cNvPr id="649" name=""/>
            <p:cNvSpPr/>
            <p:nvPr/>
          </p:nvSpPr>
          <p:spPr>
            <a:xfrm>
              <a:off x="152388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1980720" y="4952880"/>
              <a:ext cx="12034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3276720" y="4724280"/>
            <a:ext cx="914400" cy="1563120"/>
            <a:chOff x="3276720" y="4724280"/>
            <a:chExt cx="914400" cy="1563120"/>
          </a:xfrm>
        </p:grpSpPr>
        <p:sp>
          <p:nvSpPr>
            <p:cNvPr id="652" name=""/>
            <p:cNvSpPr/>
            <p:nvPr/>
          </p:nvSpPr>
          <p:spPr>
            <a:xfrm>
              <a:off x="327672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733920" y="47242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2590920" y="5638680"/>
            <a:ext cx="2286000" cy="581400"/>
            <a:chOff x="2590920" y="5638680"/>
            <a:chExt cx="2286000" cy="581400"/>
          </a:xfrm>
        </p:grpSpPr>
        <p:sp>
          <p:nvSpPr>
            <p:cNvPr id="655" name=""/>
            <p:cNvSpPr/>
            <p:nvPr/>
          </p:nvSpPr>
          <p:spPr>
            <a:xfrm>
              <a:off x="2590920" y="5638680"/>
              <a:ext cx="53316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43400" y="5638680"/>
              <a:ext cx="5335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4267080" y="4952880"/>
            <a:ext cx="1676520" cy="1334520"/>
            <a:chOff x="4267080" y="4952880"/>
            <a:chExt cx="1676520" cy="1334520"/>
          </a:xfrm>
        </p:grpSpPr>
        <p:sp>
          <p:nvSpPr>
            <p:cNvPr id="658" name=""/>
            <p:cNvSpPr/>
            <p:nvPr/>
          </p:nvSpPr>
          <p:spPr>
            <a:xfrm>
              <a:off x="502920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267080" y="4952880"/>
              <a:ext cx="12034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76212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09480" y="1066680"/>
            <a:ext cx="807732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mmar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09480" y="312408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et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lgorithm: CFG for Un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omsky Normal Form (C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19320"/>
            <a:ext cx="7788240" cy="25311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omsky normal 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ule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e of these for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38098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42670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in Chomsky normal for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5638680"/>
            <a:ext cx="4496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5715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76212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9480" y="1066680"/>
            <a:ext cx="807732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312408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et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Algorithm: CFG for Concaten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09480" y="1066680"/>
            <a:ext cx="853452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09480" y="213372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lgorithm: CFG for It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5800" y="11430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CFLs 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ncaten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ter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09480" y="2666880"/>
            <a:ext cx="8153640" cy="43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n, there exist two CFG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truct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 using the previous three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 CFG denotes CFL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sectio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Not Clo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9480" y="23612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1219320"/>
            <a:ext cx="777240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tersec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09480" y="28195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tersection of some CFLs is not a CF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09480" y="3505320"/>
            <a:ext cx="58676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3962520"/>
            <a:ext cx="58676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4419720"/>
            <a:ext cx="777240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is not a CF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proof based on the pumping lemm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162920" y="49528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men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Not Clo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09480" y="2361240"/>
            <a:ext cx="432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 by contradi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1219320"/>
            <a:ext cx="777240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mplem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09480" y="2760840"/>
            <a:ext cx="8686800" cy="44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hat family of CFLs is closed u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ar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the family of CFLs is closed under un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assump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Morg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law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lies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a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F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radic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663560" y="4826160"/>
            <a:ext cx="38124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434960" y="4406760"/>
            <a:ext cx="38124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01800" y="4826160"/>
            <a:ext cx="3808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901800" y="4406760"/>
            <a:ext cx="3808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88840" y="5295960"/>
            <a:ext cx="38124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650960" y="5295960"/>
            <a:ext cx="3808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88840" y="5232240"/>
            <a:ext cx="114300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685800" y="38098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85800" y="25909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85800" y="1295280"/>
            <a:ext cx="82296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1. Membership probl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2. Empti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3. Finite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finite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Memb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480" y="1066680"/>
            <a:ext cx="81536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Chomsk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normal form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09480" y="2819520"/>
            <a:ext cx="8153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GB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where 1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 I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ee: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 general parsing method based on C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8580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85800" y="5728320"/>
            <a:ext cx="7772400" cy="550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membership problem for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5800" y="510444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685800" y="1981080"/>
            <a:ext cx="7772400" cy="1295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5800" y="190512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FG. A symbol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ccessibl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inaccessible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09480" y="320040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accessible 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an be removed from CF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ssible 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ymbol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 …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…, where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is the start nontermin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09480" y="4648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09480" y="4114800"/>
            <a:ext cx="853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09480" y="510552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09480" y="54864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= S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09480" y="5867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09480" y="624852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685800" y="160020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85800" y="152388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FG. A symbol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nterminatin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09480" y="289548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 nonterminating symbo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an be remove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erminating 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33520" y="1066680"/>
            <a:ext cx="883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ist: 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ymbo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erminating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f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rives a terminal str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9480" y="4572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09480" y="4038480"/>
            <a:ext cx="853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09480" y="495288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09480" y="5334120"/>
            <a:ext cx="8382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n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09480" y="5715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9480" y="6095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mpt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nonterminat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mptiness problem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reibach Normal Form (G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219320"/>
            <a:ext cx="7788240" cy="204372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reibac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ormal 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ule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is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33526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38098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in Greibach normal for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5181480"/>
            <a:ext cx="4496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init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finite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09480" y="2514600"/>
            <a:ext cx="83822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card(</a:t>
            </a:r>
            <a:r>
              <a:rPr b="0" i="1" lang="en-US" sz="29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6212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6212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finiteness problem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441864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Un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2438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85800" y="1295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85800" y="1295280"/>
            <a:ext cx="82296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0000"/>
                </a:solidFill>
                <a:latin typeface="Times New Roman"/>
              </a:rPr>
              <a:t>1. Equivalence problem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CFG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85800" y="2438280"/>
            <a:ext cx="79246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0000"/>
                </a:solidFill>
                <a:latin typeface="Times New Roman"/>
              </a:rPr>
              <a:t>2. Ambiguity problem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mbiguous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5800" y="3505320"/>
            <a:ext cx="7772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t is mathematically proved that there exists no algorithm, which solve these problems in finite time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Genera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ive Power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of Nor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mal Form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143000"/>
            <a:ext cx="792468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equivalent gramma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’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omsky normal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5909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348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2767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200400"/>
            <a:ext cx="792468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equivalent gramma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’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eibach normal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6483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376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518148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ain proper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NF and GN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56386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CNF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|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GNF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|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l Parsing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286000"/>
            <a:ext cx="6476760" cy="190512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2438280"/>
            <a:ext cx="5029200" cy="15368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2743200"/>
            <a:ext cx="2971800" cy="104472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4267080"/>
            <a:ext cx="236232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94920" y="358128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09680" y="32767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66880" y="3048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32767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3124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3124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29718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29200" y="34290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10280" y="32004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00800" y="4267080"/>
            <a:ext cx="190512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CF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4267080"/>
            <a:ext cx="228600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L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562360" y="3733920"/>
            <a:ext cx="152280" cy="533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67480" y="3581280"/>
            <a:ext cx="15264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9400" y="29718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3505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5715000"/>
            <a:ext cx="7620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anguages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family of a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terministic 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905120"/>
            <a:ext cx="266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143000"/>
            <a:ext cx="8001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eral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rsing method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GP) are applicable to all context-free languages (CFL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5029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L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5029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R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9920" y="5029200"/>
            <a:ext cx="2666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enera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0" y="6095880"/>
            <a:ext cx="5943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GP Based on C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homsky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ormal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o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95360" y="5943600"/>
            <a:ext cx="4824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71520" y="59436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24000" y="59436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781760" y="5943600"/>
            <a:ext cx="51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33960" y="597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023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025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313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982520" y="4952880"/>
            <a:ext cx="6532200" cy="459720"/>
            <a:chOff x="1982520" y="4952880"/>
            <a:chExt cx="6532200" cy="459720"/>
          </a:xfrm>
        </p:grpSpPr>
        <p:sp>
          <p:nvSpPr>
            <p:cNvPr id="111" name=""/>
            <p:cNvSpPr/>
            <p:nvPr/>
          </p:nvSpPr>
          <p:spPr>
            <a:xfrm>
              <a:off x="198252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5904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2, 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1152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3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69640" y="4952880"/>
              <a:ext cx="104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514600" y="5334120"/>
            <a:ext cx="5486400" cy="761760"/>
            <a:chOff x="2514600" y="5334120"/>
            <a:chExt cx="5486400" cy="761760"/>
          </a:xfrm>
        </p:grpSpPr>
        <p:sp>
          <p:nvSpPr>
            <p:cNvPr id="116" name=""/>
            <p:cNvSpPr/>
            <p:nvPr/>
          </p:nvSpPr>
          <p:spPr>
            <a:xfrm flipV="1">
              <a:off x="251460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19112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94360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8001000" y="53341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687120" y="3352680"/>
            <a:ext cx="11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96400" y="1981080"/>
            <a:ext cx="11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8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008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50120" y="12193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1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1219320"/>
            <a:ext cx="3047760" cy="823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[1,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578480" y="174924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5562720" y="1752120"/>
            <a:ext cx="3585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8906600">
            <a:off x="4148640" y="1964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2758800">
            <a:off x="5871240" y="1955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2133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6360" y="6068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438280" y="4217760"/>
            <a:ext cx="1981440" cy="811080"/>
            <a:chOff x="2438280" y="4217760"/>
            <a:chExt cx="1981440" cy="811080"/>
          </a:xfrm>
        </p:grpSpPr>
        <p:sp>
          <p:nvSpPr>
            <p:cNvPr id="131" name=""/>
            <p:cNvSpPr/>
            <p:nvPr/>
          </p:nvSpPr>
          <p:spPr>
            <a:xfrm flipV="1">
              <a:off x="2438280" y="4217760"/>
              <a:ext cx="582840" cy="7347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3351240" y="4217760"/>
              <a:ext cx="1068480" cy="81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114800" y="4294080"/>
            <a:ext cx="2057040" cy="735120"/>
            <a:chOff x="4114800" y="4294080"/>
            <a:chExt cx="2057040" cy="735120"/>
          </a:xfrm>
        </p:grpSpPr>
        <p:sp>
          <p:nvSpPr>
            <p:cNvPr id="134" name=""/>
            <p:cNvSpPr/>
            <p:nvPr/>
          </p:nvSpPr>
          <p:spPr>
            <a:xfrm flipV="1">
              <a:off x="4114800" y="4294080"/>
              <a:ext cx="988920" cy="7351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5331960" y="4294080"/>
              <a:ext cx="839880" cy="7351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625480" y="3859200"/>
            <a:ext cx="5305320" cy="486720"/>
            <a:chOff x="2625480" y="3859200"/>
            <a:chExt cx="5305320" cy="486720"/>
          </a:xfrm>
        </p:grpSpPr>
        <p:sp>
          <p:nvSpPr>
            <p:cNvPr id="137" name=""/>
            <p:cNvSpPr/>
            <p:nvPr/>
          </p:nvSpPr>
          <p:spPr>
            <a:xfrm>
              <a:off x="6172200" y="3886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25480" y="38592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49760" y="38862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2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30840" y="3886200"/>
              <a:ext cx="129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506760" y="2819520"/>
            <a:ext cx="3738240" cy="459720"/>
            <a:chOff x="3506760" y="2819520"/>
            <a:chExt cx="3738240" cy="459720"/>
          </a:xfrm>
        </p:grpSpPr>
        <p:sp>
          <p:nvSpPr>
            <p:cNvPr id="142" name=""/>
            <p:cNvSpPr/>
            <p:nvPr/>
          </p:nvSpPr>
          <p:spPr>
            <a:xfrm>
              <a:off x="3506760" y="281952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86400" y="2819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45400" y="2819520"/>
              <a:ext cx="129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-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371600" y="4952880"/>
            <a:ext cx="762120" cy="685800"/>
            <a:chOff x="1371600" y="4952880"/>
            <a:chExt cx="762120" cy="685800"/>
          </a:xfrm>
        </p:grpSpPr>
        <p:sp>
          <p:nvSpPr>
            <p:cNvPr id="146" name=""/>
            <p:cNvSpPr/>
            <p:nvPr/>
          </p:nvSpPr>
          <p:spPr>
            <a:xfrm>
              <a:off x="1371600" y="4952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71600" y="54100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048120" y="4952880"/>
            <a:ext cx="761760" cy="685800"/>
            <a:chOff x="3048120" y="4952880"/>
            <a:chExt cx="761760" cy="685800"/>
          </a:xfrm>
        </p:grpSpPr>
        <p:sp>
          <p:nvSpPr>
            <p:cNvPr id="149" name=""/>
            <p:cNvSpPr/>
            <p:nvPr/>
          </p:nvSpPr>
          <p:spPr>
            <a:xfrm>
              <a:off x="3048120" y="49528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48120" y="5410080"/>
              <a:ext cx="30456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800600" y="4952880"/>
            <a:ext cx="762120" cy="685800"/>
            <a:chOff x="4800600" y="4952880"/>
            <a:chExt cx="762120" cy="685800"/>
          </a:xfrm>
        </p:grpSpPr>
        <p:sp>
          <p:nvSpPr>
            <p:cNvPr id="152" name=""/>
            <p:cNvSpPr/>
            <p:nvPr/>
          </p:nvSpPr>
          <p:spPr>
            <a:xfrm>
              <a:off x="4800600" y="4952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00600" y="54100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038480" y="3733560"/>
            <a:ext cx="762120" cy="612360"/>
            <a:chOff x="4038480" y="3733560"/>
            <a:chExt cx="762120" cy="612360"/>
          </a:xfrm>
        </p:grpSpPr>
        <p:sp>
          <p:nvSpPr>
            <p:cNvPr id="155" name=""/>
            <p:cNvSpPr/>
            <p:nvPr/>
          </p:nvSpPr>
          <p:spPr>
            <a:xfrm>
              <a:off x="4038480" y="3886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114800" y="373320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590920" y="2666520"/>
            <a:ext cx="1143000" cy="612720"/>
            <a:chOff x="2590920" y="2666520"/>
            <a:chExt cx="1143000" cy="612720"/>
          </a:xfrm>
        </p:grpSpPr>
        <p:sp>
          <p:nvSpPr>
            <p:cNvPr id="158" name=""/>
            <p:cNvSpPr/>
            <p:nvPr/>
          </p:nvSpPr>
          <p:spPr>
            <a:xfrm>
              <a:off x="2590920" y="28195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, G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2971800" y="266616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858680" y="3276720"/>
            <a:ext cx="12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057400" y="3657240"/>
            <a:ext cx="762120" cy="612360"/>
            <a:chOff x="2057400" y="3657240"/>
            <a:chExt cx="762120" cy="612360"/>
          </a:xfrm>
        </p:grpSpPr>
        <p:sp>
          <p:nvSpPr>
            <p:cNvPr id="162" name=""/>
            <p:cNvSpPr/>
            <p:nvPr/>
          </p:nvSpPr>
          <p:spPr>
            <a:xfrm>
              <a:off x="2057400" y="3809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133720" y="36568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697120" y="2286000"/>
            <a:ext cx="12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048120" y="3124080"/>
            <a:ext cx="3108240" cy="1916280"/>
            <a:chOff x="3048120" y="3124080"/>
            <a:chExt cx="3108240" cy="1916280"/>
          </a:xfrm>
        </p:grpSpPr>
        <p:sp>
          <p:nvSpPr>
            <p:cNvPr id="166" name=""/>
            <p:cNvSpPr/>
            <p:nvPr/>
          </p:nvSpPr>
          <p:spPr>
            <a:xfrm>
              <a:off x="4330800" y="3124080"/>
              <a:ext cx="1825560" cy="1916280"/>
            </a:xfrm>
            <a:custGeom>
              <a:avLst/>
              <a:gdLst/>
              <a:ahLst/>
              <a:rect l="l" t="t" r="r" b="b"/>
              <a:pathLst>
                <a:path w="1150" h="1207">
                  <a:moveTo>
                    <a:pt x="1150" y="1207"/>
                  </a:moveTo>
                  <a:cubicBezTo>
                    <a:pt x="1102" y="1077"/>
                    <a:pt x="1054" y="625"/>
                    <a:pt x="862" y="424"/>
                  </a:cubicBezTo>
                  <a:cubicBezTo>
                    <a:pt x="670" y="223"/>
                    <a:pt x="180" y="88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48120" y="3213000"/>
              <a:ext cx="838080" cy="736560"/>
            </a:xfrm>
            <a:custGeom>
              <a:avLst/>
              <a:gdLst/>
              <a:ahLst/>
              <a:rect l="l" t="t" r="r" b="b"/>
              <a:pathLst>
                <a:path w="528" h="464">
                  <a:moveTo>
                    <a:pt x="0" y="464"/>
                  </a:moveTo>
                  <a:cubicBezTo>
                    <a:pt x="25" y="428"/>
                    <a:pt x="62" y="321"/>
                    <a:pt x="150" y="244"/>
                  </a:cubicBezTo>
                  <a:cubicBezTo>
                    <a:pt x="238" y="167"/>
                    <a:pt x="449" y="51"/>
                    <a:pt x="528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374920" y="3124080"/>
            <a:ext cx="2959200" cy="1916280"/>
            <a:chOff x="2374920" y="3124080"/>
            <a:chExt cx="2959200" cy="1916280"/>
          </a:xfrm>
        </p:grpSpPr>
        <p:sp>
          <p:nvSpPr>
            <p:cNvPr id="169" name=""/>
            <p:cNvSpPr/>
            <p:nvPr/>
          </p:nvSpPr>
          <p:spPr>
            <a:xfrm>
              <a:off x="4241880" y="3213000"/>
              <a:ext cx="1092240" cy="749520"/>
            </a:xfrm>
            <a:custGeom>
              <a:avLst/>
              <a:gdLst/>
              <a:ahLst/>
              <a:rect l="l" t="t" r="r" b="b"/>
              <a:pathLst>
                <a:path w="688" h="472">
                  <a:moveTo>
                    <a:pt x="688" y="472"/>
                  </a:moveTo>
                  <a:cubicBezTo>
                    <a:pt x="651" y="428"/>
                    <a:pt x="579" y="287"/>
                    <a:pt x="464" y="208"/>
                  </a:cubicBezTo>
                  <a:cubicBezTo>
                    <a:pt x="349" y="129"/>
                    <a:pt x="97" y="43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74920" y="3124080"/>
              <a:ext cx="1511280" cy="1916280"/>
            </a:xfrm>
            <a:custGeom>
              <a:avLst/>
              <a:gdLst/>
              <a:ahLst/>
              <a:rect l="l" t="t" r="r" b="b"/>
              <a:pathLst>
                <a:path w="997" h="1111">
                  <a:moveTo>
                    <a:pt x="0" y="1111"/>
                  </a:moveTo>
                  <a:cubicBezTo>
                    <a:pt x="48" y="986"/>
                    <a:pt x="122" y="545"/>
                    <a:pt x="288" y="360"/>
                  </a:cubicBezTo>
                  <a:cubicBezTo>
                    <a:pt x="454" y="175"/>
                    <a:pt x="849" y="75"/>
                    <a:pt x="997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GP Based on C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066680"/>
            <a:ext cx="82296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CNF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5181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2362320"/>
            <a:ext cx="769608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,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: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] c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1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dd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1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1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9584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06668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81952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4868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24480" y="5562720"/>
            <a:ext cx="8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49568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24852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7768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800100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3016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800600" y="403848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2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914400" y="4876920"/>
            <a:ext cx="1981080" cy="380880"/>
            <a:chOff x="914400" y="4876920"/>
            <a:chExt cx="1981080" cy="380880"/>
          </a:xfrm>
        </p:grpSpPr>
        <p:sp>
          <p:nvSpPr>
            <p:cNvPr id="237" name=""/>
            <p:cNvSpPr/>
            <p:nvPr/>
          </p:nvSpPr>
          <p:spPr>
            <a:xfrm flipV="1">
              <a:off x="914400" y="4876920"/>
              <a:ext cx="83808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1981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590920" y="4876920"/>
            <a:ext cx="1981080" cy="380880"/>
            <a:chOff x="2590920" y="4876920"/>
            <a:chExt cx="1981080" cy="380880"/>
          </a:xfrm>
        </p:grpSpPr>
        <p:sp>
          <p:nvSpPr>
            <p:cNvPr id="240" name=""/>
            <p:cNvSpPr/>
            <p:nvPr/>
          </p:nvSpPr>
          <p:spPr>
            <a:xfrm flipV="1">
              <a:off x="2590920" y="4876920"/>
              <a:ext cx="91440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3733920" y="4876920"/>
              <a:ext cx="83808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267080" y="4876920"/>
            <a:ext cx="2057400" cy="380880"/>
            <a:chOff x="4267080" y="4876920"/>
            <a:chExt cx="2057400" cy="380880"/>
          </a:xfrm>
        </p:grpSpPr>
        <p:sp>
          <p:nvSpPr>
            <p:cNvPr id="243" name=""/>
            <p:cNvSpPr/>
            <p:nvPr/>
          </p:nvSpPr>
          <p:spPr>
            <a:xfrm flipV="1">
              <a:off x="4267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5410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019920" y="4876920"/>
            <a:ext cx="2057400" cy="380880"/>
            <a:chOff x="6019920" y="4876920"/>
            <a:chExt cx="2057400" cy="380880"/>
          </a:xfrm>
        </p:grpSpPr>
        <p:sp>
          <p:nvSpPr>
            <p:cNvPr id="246" name=""/>
            <p:cNvSpPr/>
            <p:nvPr/>
          </p:nvSpPr>
          <p:spPr>
            <a:xfrm flipV="1">
              <a:off x="6019920" y="4876920"/>
              <a:ext cx="83808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7086600" y="4876920"/>
              <a:ext cx="99072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144792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5288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2940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67652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58128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85800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4:47Z</dcterms:modified>
  <cp:revision>191</cp:revision>
  <dc:subject/>
  <dc:title>Normal Forms and Properties of CFLs</dc:title>
</cp:coreProperties>
</file>