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E4A-FF55-4B57-B4FF-BEE6308C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788-0F10-4FC4-94D4-A6BFB396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BD9-C81F-4964-9F54-1A5E3F22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992-22BC-4889-B0C3-216FC197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50C-2B60-46AF-BD7E-EF356861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22C-6D48-40AE-BAA7-9D47598C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056-CA75-4917-972A-B7880A1A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701-9582-4112-9A50-F874D12D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A87-563F-4927-8D97-E62C2671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4ED-8518-4429-BF23-5B6A05CD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B68-50CB-44E7-98E9-E51112F3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27E-694B-4B57-86F5-A18312EC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F7D7-DD29-491E-8D3B-F11728C14FA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0:55:19Z</dcterms:modified>
  <cp:revision>144</cp:revision>
  <dc:subject/>
  <dc:title>Properties of Regular Languages</dc:title>
</cp:coreProperties>
</file>