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D86-0BBD-4A9C-8FB1-4290D57A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142-D918-4572-A3F5-62206935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F6C-3CF4-44AC-B314-6F8108A1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B17-A519-4CCA-B5CA-FAA5CD74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C68-60AD-4B96-A22E-A5274A1C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A70-A316-4A9B-9FD4-505D14D6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EF4-21EB-40D1-AD0C-222DA8FD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46B-7C60-42CD-BA21-0C5A7A50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84E-579C-4D21-AF29-99377CE7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E4A-89B9-4C11-AF22-BEBFB6CF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445-0E31-48F2-8410-0D34218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CB5-F99C-4284-8D56-9ED0B52D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7C90-87E6-42C2-8D29-B6132A524EF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343400"/>
            <a:ext cx="632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Alexander Meduna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8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219320"/>
            <a:ext cx="80773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R is defined analogically as the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2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5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9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6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3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1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6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1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6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N to equivalent 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52578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55627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6019920"/>
            <a:ext cx="251460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6019920"/>
            <a:ext cx="259056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943240" y="54100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143000"/>
            <a:ext cx="777240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 the language families defined by MG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and MGR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53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3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2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4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ftmo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10-23T18:01:41Z</dcterms:modified>
  <cp:revision>192</cp:revision>
  <dc:subject/>
  <dc:title>Formal Languages and Compilers</dc:title>
</cp:coreProperties>
</file>