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00E-F76D-4EBA-BC94-F6DB8259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6C7-480C-45C3-B488-F89EBE16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E2F-7D74-4288-92D8-6F015303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68A-F13F-41E2-B789-99A2166A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51D-77EB-4BC4-B64B-B6238CFE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989-81A9-433D-8CAB-D7721377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D93-CEEF-4511-89A2-1C9FDD4F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650-7657-487A-8C1F-F9E248C2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F14-B156-4067-B2D6-5ADAE4BD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760-E04D-4A99-A95A-E4AAC614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DC4-11F4-41AD-8882-FD153867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DDA-4C36-40B8-9CDD-9458C64F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BA95-E674-4E1B-877E-621147A8FEC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7:02Z</dcterms:modified>
  <cp:revision>130</cp:revision>
  <dc:subject/>
  <dc:title>Variants of Finite Automata</dc:title>
</cp:coreProperties>
</file>