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6EE-069B-4329-80EC-27C5052A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D63-4437-4CD8-A1B5-B58DBAD7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546-374C-4DA2-B3E0-147E6576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E7B-1C1F-48C5-973B-864D7F04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974-6923-48F8-9EE0-678137AD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864-CBAD-48EA-AC9C-F4EE44CD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488-9D73-4B69-986C-E3F19DD5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10D-A0C4-42DB-ABD3-7B7B6F87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8A8-3F02-487F-B0EA-B8C744E2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421-BBB6-4329-BA00-FDD9F24A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E04-2D66-47CF-9F85-5771F5D4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59A-6C05-45CB-A65D-21A5CDE8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9897-3E58-46FA-AC2E-9A6762B985A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2480" y="525672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Roman Lukáš</cp:lastModifiedBy>
  <dcterms:modified xsi:type="dcterms:W3CDTF">2003-09-17T18:05:46Z</dcterms:modified>
  <cp:revision>97</cp:revision>
  <dc:subject/>
  <dc:title>Bez nadpisu</dc:title>
</cp:coreProperties>
</file>