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BEA-78F0-4CF9-8BA5-C05C7B05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DE0-249B-4FD6-BF98-8314DA89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020-D3DD-472D-A350-DB8258E4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92B-6C82-4A66-BC88-1C6E3964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D35F-02D5-400E-9D1A-231D2DD9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E137-3174-4085-A016-A7E7D664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91C7-1FF7-471D-AFC7-265408D8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67E9-5781-4381-B473-E38B039B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C13E-4423-4BFF-8128-BC90AD73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BC7E-F834-4117-95E8-6C941223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F2B5-6297-420D-B39A-334DF198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9BC-CA20-47A8-BD20-33B728ED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770D-E214-461A-9CB0-11DD0950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665E-23A5-4A12-AA08-BFE2FAA3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EF06-5DB8-4216-99FE-12A9295E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3C48-DDCD-4493-9A4B-7E9F0C28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85D4-468B-4250-9819-DA1CC536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4806-19A6-4C64-A847-D2D9679C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73A-E8AF-4A70-B895-401A5861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006-8877-442B-BCCD-FAAEEB1F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0E9-6606-49E0-A202-D9C62FBB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2CF-C122-4F94-9529-8B1D977B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A78-9D9D-4620-A2DC-3A2247E4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E64-0F7B-45C7-9135-092EAF66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A444-5C9A-4F93-9132-DD85D1595D53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6678-CBAE-4981-882E-95EBE21DBF6C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dvanced VYP Materi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lated to VYP0</a:t>
            </a: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seim</cp:lastModifiedBy>
  <dcterms:modified xsi:type="dcterms:W3CDTF">2005-10-22T14:23:06Z</dcterms:modified>
  <cp:revision>195</cp:revision>
  <dc:subject/>
  <dc:title>Parallel communicating (PC) grammar systems</dc:title>
</cp:coreProperties>
</file>