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ECB-BA24-424E-BDC2-853C672F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09F-6121-4269-B6DA-AEA0566F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2AA-7525-436D-8596-8A60DDB5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FC5-D508-4563-92F7-3B1C8409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81A-90A2-4A74-ABA2-BF7572EE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658-0F60-4A18-81D6-AB166D6F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62FB-AB06-4D5C-922C-706CCA92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7DC-8C78-4262-9DAA-B94D17E2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17E-FAFB-4E08-9FD8-F891AF24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A83-C327-4F82-99A0-E5ADB397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992-B194-4A79-8146-F2190A41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BB7-E843-4639-ACE0-53CE5D23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FDF4-10CE-41A1-8911-E878494B475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25:39Z</dcterms:modified>
  <cp:revision>125</cp:revision>
  <dc:subject/>
  <dc:title>Introduction to Compilers</dc:title>
</cp:coreProperties>
</file>