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75F-4DF6-444B-95C4-B58F97EB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86A-2D67-4E32-A661-FC585821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D59-FCE8-4DCB-809A-15C9C093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461-C62F-4C30-84E6-5E452D8D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EA7-13DB-4BBF-8EB1-07777E74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C460-A9BC-432F-8D41-C03E9E8B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7059-103D-4844-B09E-690DF828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627-E5B8-4146-9002-D9FDC403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978-1956-400A-8806-72250B81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BC7-939F-4462-95B6-F351DE27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D17-BCF3-4793-8292-486CE0CE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2B3-D37B-417E-BAEA-89E95F74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CB71-8CBB-4B9A-AB0C-8AE14CAC9E0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2T10:07:47Z</dcterms:modified>
  <cp:revision>154</cp:revision>
  <dc:subject/>
  <dc:title>Part I. Alphabets, Strings, and Languages</dc:title>
</cp:coreProperties>
</file>