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925E-978F-49A4-91C4-13E215A3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DE4B-8F5D-4B4F-BBBA-DFFB1974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7D90-ABFF-48AD-84B2-B0282F86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D1E4-E8E0-4CB6-BC88-9E0AD9DA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2FF2-9275-448C-BF67-349C55C5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94A5-3889-48E2-906E-954A828E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26A9-1A57-4F9A-884A-B8B296D3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2653-4009-4EBB-8E6B-C8248FD0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43F1-D763-40DC-9C2C-29168D0F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20A1-148F-475A-B1AA-0EDC8888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9881-6D36-4B04-8677-B77BA7DB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9B16-63BF-4CF7-8B42-72DD0119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D0BE-9DD7-4CF9-86D4-6AA9C849B954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92C-72B3-4325-879C-DE19AEC1153F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DE8F-0878-437A-9416-E372C567BEFA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2C0E-C893-4E87-A91C-33021AEE1B92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1AC9-E9F9-4C20-BE90-92BC92A82885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F1AD-4CEB-4EE3-99D1-EF275AC3AC4A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5324-975C-441D-B29A-3442FF1FF898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346C-45AD-4772-93D3-5FCC488A4B9E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9256-F70C-4D96-BC5D-B58EAB884719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0B1A-01A4-457E-B63D-F20AADB11EFF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9F9A-5232-4EE2-AD48-A011BC3A72A7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C6CC-20A3-4543-8636-E0676DEB07C0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E0C-F294-41F0-8CF8-2903C31097CD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8F32-21A5-4C1E-A39C-19E125836155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D9A5-C117-46FA-81BD-48529ED819B0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EDA6-1DA8-4194-A110-6FF9502DDF41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3E88-B763-4817-ADEB-3347965E5AE5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CF03-6B8D-4A24-919A-3C29D446D35C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A1D3-DDDE-48D5-ABAF-7BC929D5B9FB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0A5C-FD8D-48DA-8023-C011FA981A8B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7DD7-4352-4F85-8794-D30853BE7ADE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04C6-05A7-4ADC-B083-EBA367904406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E6D8-AB63-41E6-A599-CED0A262D44A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A7A9-B260-46F0-8DF3-9E87E28F1379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E153-90D0-4B45-80A7-6A2BCBDAC217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717D-08BE-4C88-AF13-E182B8DF645E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3ED4-1D44-4286-8CC9-7F9778356316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14F1-419A-4AAC-8007-8DE75E0A9DD3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1A98-59B2-4E75-A563-95481E38F2AA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CVT</cp:lastModifiedBy>
  <dcterms:modified xsi:type="dcterms:W3CDTF">2006-08-30T14:47:22Z</dcterms:modified>
  <cp:revision>27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  <property fmtid="{D5CDD505-2E9C-101B-9397-08002B2CF9AE}" pid="6" name="_ReviewingToolsShownOnce">
    <vt:lpwstr/>
  </property>
</Properties>
</file>