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92C3-0109-4084-9A3E-5F40E335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BB96-BA4A-40D1-B27E-FD19373F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ED48-5F73-4F24-BAB1-D0CC8802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41AC-5A36-488A-8D84-82EE3F0B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0CC0-A7C0-4941-9EAF-6A731FFE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5379-3414-4129-8CC3-EC4443C0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2F01-0F7C-4625-AA9F-5BF1B1C2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E76F-9155-41C6-8EA1-A2B08EEE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BCC2-82DF-45D7-8D86-E34C221F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A532-E9E9-4021-9FCC-D1165C77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C00-3C57-4B56-A63B-42061AA4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DB09-9621-4E90-9B37-25960076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1625-E7DA-4A15-AA22-F0738928AF4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CVT</cp:lastModifiedBy>
  <dcterms:modified xsi:type="dcterms:W3CDTF">2006-08-30T14:38:54Z</dcterms:modified>
  <cp:revision>167</cp:revision>
  <dc:subject/>
  <dc:title>Alphabets, Strings, and Languages</dc:title>
</cp:coreProperties>
</file>