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A3B-A918-40D1-9127-19188D30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B908-84EB-46B9-B08E-B8CF4985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15C-DD8D-411E-B99D-494F9D99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07AD-92BF-4F49-94D6-851A7BD6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C55-D1B0-4BBE-9AE8-2F4FFE00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976-0563-4315-A77D-E85ED5B6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117-A84A-4BDB-9356-B774A79C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F83-0900-4806-9A1B-73B713D1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13F-442D-4880-B43D-A00A977C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B75-DAAA-4F17-A6C6-5A5E6179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05C-85B7-4B1F-8A0F-31E477E2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E82-6A0B-4FEB-B170-83506D0A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E554-ACC6-4C91-B2C1-8DFCF0525C1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829944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767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8769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438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 m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23880"/>
            <a:ext cx="7772400" cy="1219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752480"/>
            <a:ext cx="8153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e writ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73392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73392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371600"/>
            <a:ext cx="807732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inear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context-free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recursively enumer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regu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linear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920" y="2666520"/>
            <a:ext cx="54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final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831120"/>
            <a:ext cx="77724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cta Cyberne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0, No. 4, p. 653-66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Turn PDA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7524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218960" y="56386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95280" y="1752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57913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57150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82560" y="1445760"/>
            <a:ext cx="637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ength of push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257800"/>
            <a:ext cx="53316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876920"/>
            <a:ext cx="53352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733920"/>
            <a:ext cx="533160" cy="1904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971800"/>
            <a:ext cx="53352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590920"/>
            <a:ext cx="53352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352680"/>
            <a:ext cx="533160" cy="22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495680"/>
            <a:ext cx="5335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876920"/>
            <a:ext cx="53316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5257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876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495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4114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3733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352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971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590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209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4479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ne-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52480" y="2362320"/>
            <a:ext cx="2210040" cy="25905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2438280"/>
            <a:ext cx="1828800" cy="2286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43900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485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190400"/>
            <a:ext cx="77724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undamenta Informa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2, No. 16, p. 399-4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21824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enerat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12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234440"/>
            <a:ext cx="8305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cs-CZ" sz="3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50840" y="5256720"/>
            <a:ext cx="2907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6379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210040"/>
            <a:ext cx="37339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121824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07680" y="540936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37232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ains a control string according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hes a final configuration after readin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Tomáš Masopust</cp:lastModifiedBy>
  <dcterms:modified xsi:type="dcterms:W3CDTF">2006-09-14T18:19:53Z</dcterms:modified>
  <cp:revision>115</cp:revision>
  <dc:subject/>
  <dc:title>Bez nadpisu</dc:title>
</cp:coreProperties>
</file>