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2B03-9AEE-4985-B372-6DEFCB7FE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9F69-7F92-4451-BEEC-AFFB72EE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FD84-4770-441D-B6FB-E0D4D700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C5BA-1FD6-4DAC-8B60-384F1F3CB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865A-C80D-480D-852F-2C793E2B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89A9-21D5-4E84-B59B-B1CE223C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D69F-8313-4259-BC44-72D4D51A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3F22-A426-41A8-89B0-0D752A87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2E09-3D56-4E67-AE6A-C881950C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9E55-43E1-4168-9705-7BA448D1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D013-B5A0-479B-978B-AE4E6EB0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9DB7-FD84-401E-93F7-C007E58F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EC62-5BCF-47FE-844D-1F67C1BB3EE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Regulated Gramma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5120" y="231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97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2854440"/>
            <a:ext cx="146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→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9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1080" y="2854440"/>
            <a:ext cx="49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9440" y="2854440"/>
            <a:ext cx="384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710520" y="3148200"/>
            <a:ext cx="574200" cy="1521720"/>
            <a:chOff x="3710520" y="3148200"/>
            <a:chExt cx="574200" cy="1521720"/>
          </a:xfrm>
        </p:grpSpPr>
        <p:sp>
          <p:nvSpPr>
            <p:cNvPr id="52" name=""/>
            <p:cNvSpPr/>
            <p:nvPr/>
          </p:nvSpPr>
          <p:spPr>
            <a:xfrm rot="5400000">
              <a:off x="3257280" y="3601080"/>
              <a:ext cx="14803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10520" y="3189240"/>
              <a:ext cx="573840" cy="148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564000" y="3607200"/>
            <a:ext cx="434520" cy="532800"/>
            <a:chOff x="3564000" y="3607200"/>
            <a:chExt cx="434520" cy="532800"/>
          </a:xfrm>
        </p:grpSpPr>
        <p:sp>
          <p:nvSpPr>
            <p:cNvPr id="55" name=""/>
            <p:cNvSpPr/>
            <p:nvPr/>
          </p:nvSpPr>
          <p:spPr>
            <a:xfrm rot="16200000">
              <a:off x="3521880" y="3663360"/>
              <a:ext cx="5187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3564360" y="3607200"/>
              <a:ext cx="434160" cy="51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924360" y="333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3765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427032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477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24280" y="2852640"/>
            <a:ext cx="2494440" cy="39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B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ab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bb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1200" y="5805360"/>
            <a:ext cx="41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08120" y="2854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197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Only a selected subset of p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 be applied during a 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34936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28464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2200" y="3789360"/>
            <a:ext cx="281736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, 23, 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, A,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5200" y="3860640"/>
            <a:ext cx="10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1640" y="3860640"/>
            <a:ext cx="209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86760" y="58514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rivation Step in 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190520"/>
            <a:ext cx="7775280" cy="3775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there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…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79736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6520" y="5300640"/>
            <a:ext cx="78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1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23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45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3720" y="5877000"/>
            <a:ext cx="397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ndom Context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ndom context gramma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from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s the set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ing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R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1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400" y="2205000"/>
            <a:ext cx="2552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27664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292428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2324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108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108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108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33800" y="2708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221000"/>
            <a:ext cx="71280" cy="86544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51664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1080" y="56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1780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21720" y="2205000"/>
            <a:ext cx="2708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bbBc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419640" y="2469240"/>
            <a:ext cx="862920" cy="3576240"/>
            <a:chOff x="3419640" y="2469240"/>
            <a:chExt cx="862920" cy="3576240"/>
          </a:xfrm>
        </p:grpSpPr>
        <p:sp>
          <p:nvSpPr>
            <p:cNvPr id="111" name=""/>
            <p:cNvSpPr/>
            <p:nvPr/>
          </p:nvSpPr>
          <p:spPr>
            <a:xfrm rot="5400000">
              <a:off x="2111040" y="3777480"/>
              <a:ext cx="347976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0000" y="2565360"/>
              <a:ext cx="862560" cy="348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419640" y="3321000"/>
            <a:ext cx="720360" cy="1368360"/>
            <a:chOff x="3419640" y="3321000"/>
            <a:chExt cx="720360" cy="1368360"/>
          </a:xfrm>
        </p:grpSpPr>
        <p:sp>
          <p:nvSpPr>
            <p:cNvPr id="114" name=""/>
            <p:cNvSpPr/>
            <p:nvPr/>
          </p:nvSpPr>
          <p:spPr>
            <a:xfrm rot="5400000">
              <a:off x="3114000" y="3626280"/>
              <a:ext cx="133128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0000" y="3357720"/>
              <a:ext cx="720000" cy="13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635280" y="2708280"/>
            <a:ext cx="0" cy="433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350028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79736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86880" y="2205000"/>
            <a:ext cx="535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3720" y="595008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o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langu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)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P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9400" y="2421000"/>
            <a:ext cx="3214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5440" y="2421000"/>
            <a:ext cx="9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7080" y="2421000"/>
            <a:ext cx="2327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46240" y="5877000"/>
            <a:ext cx="34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87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93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8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1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6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09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6165720"/>
            <a:ext cx="287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44920" y="6021720"/>
            <a:ext cx="2053800" cy="574200"/>
            <a:chOff x="844920" y="6021720"/>
            <a:chExt cx="2053800" cy="574200"/>
          </a:xfrm>
        </p:grpSpPr>
        <p:sp>
          <p:nvSpPr>
            <p:cNvPr id="151" name=""/>
            <p:cNvSpPr/>
            <p:nvPr/>
          </p:nvSpPr>
          <p:spPr>
            <a:xfrm rot="10800000">
              <a:off x="900720" y="6021720"/>
              <a:ext cx="1998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1557000" y="5309280"/>
              <a:ext cx="573840" cy="19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377000" y="5661000"/>
            <a:ext cx="989280" cy="577800"/>
            <a:chOff x="1377000" y="5661000"/>
            <a:chExt cx="989280" cy="577800"/>
          </a:xfrm>
        </p:grpSpPr>
        <p:sp>
          <p:nvSpPr>
            <p:cNvPr id="154" name=""/>
            <p:cNvSpPr/>
            <p:nvPr/>
          </p:nvSpPr>
          <p:spPr>
            <a:xfrm>
              <a:off x="1377000" y="5661000"/>
              <a:ext cx="9626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1595880" y="5468040"/>
              <a:ext cx="577440" cy="9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35080" y="5860800"/>
            <a:ext cx="531360" cy="538560"/>
            <a:chOff x="3835080" y="5860800"/>
            <a:chExt cx="531360" cy="538560"/>
          </a:xfrm>
        </p:grpSpPr>
        <p:grpSp>
          <p:nvGrpSpPr>
            <p:cNvPr id="157" name=""/>
            <p:cNvGrpSpPr/>
            <p:nvPr/>
          </p:nvGrpSpPr>
          <p:grpSpPr>
            <a:xfrm>
              <a:off x="3835080" y="5860800"/>
              <a:ext cx="531000" cy="531360"/>
              <a:chOff x="3835080" y="5860800"/>
              <a:chExt cx="531000" cy="531360"/>
            </a:xfrm>
          </p:grpSpPr>
          <p:sp>
            <p:nvSpPr>
              <p:cNvPr id="158" name=""/>
              <p:cNvSpPr/>
              <p:nvPr/>
            </p:nvSpPr>
            <p:spPr>
              <a:xfrm rot="8106000">
                <a:off x="3918960" y="593712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706600">
                <a:off x="3911760" y="594468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rot="18906600">
              <a:off x="3919320" y="5952240"/>
              <a:ext cx="370080" cy="37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84360" y="2349360"/>
            <a:ext cx="770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iv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1880" y="158580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1880" y="3673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83520" y="5689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9600" y="3170160"/>
            <a:ext cx="35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55880" y="403380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45960" y="432108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6240" y="5186520"/>
            <a:ext cx="15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635280" y="4581000"/>
            <a:ext cx="3241800" cy="863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32000" y="3789000"/>
            <a:ext cx="2232000" cy="576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71640" y="4868640"/>
            <a:ext cx="0" cy="360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834920" y="4076280"/>
            <a:ext cx="64908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08000" y="5734080"/>
            <a:ext cx="57636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58920" y="4221000"/>
            <a:ext cx="0" cy="144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258920" y="2133720"/>
            <a:ext cx="0" cy="1582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763280" y="1916280"/>
            <a:ext cx="5472360" cy="1225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380360" y="3644640"/>
            <a:ext cx="0" cy="431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573408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97600" y="5373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623736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97600" y="5877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23T18:07:19Z</dcterms:modified>
  <cp:revision>155</cp:revision>
  <dc:subject/>
  <dc:title>Part I. Alphabets, Strings, and Languages</dc:title>
</cp:coreProperties>
</file>