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87D-9928-4E4A-A3A8-FB510570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FBF-B3AA-4929-B1BF-E3B95696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D15-AE0E-4018-B9B9-6764D8C8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2072-64DD-4F02-BFB4-FBF67A75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4ACB-BE1B-48F4-A116-127E04B5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437F-4A0E-45FA-B899-7D9CEE32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D517-5499-4A17-A761-9410BCB5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3544-6A69-47F9-AA83-E2C6105F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257E-CAFE-470B-885D-800FB665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8A2D-6000-4F3F-B894-C9935BD9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9F31-3A7D-44CB-B0D0-10D1B168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3FD-3547-4FD0-99AF-80ADEB9D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304E-8345-4BF7-8789-093B7961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45D6-C293-4A25-9ACA-C0D58450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0B2E-38A8-4471-B65C-1DB8F22F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9D9B-EACD-40FE-BF08-7DBD844A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6722-5DFE-4B3E-B054-3C8BA4B7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F411-ED28-453F-AC7B-12C684A2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A8E4-ED65-464B-BC6A-21099B9A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408-94C1-49E3-B606-4358DCEB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AF71-DF4A-4C86-A66B-7FFD642C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685D-8DE9-406A-9D9A-9E644FE9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FA24-4443-4E1C-961B-7C1227B7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EC6-7573-4FAA-B9AA-FB7FC605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1337-D79B-420F-A7B5-271B69F301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7F4E-3C0E-4719-93CA-524D9F2466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CVT</cp:lastModifiedBy>
  <dcterms:modified xsi:type="dcterms:W3CDTF">2006-08-30T14:24:34Z</dcterms:modified>
  <cp:revision>196</cp:revision>
  <dc:subject/>
  <dc:title>Parallel communicating (PC) grammar systems</dc:title>
</cp:coreProperties>
</file>