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4C20D-C6D7-4F01-8E8B-4A3EA6B77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2DB82-9830-4CF7-8949-411DD5F8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EFC9C-DB49-4BA3-8A80-40F6C7BA8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5E68F-5159-4883-9345-5BFD96ACF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593C6-728F-4C06-A36B-43011F48F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53C2-7843-496E-8728-84B0CE57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F1D0-8340-466E-A272-83EF834C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1E08B-A327-40FC-BAA9-DCA88D0B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8A40-039C-4A16-96D6-A979A075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74B7-D6F9-4CCC-8B47-77C6C5BB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B4FC-E273-4DD1-BBD0-D00836CE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37A9C-5F9F-45AE-B66B-FAF9A84C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D8B9-F061-45C5-8720-2B92101F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0408-81E6-4657-8FF1-5A4E89D3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7F33-207B-445F-AB97-FB1226E6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2F61-F5D9-4821-BADF-69611ADEF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68D2-385B-4A5D-B235-62A97CA54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AF261-DE21-4F12-8CD7-2BF853C8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44977-C005-4021-8A4D-C548EAE7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A4713-B36A-4DA9-B84A-879D2424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60A4A-3356-4DB2-89AB-86B2E023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C3958-09F9-4516-B63B-67D0FEB3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927DF-F4D8-4AB2-91B9-B200E82B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70687-F780-4AE8-9D29-B4A85AC0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BD87-E1D2-4F09-9AA6-C827EAA3EC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6AF2-E67C-4025-89B8-15414E9C0B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ystolic Automat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03280" y="5734080"/>
            <a:ext cx="597708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 = {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2800" spc="-1" strike="noStrike" baseline="48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≥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258920" y="981000"/>
            <a:ext cx="6192720" cy="4969080"/>
          </a:xfrm>
          <a:prstGeom prst="ellipse">
            <a:avLst/>
          </a:prstGeom>
          <a:solidFill>
            <a:srgbClr val="800000">
              <a:alpha val="5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3640" y="2924280"/>
            <a:ext cx="3456000" cy="2089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56000" y="1700280"/>
            <a:ext cx="2736720" cy="2952720"/>
          </a:xfrm>
          <a:prstGeom prst="ellipse">
            <a:avLst/>
          </a:prstGeom>
          <a:solidFill>
            <a:srgbClr val="ff66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35280" y="3284640"/>
            <a:ext cx="115272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8360" y="3573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64000" y="3789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B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205000"/>
            <a:ext cx="863640" cy="43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19640" y="1989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508720" y="19162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0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SBTA in hierarch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 Systolic Binary Tree Automaton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(SBTA) is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=(Q,</a:t>
            </a:r>
            <a:r>
              <a:rPr b="1" lang="el-GR" sz="4400" spc="-1" strike="noStrike">
                <a:solidFill>
                  <a:srgbClr val="e5e5ff"/>
                </a:solidFill>
                <a:latin typeface="Garamond"/>
              </a:rPr>
              <a:t>Σ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,R,I,#,F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 is finite set of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n input alphab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 is finite set of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q → r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,q,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is finite set of initial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 → 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# is end mark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 is a set of final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 a string such th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…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= 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= … =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 #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 &gt;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. Then def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►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f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,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,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+1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,i+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s  accepted  by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 and only i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►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α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={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ccepted b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is reflexive and transitive closure o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18:03:59Z</dcterms:created>
  <dc:creator>Tomáš Masopust</dc:creator>
  <dc:description/>
  <dc:language>en-US</dc:language>
  <cp:lastModifiedBy>Tomáš Masopust</cp:lastModifiedBy>
  <dcterms:modified xsi:type="dcterms:W3CDTF">2005-10-21T13:25:46Z</dcterms:modified>
  <cp:revision>102</cp:revision>
  <dc:subject/>
  <dc:title>Systolic Automata</dc:title>
</cp:coreProperties>
</file>