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68F9-8F66-4BB7-922B-3EC33845A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4B41-D55C-4EA3-90F6-F6E6D3ED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ED3C-8FAB-4E5D-93C7-A813CDE26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2AD3-2D77-486C-8C5C-C41FE931F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D885-2A8C-4EA9-B360-CB7382CF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20D6-9D5B-4859-BFF3-EAC3BEE1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92EF-9AC0-4885-9B1E-A9C37822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9096-ED3F-40DF-B3B2-F343B4BB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3EFC-7225-4A02-B86D-F227AA2F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3BCE-C7C9-4EBD-B749-EBF0C00C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4E02-0FD2-4CA4-9EC7-9BBD1789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B5E0-0B57-441B-8193-089D66E6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E477-B813-404D-856E-5C8B37C58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V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islav Sum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brary for loading and saving video (audio) f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arious libraries are used, depending on target 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mmon interface defined in a single base cla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AVFile 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ere‘s inherited class per every libr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hat can it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95280" y="2997360"/>
          <a:ext cx="8352000" cy="3462120"/>
        </p:xfrm>
        <a:graphic>
          <a:graphicData uri="http://schemas.openxmlformats.org/drawingml/2006/table">
            <a:tbl>
              <a:tblPr/>
              <a:tblGrid>
                <a:gridCol w="2158920"/>
                <a:gridCol w="1728720"/>
                <a:gridCol w="1440000"/>
                <a:gridCol w="1440000"/>
                <a:gridCol w="158436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form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/Wr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, wa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eo for Wind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VI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, asf, wmv, mpg, wav, mp3,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Sh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S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 came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Sh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V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, asf, mpg, mov, flc,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mp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FF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, Lin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mp seque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MP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, Lin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395280" y="12682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AW RGB bit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Windows DIB (BITMAPINF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igILib (ImageStru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AW w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ase clas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V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TAVFil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const char *FileName, int Mode, int Type, bool ThrowExceptions = tru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ek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unsigned int Fr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virtual TFrameInfo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GetFrameInfo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SetFrameInfo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(TFrameInfo Inf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BYTE*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Ge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BITMAPINFO*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DIBGe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ImageStruct*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DLGe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Pu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BYTE *Buff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DLPu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ImageStruct *Buff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xample: copying video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source and destination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AVIFile av1, av2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open source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argv[1]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AVFile::omRea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AVFile::otVide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)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get parameters from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AVFile::TFrameInfo FrameInfo = 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tFrameInf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set parameters to 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2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FrameInf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FrameInfo)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open destination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2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argv[2]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AVFile::omWrit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AVFile::otVide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process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 Pos, Len = 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tVideoLengt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hile ((Pos = 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tVideoPo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) &lt; Len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mageStruct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Imag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= 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LGetFram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apply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2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LPutFram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Imag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close source and destination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2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06:58:17Z</dcterms:created>
  <dc:creator>Stanislav Sumec</dc:creator>
  <dc:description/>
  <dc:language>en-US</dc:language>
  <cp:lastModifiedBy>Lukáš Polok</cp:lastModifiedBy>
  <dcterms:modified xsi:type="dcterms:W3CDTF">2009-12-15T19:59:17Z</dcterms:modified>
  <cp:revision>23</cp:revision>
  <dc:subject/>
  <dc:title>Snímek 1</dc:title>
</cp:coreProperties>
</file>