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80D-4193-4E2F-81D6-C00E5832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CF1-A75E-4A61-B709-3E61AF72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3F8-A80A-4159-A66F-FB555E17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579-1DA0-437A-8F2B-45EB7026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FC8-5A8C-4462-832D-71E6F0E1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802-33F5-40F7-9434-82C23CD1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B41-088B-43D0-BA28-4C40BE21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1C2-ED95-48DD-9048-BB427515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537-FA5D-402C-8144-EE4EF165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B17-BBCC-4C60-BDC2-9FE1389B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47A-9412-4897-8693-70510EFB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BEC-CF08-4A87-9FC3-344CC995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A009-9FF4-47F1-A41D-65CEA9497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co j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ovna pro načítání a ukládání video (audio) soubor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y různé knihovny dostupné v příslušném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ečné rozhraní definované v bázové tříd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každou knihovnu vytvořena odvozená tří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to um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164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y soub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hov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ení/Záp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kam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kv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ázová tří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 kopie video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Stanislav Sumec</cp:lastModifiedBy>
  <dcterms:modified xsi:type="dcterms:W3CDTF">2006-10-06T07:41:25Z</dcterms:modified>
  <cp:revision>22</cp:revision>
  <dc:subject/>
  <dc:title>Snímek 1</dc:title>
</cp:coreProperties>
</file>