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6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6B7C2-00BF-41CC-8CB0-831F04185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BA0-7F75-4900-AC78-9651E1FC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358-7D5F-48BD-854D-91FA80E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919-AE35-4557-AAA3-355E96DF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BFE-DDD7-40A7-B7D6-C949CF2D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848B-B8E5-4B82-8C79-936DCBB8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373-002B-4EB5-B4C6-A356C27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E22-28AF-41DB-86C1-0134BEF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636-0281-48D9-915E-3560DFC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2D42-78C5-41F4-B8A0-8D1CF4F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3AE-000D-4421-AE1A-0A61A314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3FD6-B4E2-4B92-A9AE-45E9CE6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531-4002-40F1-9FEA-9C560AD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DA56-5873-477D-BA96-0988550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AB7D-7234-459C-B71F-8842C7F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08A2-2BA5-4E29-B405-A8E4009E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CA48-6480-4BD5-8BD1-F0D77337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66BF-F782-488B-844B-8F9640C2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EE7-EB34-4B9B-8DFB-4C3A0E8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A92-E055-4D5D-9FA0-3D8AFB8D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DD0-145E-416B-8D20-B886811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947-42D3-4CE2-9534-AA2AEA90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29E-9D45-4452-BA02-2788877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BB7-BA64-4EB2-B266-601BC75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02C-3E74-43C3-BF60-8BD7F5A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27.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48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43AE-A02E-45BD-B0A2-E915A02841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2920"/>
            <a:ext cx="77673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27.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2B572D-5879-422B-9856-BAAAE580E3B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Vývoj vestavěných systémů s FPGA na konceptuální úrovn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99640" y="3419640"/>
            <a:ext cx="7272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R. Schönecker, L. Lorenc, Z. Křiv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IFS, FIT, VUT Brno, 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udentský workshop IEEE Zvůl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733920" cy="139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5867280"/>
            <a:ext cx="481176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Jakým způsobem se bude pro fpga vyvíjet v blízké budoucnost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w. a hw. revol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kroky v oblasti vývo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ývojové nástroje (překladače, syntetizátory hw. pro fpg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1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todologie vývo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501-207B-410E-AF47-A7BA77FC25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FC83B-E603-40B9-A70F-599919A5B0C4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vorba virtuální laboratoře pro desky s MCU, desky s FPGA a komb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monstrovat studentovi vývoj pr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CU+perif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PGA+(CPU)+perif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CU+FPGA+(CPU)+perif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ývoj pro FPGA je pohodlnější a levnější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ká rekonfigur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žší náklady na HW během vývoje a ladě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874-F0A4-4ECB-BEAA-6456C0E59C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D404A-0464-48D8-A5CD-270BF45D7670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Vývojové nást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Xilinx nástroje EDK, 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ývoj pro FP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omponenta = IP jádro (IP core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sor Expert (PE) fy U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omponenta = Embedded Bean (EB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yšší abstrakce, pouze nezapouzdřuje, ale obaluje do unifikovaného rozhraní (i napříč spektrem mikrokontrolerů) – vývoj na konceptuální úrov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7A1-A7D6-432D-8A19-60E6D2BB97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DEF7-83CC-43FE-ACCA-92CDF28632BE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17928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gmatický pohl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ster (MCU; PE) – Slave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FPGA+(CPU); Xilinx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dva boardy, univerzální komun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PGA jako periferie pro P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va boardy, pevně zadrátovaná komunikace, jednoúčelový obsah FP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odpora platformy FPGA+CPU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jeden board s FPGA, PE--&gt;EDK,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DA2-0F96-45DE-9169-C37E43206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E6306-5399-45E2-8F67-6D62AEF14B28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dukční cyklus PE s FP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Zadání návr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ývojář zavede EB pro vybraná IP jádra do návrhu v 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ompilace a gener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ntéza FPGA návrhu, down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FCA-202B-4B1B-B468-74C3CA1B3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00E13-D540-43DF-9BB6-9137CAA90A81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ecné propojení – run-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4167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359-CB47-4D66-88DB-1FD83548FA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62FF9-1995-49BC-A2CE-683429893BE4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Zhodnocení a problé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avrženo obecně, možnost podpory automatické specializ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7520" indent="-317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BLÉM: pomalost a latence obecných komunikačních rozhraní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UART, USART, SPI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7520" indent="-317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Řešení: integrace obou čipů na 1 des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7520" indent="-317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Řešení vhodné pro náš účel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varianta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IEEE Zvůle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63C-DB0B-410A-A5EF-7BF7EF636F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A0347-1831-4847-98E6-8CA613F762C7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byněk Křivka</cp:lastModifiedBy>
  <dcterms:modified xsi:type="dcterms:W3CDTF">2007-08-29T16:15:55Z</dcterms:modified>
  <cp:revision>1</cp:revision>
  <dc:subject/>
  <dc:title>Vývoj vestavěných systémů s FPGA na konceptuální úrovni </dc:title>
</cp:coreProperties>
</file>