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218F-02C2-4B37-AB9A-8CEC79FFB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97BE-BF3A-4392-A431-88508D8C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8F87-EF24-4B6A-BB25-92D4DABF7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C5BE-03E8-4355-88F2-CFF32D334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965F-F0E2-41F3-A0F7-A223ED86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5EAA-3E82-4BF2-B6C9-98B11467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F1AF-B089-4941-885F-EFEAA259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55DA-3151-4FAD-BDEC-54F42DBC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2847-3423-4E53-8C68-D4E96FA5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78C7-75B5-4FD8-8232-4AA9EA18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BB6F-552D-454C-807A-D2E55200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A131-8D14-42F2-8CBE-B4BA2CCE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2CCB-9CA0-4413-903F-80053FE6A91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480480" y="151200"/>
            <a:ext cx="184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CDE6-2A9C-4EE4-87E9-F4B33939D96F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9280" y="33526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Zbyněk Křivka, Alexander Meduna, </a:t>
            </a:r>
            <a:br>
              <a:rPr sz="3200"/>
            </a:b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Jaromír Smrček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3640" y="857160"/>
            <a:ext cx="8458200" cy="16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60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-Right-Linear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#-Rewriting System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563760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Faculty of Information Technology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no University of Technology, Czech Re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479952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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krivk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@fit.vutbr.c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971800" y="4800600"/>
            <a:ext cx="690480" cy="469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86200" y="152280"/>
            <a:ext cx="1143000" cy="609840"/>
          </a:xfrm>
          <a:prstGeom prst="rect">
            <a:avLst/>
          </a:prstGeom>
          <a:solidFill>
            <a:srgbClr val="ffffff"/>
          </a:solidFill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30384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808080"/>
                </a:solidFill>
                <a:latin typeface="Times New Roman"/>
              </a:rPr>
              <a:t>MEMICS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finition 2/2 – 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RLIN SM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685800" y="1523880"/>
            <a:ext cx="7772400" cy="2578680"/>
            <a:chOff x="685800" y="1523880"/>
            <a:chExt cx="7772400" cy="2578680"/>
          </a:xfrm>
        </p:grpSpPr>
        <p:sp>
          <p:nvSpPr>
            <p:cNvPr id="104" name=""/>
            <p:cNvSpPr/>
            <p:nvPr/>
          </p:nvSpPr>
          <p:spPr>
            <a:xfrm>
              <a:off x="685800" y="1523880"/>
              <a:ext cx="7772400" cy="2514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5800" y="1523880"/>
              <a:ext cx="7696080" cy="25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Derivation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ste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1)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2)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n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i="1" lang="cs-CZ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cs-CZ" sz="20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cs-CZ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…,</a:t>
              </a:r>
              <a:r>
                <a:rPr b="1" i="1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cs-CZ" sz="20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cs-CZ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cs-CZ" sz="20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cs-CZ" sz="2000" spc="-1" strike="noStrike" baseline="-25000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ere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a positive integer,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685800" y="4724280"/>
            <a:ext cx="7924680" cy="1143000"/>
            <a:chOff x="685800" y="4724280"/>
            <a:chExt cx="7924680" cy="1143000"/>
          </a:xfrm>
        </p:grpSpPr>
        <p:sp>
          <p:nvSpPr>
            <p:cNvPr id="107" name=""/>
            <p:cNvSpPr/>
            <p:nvPr/>
          </p:nvSpPr>
          <p:spPr>
            <a:xfrm>
              <a:off x="685800" y="4724280"/>
              <a:ext cx="7772400" cy="114300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5800" y="4724280"/>
              <a:ext cx="7924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Generated l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nguag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US" sz="28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w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w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191120" y="144792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4799880"/>
            <a:ext cx="472428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RLIN SM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24280" y="1325520"/>
            <a:ext cx="3810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2207160"/>
            <a:ext cx="410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BC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[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[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ab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3840" y="5901120"/>
            <a:ext cx="8290080" cy="764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3-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LINSM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14421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3-RLIN SM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137088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cepts </a:t>
            </a:r>
            <a:r>
              <a:rPr b="1" i="1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1794240"/>
            <a:ext cx="3503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1].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[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C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2].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3].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in Result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4360" y="3213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1280" y="3209760"/>
            <a:ext cx="806616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-RLINSMG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-RLI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R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‘s nonterminals stored in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‘s stat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tomical matrix application in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imulated by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‘s state contr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-RLI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-RLINSMG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ach G‘s nonterminal holds information about its or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n sentential form and H‘s sta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ach matrix rewrites all nonterminals but changes only one p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26920" y="1497240"/>
            <a:ext cx="7396200" cy="1477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n-RLIN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n-RLINSMG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in Result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306864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4941720"/>
            <a:ext cx="8066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– Basic Id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ndet. acyclic prescription generation into a nonterminal and then simulation according to 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3297600"/>
            <a:ext cx="7772400" cy="1477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acyclic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-n-RLIN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= RE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84360" y="1484280"/>
            <a:ext cx="7924680" cy="1440000"/>
            <a:chOff x="684360" y="1484280"/>
            <a:chExt cx="7924680" cy="1440000"/>
          </a:xfrm>
        </p:grpSpPr>
        <p:sp>
          <p:nvSpPr>
            <p:cNvPr id="128" name=""/>
            <p:cNvSpPr/>
            <p:nvPr/>
          </p:nvSpPr>
          <p:spPr>
            <a:xfrm>
              <a:off x="684360" y="1484280"/>
              <a:ext cx="7772400" cy="144000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4360" y="1484280"/>
              <a:ext cx="7924680" cy="13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Acyclic-n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RLIN#RS – a computation restriction is appli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… </a:t>
              </a:r>
              <a:r>
                <a:rPr b="1" i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or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is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#-erasing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762120" y="6553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rollary: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Infinit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4653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134064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ee [8]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D. Wood: m-Parallel n-Right Linear Simple Matrix Languages, 1975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5640" y="1970280"/>
            <a:ext cx="7704000" cy="1169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n-RLINSM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n+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-RLINSM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for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4881960"/>
            <a:ext cx="7704000" cy="132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rollar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all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-RLI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+1)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-RLI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328464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rom previous slid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3952080"/>
            <a:ext cx="7993080" cy="5205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n-RLI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n-RLINSMG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523880"/>
            <a:ext cx="792468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terminis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ates bring non-determi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inear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 </a:t>
            </a:r>
            <a:r>
              <a:rPr b="1" i="1" lang="cs-CZ" sz="3200" spc="-1" strike="noStrike" baseline="-25000">
                <a:solidFill>
                  <a:srgbClr val="ff9933"/>
                </a:solidFill>
                <a:latin typeface="Times New Roman"/>
              </a:rPr>
              <a:t>i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#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#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actical usage for parsing – problema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terminism, not very powerf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4800600"/>
            <a:ext cx="8458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3333cc"/>
                </a:solidFill>
                <a:latin typeface="Times New Roman"/>
              </a:rPr>
              <a:t>Discuss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093760"/>
            <a:ext cx="7848360" cy="21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.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.   Definitions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3.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in Resul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4.   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-Rewriting Syste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l Language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73520"/>
            <a:ext cx="784872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anguage-defining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writing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ste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etwe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omata an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mmar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s but generate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ight-Linear Rules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lready studied: Context-Free and Context-Sen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ncep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4479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n-Right-Linear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#-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riting Syste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d on the rules of the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2209680"/>
            <a:ext cx="31240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4400" spc="-1" strike="noStrike" baseline="-25000">
                <a:solidFill>
                  <a:srgbClr val="ff9933"/>
                </a:solidFill>
                <a:latin typeface="Times New Roman"/>
              </a:rPr>
              <a:t>m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#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ff66ff"/>
                </a:solidFill>
                <a:latin typeface="Times New Roman"/>
              </a:rPr>
              <a:t>x#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33520" y="2971800"/>
            <a:ext cx="7924680" cy="1068840"/>
            <a:chOff x="533520" y="2971800"/>
            <a:chExt cx="7924680" cy="1068840"/>
          </a:xfrm>
        </p:grpSpPr>
        <p:sp>
          <p:nvSpPr>
            <p:cNvPr id="57" name=""/>
            <p:cNvSpPr/>
            <p:nvPr/>
          </p:nvSpPr>
          <p:spPr>
            <a:xfrm>
              <a:off x="533520" y="2971800"/>
              <a:ext cx="7772400" cy="53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3520" y="2971800"/>
              <a:ext cx="7924680" cy="106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by which the system makes a computational step 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as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38080" y="4952880"/>
            <a:ext cx="7772400" cy="1480680"/>
            <a:chOff x="838080" y="4952880"/>
            <a:chExt cx="7772400" cy="1480680"/>
          </a:xfrm>
        </p:grpSpPr>
        <p:sp>
          <p:nvSpPr>
            <p:cNvPr id="60" name=""/>
            <p:cNvSpPr/>
            <p:nvPr/>
          </p:nvSpPr>
          <p:spPr>
            <a:xfrm>
              <a:off x="838080" y="4952880"/>
              <a:ext cx="7623000" cy="10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38080" y="4952880"/>
              <a:ext cx="7772400" cy="14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40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4000" spc="-1" strike="noStrike">
                  <a:solidFill>
                    <a:srgbClr val="008080"/>
                  </a:solidFill>
                  <a:latin typeface="Times New Roman"/>
                </a:rPr>
                <a:t>…#y</a:t>
              </a:r>
              <a:r>
                <a:rPr b="1" i="1" lang="cs-CZ" sz="4000" spc="-1" strike="noStrike" baseline="-25000">
                  <a:solidFill>
                    <a:srgbClr val="008080"/>
                  </a:solidFill>
                  <a:latin typeface="Times New Roman"/>
                </a:rPr>
                <a:t>m</a:t>
              </a:r>
              <a:r>
                <a:rPr b="1" lang="cs-CZ" sz="4000" spc="-1" strike="noStrike" baseline="-25000">
                  <a:solidFill>
                    <a:srgbClr val="008080"/>
                  </a:solidFill>
                  <a:latin typeface="Times New Roman"/>
                </a:rPr>
                <a:t>-1</a:t>
              </a:r>
              <a:r>
                <a:rPr b="1" i="1" lang="cs-CZ" sz="40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r>
                <a:rPr b="1" i="1" lang="cs-CZ" sz="4000" spc="-1" strike="noStrike">
                  <a:solidFill>
                    <a:srgbClr val="008080"/>
                  </a:solidFill>
                  <a:latin typeface="Times New Roman"/>
                </a:rPr>
                <a:t>y</a:t>
              </a:r>
              <a:r>
                <a:rPr b="1" i="1" lang="cs-CZ" sz="4000" spc="-1" strike="noStrike" baseline="-25000">
                  <a:solidFill>
                    <a:srgbClr val="008080"/>
                  </a:solidFill>
                  <a:latin typeface="Times New Roman"/>
                </a:rPr>
                <a:t>m</a:t>
              </a:r>
              <a:r>
                <a:rPr b="1" i="1" lang="cs-CZ" sz="4000" spc="-1" strike="noStrike">
                  <a:solidFill>
                    <a:srgbClr val="008080"/>
                  </a:solidFill>
                  <a:latin typeface="Times New Roman"/>
                </a:rPr>
                <a:t>#y</a:t>
              </a:r>
              <a:r>
                <a:rPr b="1" i="1" lang="cs-CZ" sz="4000" spc="-1" strike="noStrike" baseline="-25000">
                  <a:solidFill>
                    <a:srgbClr val="008080"/>
                  </a:solidFill>
                  <a:latin typeface="Times New Roman"/>
                </a:rPr>
                <a:t>m</a:t>
              </a:r>
              <a:r>
                <a:rPr b="1" lang="cs-CZ" sz="4000" spc="-1" strike="noStrike" baseline="-25000">
                  <a:solidFill>
                    <a:srgbClr val="008080"/>
                  </a:solidFill>
                  <a:latin typeface="Times New Roman"/>
                </a:rPr>
                <a:t>+1</a:t>
              </a:r>
              <a:r>
                <a:rPr b="1" i="1" lang="cs-CZ" sz="4000" spc="-1" strike="noStrike">
                  <a:solidFill>
                    <a:srgbClr val="008080"/>
                  </a:solidFill>
                  <a:latin typeface="Times New Roman"/>
                </a:rPr>
                <a:t>…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br>
                <a:rPr sz="4000"/>
              </a:br>
              <a:r>
                <a:rPr b="0" lang="cs-CZ" sz="4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40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4000" spc="-1" strike="noStrike">
                  <a:solidFill>
                    <a:srgbClr val="008080"/>
                  </a:solidFill>
                  <a:latin typeface="Times New Roman"/>
                </a:rPr>
                <a:t>…# y</a:t>
              </a:r>
              <a:r>
                <a:rPr b="1" i="1" lang="cs-CZ" sz="4000" spc="-1" strike="noStrike" baseline="-25000">
                  <a:solidFill>
                    <a:srgbClr val="008080"/>
                  </a:solidFill>
                  <a:latin typeface="Times New Roman"/>
                </a:rPr>
                <a:t>m</a:t>
              </a:r>
              <a:r>
                <a:rPr b="1" lang="cs-CZ" sz="4000" spc="-1" strike="noStrike" baseline="-25000">
                  <a:solidFill>
                    <a:srgbClr val="008080"/>
                  </a:solidFill>
                  <a:latin typeface="Times New Roman"/>
                </a:rPr>
                <a:t>-1</a:t>
              </a:r>
              <a:r>
                <a:rPr b="1" i="1" lang="en-US" sz="4000" spc="-1" strike="noStrike">
                  <a:solidFill>
                    <a:srgbClr val="ff66ff"/>
                  </a:solidFill>
                  <a:latin typeface="Times New Roman"/>
                </a:rPr>
                <a:t>x</a:t>
              </a:r>
              <a:r>
                <a:rPr b="1" i="1" lang="cs-CZ" sz="4000" spc="-1" strike="noStrike">
                  <a:solidFill>
                    <a:srgbClr val="ff66ff"/>
                  </a:solidFill>
                  <a:latin typeface="Times New Roman"/>
                </a:rPr>
                <a:t>#</a:t>
              </a:r>
              <a:r>
                <a:rPr b="1" i="1" lang="cs-CZ" sz="4000" spc="-1" strike="noStrike">
                  <a:solidFill>
                    <a:srgbClr val="008080"/>
                  </a:solidFill>
                  <a:latin typeface="Times New Roman"/>
                </a:rPr>
                <a:t>y</a:t>
              </a:r>
              <a:r>
                <a:rPr b="1" i="1" lang="cs-CZ" sz="4000" spc="-1" strike="noStrike" baseline="-25000">
                  <a:solidFill>
                    <a:srgbClr val="008080"/>
                  </a:solidFill>
                  <a:latin typeface="Times New Roman"/>
                </a:rPr>
                <a:t>m</a:t>
              </a:r>
              <a:r>
                <a:rPr b="1" i="1" lang="cs-CZ" sz="4000" spc="-1" strike="noStrike">
                  <a:solidFill>
                    <a:srgbClr val="008080"/>
                  </a:solidFill>
                  <a:latin typeface="Times New Roman"/>
                </a:rPr>
                <a:t># y</a:t>
              </a:r>
              <a:r>
                <a:rPr b="1" i="1" lang="cs-CZ" sz="4000" spc="-1" strike="noStrike" baseline="-25000">
                  <a:solidFill>
                    <a:srgbClr val="008080"/>
                  </a:solidFill>
                  <a:latin typeface="Times New Roman"/>
                </a:rPr>
                <a:t>m</a:t>
              </a:r>
              <a:r>
                <a:rPr b="1" lang="cs-CZ" sz="4000" spc="-1" strike="noStrike" baseline="-25000">
                  <a:solidFill>
                    <a:srgbClr val="008080"/>
                  </a:solidFill>
                  <a:latin typeface="Times New Roman"/>
                </a:rPr>
                <a:t>+1</a:t>
              </a:r>
              <a:r>
                <a:rPr b="1" i="1" lang="cs-CZ" sz="4000" spc="-1" strike="noStrike">
                  <a:solidFill>
                    <a:srgbClr val="008080"/>
                  </a:solidFill>
                  <a:latin typeface="Times New Roman"/>
                </a:rPr>
                <a:t>…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743200" y="3962520"/>
            <a:ext cx="1676160" cy="1066680"/>
            <a:chOff x="2743200" y="3962520"/>
            <a:chExt cx="1676160" cy="1066680"/>
          </a:xfrm>
        </p:grpSpPr>
        <p:sp>
          <p:nvSpPr>
            <p:cNvPr id="63" name=""/>
            <p:cNvSpPr/>
            <p:nvPr/>
          </p:nvSpPr>
          <p:spPr>
            <a:xfrm>
              <a:off x="2743200" y="3962520"/>
              <a:ext cx="167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9933"/>
                  </a:solidFill>
                  <a:latin typeface="Times New Roman"/>
                </a:rPr>
                <a:t>m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th 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272400" y="4496040"/>
              <a:ext cx="0" cy="53316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 1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447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n-Right-Linear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#-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riting Syste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RLIN#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2133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 quadrupl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2971800"/>
            <a:ext cx="80010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it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phab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e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oun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it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4400" spc="-1" strike="noStrike" baseline="-25000">
                <a:solidFill>
                  <a:srgbClr val="ff9933"/>
                </a:solidFill>
                <a:latin typeface="Times New Roman"/>
              </a:rPr>
              <a:t>m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#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44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ff0000"/>
                </a:solidFill>
                <a:latin typeface="Times New Roman"/>
              </a:rPr>
              <a:t>#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positive integer,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{#}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 2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685800" y="2819520"/>
            <a:ext cx="7772400" cy="2133000"/>
            <a:chOff x="685800" y="2819520"/>
            <a:chExt cx="7772400" cy="2133000"/>
          </a:xfrm>
        </p:grpSpPr>
        <p:sp>
          <p:nvSpPr>
            <p:cNvPr id="72" name=""/>
            <p:cNvSpPr/>
            <p:nvPr/>
          </p:nvSpPr>
          <p:spPr>
            <a:xfrm>
              <a:off x="685800" y="2819520"/>
              <a:ext cx="7772400" cy="213300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5800" y="2819520"/>
              <a:ext cx="7696080" cy="189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omputational ste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ff66ff"/>
                  </a:solidFill>
                  <a:latin typeface="Times New Roman"/>
                </a:rPr>
                <a:t>u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r>
                <a:rPr b="1" i="1" lang="en-US" sz="3200" spc="-1" strike="noStrike">
                  <a:solidFill>
                    <a:srgbClr val="ff66ff"/>
                  </a:solidFill>
                  <a:latin typeface="Times New Roman"/>
                </a:rPr>
                <a:t>v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ff66ff"/>
                  </a:solidFill>
                  <a:latin typeface="Times New Roman"/>
                </a:rPr>
                <a:t>uxv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m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i="1" lang="en-US" sz="2400" spc="-1" strike="noStrike">
                  <a:solidFill>
                    <a:srgbClr val="ff66ff"/>
                  </a:solidFill>
                  <a:latin typeface="Times New Roman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]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umber o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 in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m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– 1, 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Q, 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u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85800" y="1523880"/>
            <a:ext cx="7924680" cy="609840"/>
            <a:chOff x="685800" y="1523880"/>
            <a:chExt cx="7924680" cy="609840"/>
          </a:xfrm>
        </p:grpSpPr>
        <p:sp>
          <p:nvSpPr>
            <p:cNvPr id="75" name=""/>
            <p:cNvSpPr/>
            <p:nvPr/>
          </p:nvSpPr>
          <p:spPr>
            <a:xfrm>
              <a:off x="685800" y="1523880"/>
              <a:ext cx="7772400" cy="6098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5800" y="1523880"/>
              <a:ext cx="792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ff66ff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,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ff66ff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85800" y="5181480"/>
            <a:ext cx="7924680" cy="1143000"/>
            <a:chOff x="685800" y="5181480"/>
            <a:chExt cx="7924680" cy="1143000"/>
          </a:xfrm>
        </p:grpSpPr>
        <p:sp>
          <p:nvSpPr>
            <p:cNvPr id="78" name=""/>
            <p:cNvSpPr/>
            <p:nvPr/>
          </p:nvSpPr>
          <p:spPr>
            <a:xfrm>
              <a:off x="685800" y="5181480"/>
              <a:ext cx="7772400" cy="114300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5800" y="5181480"/>
              <a:ext cx="7924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Generated l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nguag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US" sz="28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w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r>
                <a:rPr b="1" i="1" lang="cs-CZ" sz="1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w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in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LIN#R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5299920"/>
            <a:ext cx="47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95640" y="148428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1325520"/>
            <a:ext cx="3810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0" y="2133720"/>
            <a:ext cx="4105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##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##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[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#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#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[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#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#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#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bc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#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bc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43400" y="137088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cepts </a:t>
            </a:r>
            <a:r>
              <a:rPr b="1" i="1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1859040"/>
            <a:ext cx="3313080" cy="34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1].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cs-CZ" sz="3200" spc="-1" strike="noStrike" baseline="-25000">
                <a:solidFill>
                  <a:srgbClr val="ff9933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#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#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2].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 </a:t>
            </a:r>
            <a:r>
              <a:rPr b="1" lang="cs-CZ" sz="32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#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#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3].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 baseline="-25000">
                <a:solidFill>
                  <a:srgbClr val="ff9933"/>
                </a:solidFill>
                <a:latin typeface="Times New Roman"/>
              </a:rPr>
              <a:t>3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#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#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4].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cs-CZ" sz="3200" spc="-1" strike="noStrike" baseline="-25000">
                <a:solidFill>
                  <a:srgbClr val="ff9933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#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5].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 </a:t>
            </a:r>
            <a:r>
              <a:rPr b="1" lang="cs-CZ" sz="3200" spc="-1" strike="noStrike" baseline="-25000">
                <a:solidFill>
                  <a:srgbClr val="ff9933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#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 </a:t>
            </a:r>
            <a:r>
              <a:rPr b="1" lang="cs-CZ" sz="3200" spc="-1" strike="noStrike" baseline="-25000">
                <a:solidFill>
                  <a:srgbClr val="ff9933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#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14119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LIN#R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LIN#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5299920"/>
            <a:ext cx="47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95640" y="148428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24280" y="1325520"/>
            <a:ext cx="3810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9200" y="5901120"/>
            <a:ext cx="7834680" cy="764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 1}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-RLIN#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4360" y="14119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LIN#R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43400" y="137088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cepts </a:t>
            </a:r>
            <a:r>
              <a:rPr b="1" i="1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2133720"/>
            <a:ext cx="4105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##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##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[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#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#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[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#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#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#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bc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#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bc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1859040"/>
            <a:ext cx="3313080" cy="34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1].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cs-CZ" sz="3200" spc="-1" strike="noStrike" baseline="-25000">
                <a:solidFill>
                  <a:srgbClr val="ff9933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#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#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2].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 </a:t>
            </a:r>
            <a:r>
              <a:rPr b="1" lang="cs-CZ" sz="32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#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#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3].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 baseline="-25000">
                <a:solidFill>
                  <a:srgbClr val="ff9933"/>
                </a:solidFill>
                <a:latin typeface="Times New Roman"/>
              </a:rPr>
              <a:t>3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#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#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4].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cs-CZ" sz="3200" spc="-1" strike="noStrike" baseline="-25000">
                <a:solidFill>
                  <a:srgbClr val="ff9933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#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5].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 </a:t>
            </a:r>
            <a:r>
              <a:rPr b="1" lang="cs-CZ" sz="3200" spc="-1" strike="noStrike" baseline="-25000">
                <a:solidFill>
                  <a:srgbClr val="ff9933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#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 </a:t>
            </a:r>
            <a:r>
              <a:rPr b="1" lang="cs-CZ" sz="3200" spc="-1" strike="noStrike" baseline="-25000">
                <a:solidFill>
                  <a:srgbClr val="ff9933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#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-Right Linear Simple Matrix Gramma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" y="1905120"/>
            <a:ext cx="7772400" cy="4853520"/>
            <a:chOff x="685800" y="1905120"/>
            <a:chExt cx="7772400" cy="4853520"/>
          </a:xfrm>
        </p:grpSpPr>
        <p:sp>
          <p:nvSpPr>
            <p:cNvPr id="100" name=""/>
            <p:cNvSpPr/>
            <p:nvPr/>
          </p:nvSpPr>
          <p:spPr>
            <a:xfrm>
              <a:off x="685800" y="1905120"/>
              <a:ext cx="7772400" cy="461376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85800" y="1905120"/>
              <a:ext cx="7696080" cy="48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n-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RLIN SMG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+3)-tupl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 …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 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utually disjoint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nonterminal alphabe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erminal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lphabe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rt s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ymbo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N = N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… </a:t>
              </a: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finite set of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 matri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ule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the form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s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X</a:t>
              </a:r>
              <a:r>
                <a:rPr b="1" lang="cs-CZ" sz="3200" spc="-1" strike="noStrike" baseline="-25000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…X</a:t>
              </a:r>
              <a:r>
                <a:rPr b="1" i="1" lang="cs-CZ" sz="3200" spc="-1" strike="noStrike" baseline="-25000">
                  <a:solidFill>
                    <a:srgbClr val="ff66ff"/>
                  </a:solidFill>
                  <a:latin typeface="Times New Roman"/>
                </a:rPr>
                <a:t>n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]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2) [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cs-CZ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</a:t>
              </a:r>
              <a:r>
                <a:rPr b="1" lang="cs-CZ" sz="3200" spc="-1" strike="noStrike" baseline="-25000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,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cs-CZ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</a:t>
              </a:r>
              <a:r>
                <a:rPr b="1" i="1" lang="cs-CZ" sz="3200" spc="-1" strike="noStrike" baseline="-25000">
                  <a:solidFill>
                    <a:srgbClr val="ff66ff"/>
                  </a:solidFill>
                  <a:latin typeface="Times New Roman"/>
                </a:rPr>
                <a:t>n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3) [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cs-CZ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</a:t>
              </a:r>
              <a:r>
                <a:rPr b="1" lang="cs-CZ" sz="3200" spc="-1" strike="noStrike" baseline="-25000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,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cs-CZ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</a:t>
              </a:r>
              <a:r>
                <a:rPr b="1" i="1" lang="cs-CZ" sz="3200" spc="-1" strike="noStrike" baseline="-25000">
                  <a:solidFill>
                    <a:srgbClr val="ff66ff"/>
                  </a:solidFill>
                  <a:latin typeface="Times New Roman"/>
                </a:rPr>
                <a:t>n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i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a positive integer, </a:t>
              </a:r>
              <a:r>
                <a:rPr b="1" lang="cs-CZ" sz="24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</a:t>
              </a:r>
              <a:r>
                <a:rPr b="1" i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7:41:41Z</dcterms:created>
  <dc:creator>Zbynek Krivka, Alexander Meduna</dc:creator>
  <dc:description/>
  <dc:language>en-US</dc:language>
  <cp:lastModifiedBy>Alexander Meduna</cp:lastModifiedBy>
  <dcterms:modified xsi:type="dcterms:W3CDTF">2007-10-27T06:52:18Z</dcterms:modified>
  <cp:revision>47</cp:revision>
  <dc:subject/>
  <dc:title>Bounder Rewriting Syst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azyk">
    <vt:lpwstr>english</vt:lpwstr>
  </property>
</Properties>
</file>