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32600" cy="9569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59A-BF49-4673-A0C2-D4FFA850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D4C-91EE-4944-BB52-9D3AFBAA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1D3-08B8-4773-AFBC-4514F94D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8C9-3116-42DB-8CFE-A4743E5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8204-2CC1-4465-B22E-FFDF7A4B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8009-49E5-47E3-82F4-9797A6B1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2CC-A872-4842-9BC0-57742A8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BAD-805F-4B2E-A3E9-BFE4E98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38D3-85A7-45DE-B48E-DE397BC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2E2-70FC-467A-9650-EC9D7388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F3EA-79BB-4156-A1AC-41F21D5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2F5-0F7F-4F6B-A48D-D55C8FD5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41F-B173-4B2E-B4C7-24655D7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29A8-7A89-4462-8903-16F2870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73BA-DB92-454F-A0CB-98A5CA8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92A-7F3C-49C4-B871-B68CE14B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8E60-8736-4702-A63E-5B3231D2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175-7BA9-492F-B127-BBA9741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951-34E5-4A0F-AA5A-704FA12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8EF-D82E-40EA-A712-7E1DF0D1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A5C-1B9F-471D-BD8E-78FE173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83A-8840-490B-842D-78C80F9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655-AE7C-4605-A3D7-A7B6161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769-7005-4FD7-A53E-9EA72F4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654-E54D-4B5F-93D7-34F67C1A5E8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267-53AB-4CBE-B809-C4BB49A08BF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A284-597B-4F24-BAD2-789483FEDA03}" type="datetime">
              <a:rPr b="0" lang="cs-CZ" sz="1400" spc="-1" strike="noStrike">
                <a:solidFill>
                  <a:srgbClr val="1c1c1c"/>
                </a:solidFill>
                <a:latin typeface="Tahoma"/>
              </a:rPr>
              <a:t>31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D6CF-3AF7-46C7-AA17-329E188DC092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Component-based Design of Embedded Systems with FPGA Suppor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R. Schönecker, Z. Křivka, D. Kolá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IFS, FIT, VUT Brno, 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SIS 2007, Sv. Hostý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3733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nowledge base for automatic FPGA-platform specification generation and half-automatic components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imulation and verification tools only just before finish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work has been supported by the Czech Ministry of Education, Youth and Sports grant  MŠMT 2C06008 "Virtual Laboratory of Microprocessor Technology Application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E35-2252-4FD8-901E-C2D46C2A09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4745D-3564-4589-85B7-654BE94910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o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S = Embedd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on-standard or missing user I/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utonom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g. Coffeemaker, Fridge, Cell-phone, 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CU = MicroController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CU in the middle, Programmable: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PGA = Field-Programmable Gate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mable: HW (&amp; c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1FF-00F7-43CE-9EAE-F14D121EE3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D29F4-9CD4-4618-931D-5CF751CA91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eate virtual laboratory for embedded system developers (MCU board vs. FPGA boar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PGA-developement – cheaper, flex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ynamic reconfiguration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many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ower HW cost during developement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ow to introduce FPGA to ES develo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ommon approach: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CU+peripherals (1 arch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PGA approach: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PGA+(CPU)+peripherals (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arch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omb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95B-F2C4-4A5A-8B2D-13E23A088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D07BB-6D74-4F90-B31D-00C8460877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cessor Expert (PE) by U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omponent = Embedded Bean (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igher abstraction (not only encapsulation, but adds common/unified interface) – change of the type of MCU without change of the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onceptual approach, 1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Xilinx tools EDK, 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PGA developement (many arch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omponent = IP core (only encaps., info nee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6BF-F1D0-453F-AE9D-DBBCBBF20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B0EC8-E682-4DBA-88FB-9FDC1F3A1F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Integ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ster (MCU; PE) – Slave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FPGA+(CPU); Xilinx) (coprocess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PGA as peripheral in 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port the FPGA+CPU platform in 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ynthesis, implementation and bit-stream download into FPGA still by Xilinx t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B2A-5BCF-440C-8BD7-BEAAC69FE4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6AA1A-0D8B-4DF9-8D2C-AEEDCA0716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roduction Flow PE with FP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esign entrance (PSF, EB-Wiza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sert new EB for FPGA-components (corresponds to IP cores) into 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arget-Platform Generation,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9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nthesis of FPGA design, Down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C0C-CA72-4D2B-9458-E29C70C36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1D438-6616-4523-8682-028A01D8A0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43280" y="1125360"/>
            <a:ext cx="110160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IP Core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1700280"/>
            <a:ext cx="309564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sign Entr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989000"/>
            <a:ext cx="684360" cy="17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HD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060640"/>
            <a:ext cx="176688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HW Platfor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421000"/>
            <a:ext cx="6193080" cy="33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Xilinx Design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60280"/>
            <a:ext cx="4309920" cy="13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692280"/>
            <a:ext cx="1101600" cy="37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mbedded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765000"/>
            <a:ext cx="1436760" cy="32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esign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1125360"/>
            <a:ext cx="958680" cy="3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Compilation &amp;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3944880" y="947880"/>
            <a:ext cx="2880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V="1">
            <a:off x="3944880" y="1029600"/>
            <a:ext cx="288000" cy="4402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003640" y="105264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3520" y="2747880"/>
            <a:ext cx="134136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IP Cores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35320" y="2747880"/>
            <a:ext cx="153360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sign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35320" y="3484440"/>
            <a:ext cx="153360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sign 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35320" y="4221000"/>
            <a:ext cx="15336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sign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35320" y="5038560"/>
            <a:ext cx="1533600" cy="6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wnload to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5" idx="2"/>
            <a:endCxn id="126" idx="0"/>
          </p:cNvCxnSpPr>
          <p:nvPr/>
        </p:nvCxnSpPr>
        <p:spPr>
          <a:xfrm>
            <a:off x="4901760" y="3238200"/>
            <a:ext cx="108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2"/>
            <a:endCxn id="128" idx="0"/>
          </p:cNvCxnSpPr>
          <p:nvPr/>
        </p:nvCxnSpPr>
        <p:spPr>
          <a:xfrm>
            <a:off x="4901760" y="4868640"/>
            <a:ext cx="108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901760" y="3892680"/>
            <a:ext cx="10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4" idx="3"/>
            <a:endCxn id="125" idx="1"/>
          </p:cNvCxnSpPr>
          <p:nvPr/>
        </p:nvCxnSpPr>
        <p:spPr>
          <a:xfrm>
            <a:off x="3944520" y="299376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9" idx="2"/>
            <a:endCxn id="113" idx="0"/>
          </p:cNvCxnSpPr>
          <p:nvPr/>
        </p:nvCxnSpPr>
        <p:spPr>
          <a:xfrm flipH="1" rot="16200000">
            <a:off x="4717080" y="1305360"/>
            <a:ext cx="608760" cy="18144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3" idx="2"/>
            <a:endCxn id="126" idx="3"/>
          </p:cNvCxnSpPr>
          <p:nvPr/>
        </p:nvCxnSpPr>
        <p:spPr>
          <a:xfrm flipH="1" rot="16200000">
            <a:off x="4683960" y="2703960"/>
            <a:ext cx="1413360" cy="558000"/>
          </a:xfrm>
          <a:prstGeom prst="bentConnector4">
            <a:avLst>
              <a:gd name="adj1" fmla="val 21324"/>
              <a:gd name="adj2" fmla="val 14099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4" idx="0"/>
            <a:endCxn id="113" idx="1"/>
          </p:cNvCxnSpPr>
          <p:nvPr/>
        </p:nvCxnSpPr>
        <p:spPr>
          <a:xfrm flipH="1" flipV="1" rot="5400000">
            <a:off x="3039120" y="2223720"/>
            <a:ext cx="759600" cy="28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2700360" y="333360"/>
            <a:ext cx="273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cessor Expert Design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2" idx="2"/>
            <a:endCxn id="113" idx="1"/>
          </p:cNvCxnSpPr>
          <p:nvPr/>
        </p:nvCxnSpPr>
        <p:spPr>
          <a:xfrm flipH="1" rot="16200000">
            <a:off x="3251880" y="1676520"/>
            <a:ext cx="454680" cy="170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148440" y="3402000"/>
            <a:ext cx="1149120" cy="229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functional and timing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stati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in-circuit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5668920" y="2993760"/>
            <a:ext cx="480240" cy="155484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40" name=""/>
          <p:cNvCxnSpPr>
            <a:stCxn id="126" idx="3"/>
            <a:endCxn id="138" idx="1"/>
          </p:cNvCxnSpPr>
          <p:nvPr/>
        </p:nvCxnSpPr>
        <p:spPr>
          <a:xfrm>
            <a:off x="5668920" y="3689280"/>
            <a:ext cx="480240" cy="85968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41" name=""/>
          <p:cNvCxnSpPr>
            <a:stCxn id="127" idx="3"/>
            <a:endCxn id="138" idx="1"/>
          </p:cNvCxnSpPr>
          <p:nvPr/>
        </p:nvCxnSpPr>
        <p:spPr>
          <a:xfrm>
            <a:off x="5668920" y="4544640"/>
            <a:ext cx="480240" cy="396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42" name=""/>
          <p:cNvCxnSpPr>
            <a:stCxn id="128" idx="3"/>
            <a:endCxn id="138" idx="1"/>
          </p:cNvCxnSpPr>
          <p:nvPr/>
        </p:nvCxnSpPr>
        <p:spPr>
          <a:xfrm flipV="1">
            <a:off x="5668920" y="4547520"/>
            <a:ext cx="480240" cy="818280"/>
          </a:xfrm>
          <a:prstGeom prst="straightConnector1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43" name=""/>
          <p:cNvCxnSpPr>
            <a:stCxn id="138" idx="0"/>
            <a:endCxn id="125" idx="3"/>
          </p:cNvCxnSpPr>
          <p:nvPr/>
        </p:nvCxnSpPr>
        <p:spPr>
          <a:xfrm flipV="1" rot="16200000">
            <a:off x="5991480" y="2670120"/>
            <a:ext cx="408600" cy="1054800"/>
          </a:xfrm>
          <a:prstGeom prst="bentConnector2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44" name=""/>
          <p:cNvCxnSpPr>
            <a:stCxn id="138" idx="0"/>
            <a:endCxn id="119" idx="3"/>
          </p:cNvCxnSpPr>
          <p:nvPr/>
        </p:nvCxnSpPr>
        <p:spPr>
          <a:xfrm flipV="1" rot="16200000">
            <a:off x="4948560" y="1627560"/>
            <a:ext cx="2473920" cy="1075320"/>
          </a:xfrm>
          <a:prstGeom prst="bentConnector2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5956200" y="2781360"/>
            <a:ext cx="18558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08080"/>
                </a:solidFill>
                <a:latin typeface="Times New Roman"/>
              </a:rPr>
              <a:t>new development it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5854680"/>
            <a:ext cx="498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Figure 1: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Combined Design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1125360"/>
            <a:ext cx="1152720" cy="287640"/>
          </a:xfrm>
          <a:prstGeom prst="rightArrow">
            <a:avLst>
              <a:gd name="adj1" fmla="val 33704"/>
              <a:gd name="adj2" fmla="val 999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008920" y="486900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89960" y="836640"/>
            <a:ext cx="1454040" cy="893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75640" y="98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6720" y="515628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FP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5229360"/>
            <a:ext cx="2376360" cy="358560"/>
          </a:xfrm>
          <a:prstGeom prst="rightArrow">
            <a:avLst>
              <a:gd name="adj1" fmla="val 28315"/>
              <a:gd name="adj2" fmla="val 845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0E0-C583-45C0-8D64-E906E8B5904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44CB5-134A-4845-97AA-08520E5782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General Run-Time Interconn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4167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DCA-CF89-4441-B532-6C29EB5A1D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27741-3755-4515-BF78-445D4AA333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Evaluation and Problems (V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eneral purpose usage, not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: slow and long latences of general communicational interfaces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UART, USART, SP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lution 1: integration into 1 chip/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Solution 2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: V3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create PE models for basic architectures used in FPGA developement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integration of Xilinx tool into PE‘s production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IS 2007, Sv. Hostý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E4B-BCCF-44BA-ACFA-7AC4EB406C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7257A-3253-4B43-BE73-E99D8D3297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7:57:23Z</dcterms:created>
  <dc:creator>Zbyněk Křivka</dc:creator>
  <dc:description/>
  <dc:language>en-US</dc:language>
  <cp:lastModifiedBy>Zbyněk Křivka</cp:lastModifiedBy>
  <dcterms:modified xsi:type="dcterms:W3CDTF">2007-09-19T05:45:16Z</dcterms:modified>
  <cp:revision>17</cp:revision>
  <dc:subject/>
  <dc:title>Vývoj vestavěných systémů s FPGA na konceptuální úrovni </dc:title>
</cp:coreProperties>
</file>