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413-DAD4-419C-AFA6-B216EB7A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CD8-D448-485F-B15C-E6707302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08E-D61C-4FB8-9DF7-DB61B3CD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D45-64AA-4968-A436-65414716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F36-97B2-4F5C-B2EF-3D1D84D1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309-FDEF-48DE-9D14-4DF0357D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B6E-D8B3-4EDC-99A8-2AC0AF2D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8D3-4B35-4663-B4BD-B6105A77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8B7-BFF5-433D-84BA-BF72ECE0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0CD-4C04-40BB-8FC8-65F33515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598-9478-4588-8448-34BB1F9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765-228D-4CC6-8CAF-645BBA8F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677D-454F-41F7-8292-1AB86102F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co j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ovna pro načítání a ukládání video (audio) soubor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y různé knihovny dostupné v příslušném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ečné rozhraní definované v bázové tříd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každou knihovnu vytvořena odvozená tří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to um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164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y soub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hov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ení/Záp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kam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kv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ázová tří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 kopie video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Stanislav Sumec</cp:lastModifiedBy>
  <dcterms:modified xsi:type="dcterms:W3CDTF">2006-10-06T07:41:25Z</dcterms:modified>
  <cp:revision>22</cp:revision>
  <dc:subject/>
  <dc:title>Snímek 1</dc:title>
</cp:coreProperties>
</file>