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28E-2E3B-4253-95CD-0D46A241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908-2F67-4B49-A29F-7E3A0C83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EF7-8E37-451E-9780-D5300B7F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6A9-928D-47A7-B040-35D0CE4D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2E5-03A2-434C-BD6C-01EE13B7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668-AE3E-44F9-853E-121DDD39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CAC-964A-4F0A-A998-FC29340C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DB7-3938-4BF6-BDC4-FE26DBF5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E9F-ED13-44BF-A52E-C7CEA18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C0B-1216-4682-8D5B-15CC172C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B5B-63B1-4A01-87F1-0499EDC5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112-B769-4CB8-AC2F-336D5F2C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E821-38EE-455D-8293-124D7A362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ary for loading and saving video (audio)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arious libraries are used, depending on target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mon interface defined in a single bas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‘s inherited class per every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can i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200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36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/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cam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ase clas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ample: copying video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Lukáš Polok</cp:lastModifiedBy>
  <dcterms:modified xsi:type="dcterms:W3CDTF">2009-12-15T19:59:17Z</dcterms:modified>
  <cp:revision>23</cp:revision>
  <dc:subject/>
  <dc:title>Snímek 1</dc:title>
</cp:coreProperties>
</file>