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7C2-0BEE-47A9-A3B0-8DFE7721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7E0-1316-4493-B6A1-D697860C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EA9-F778-4BE9-9B82-D117C72B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1A1-B329-49C7-BA80-34C8A3B6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EDB-6B77-4F8E-B627-F53FBA8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468-E9D9-4193-A1F3-993ABE47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090-AB13-45DD-BCAD-730E6962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723-B0CF-45E5-A33B-87758B3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077-F6B5-40CA-A174-988EAD6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C94-BE80-403A-B11A-444DCE6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8FA-3F90-4F7C-BECE-FAEDD1F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F0D-D475-4F33-B0B4-E11C2A7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C87-1078-4F02-B86F-58C0B31B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762120"/>
          <a:ext cx="19684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1968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9480" y="1371600"/>
          <a:ext cx="27687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371600"/>
                    <a:ext cx="2768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5800" y="2133720"/>
          <a:ext cx="24256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133720"/>
                    <a:ext cx="24256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2590920"/>
          <a:ext cx="2616480" cy="15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590920"/>
                    <a:ext cx="261648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520" y="4724280"/>
          <a:ext cx="208260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724280"/>
                    <a:ext cx="20826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4802040" y="1467000"/>
            <a:ext cx="2943720" cy="1453320"/>
            <a:chOff x="4802040" y="1467000"/>
            <a:chExt cx="2943720" cy="1453320"/>
          </a:xfrm>
        </p:grpSpPr>
        <p:sp>
          <p:nvSpPr>
            <p:cNvPr id="52" name=""/>
            <p:cNvSpPr/>
            <p:nvPr/>
          </p:nvSpPr>
          <p:spPr>
            <a:xfrm>
              <a:off x="5486400" y="1752480"/>
              <a:ext cx="9144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2040" y="146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81440" y="1467000"/>
              <a:ext cx="1264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[n]=x(n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6560" y="1752480"/>
              <a:ext cx="2133720" cy="685800"/>
              <a:chOff x="4876560" y="1752480"/>
              <a:chExt cx="2133720" cy="685800"/>
            </a:xfrm>
          </p:grpSpPr>
          <p:cxnSp>
            <p:nvCxnSpPr>
              <p:cNvPr id="56" name=""/>
              <p:cNvCxnSpPr>
                <a:endCxn id="52" idx="1"/>
              </p:cNvCxnSpPr>
              <p:nvPr/>
            </p:nvCxnSpPr>
            <p:spPr>
              <a:xfrm>
                <a:off x="4876560" y="1942920"/>
                <a:ext cx="61020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7" name=""/>
              <p:cNvCxnSpPr/>
              <p:nvPr/>
            </p:nvCxnSpPr>
            <p:spPr>
              <a:xfrm flipV="1">
                <a:off x="5943240" y="2133360"/>
                <a:ext cx="108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" name=""/>
              <p:cNvCxnSpPr/>
              <p:nvPr/>
            </p:nvCxnSpPr>
            <p:spPr>
              <a:xfrm>
                <a:off x="6400440" y="1904760"/>
                <a:ext cx="61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" name=""/>
              <p:cNvSpPr/>
              <p:nvPr/>
            </p:nvSpPr>
            <p:spPr>
              <a:xfrm>
                <a:off x="5564160" y="17524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-to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570280" y="2514600"/>
              <a:ext cx="808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1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685800" y="5334120"/>
          <a:ext cx="2692440" cy="88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334120"/>
                    <a:ext cx="26924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33840" y="121932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095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0880" y="3809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[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809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00240" y="4095720"/>
            <a:ext cx="2133720" cy="685800"/>
            <a:chOff x="4800240" y="4095720"/>
            <a:chExt cx="2133720" cy="685800"/>
          </a:xfrm>
        </p:grpSpPr>
        <p:cxnSp>
          <p:nvCxnSpPr>
            <p:cNvPr id="68" name=""/>
            <p:cNvCxnSpPr>
              <a:endCxn id="64" idx="1"/>
            </p:cNvCxnSpPr>
            <p:nvPr/>
          </p:nvCxnSpPr>
          <p:spPr>
            <a:xfrm>
              <a:off x="4800240" y="4286160"/>
              <a:ext cx="6102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/>
            <p:nvPr/>
          </p:nvCxnSpPr>
          <p:spPr>
            <a:xfrm flipV="1">
              <a:off x="5866920" y="447660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/>
            <p:nvPr/>
          </p:nvCxnSpPr>
          <p:spPr>
            <a:xfrm>
              <a:off x="6324120" y="424800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487840" y="4095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-to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93960" y="4857840"/>
            <a:ext cx="8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358128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9:41:39Z</dcterms:created>
  <dc:creator>rajbabu</dc:creator>
  <dc:description/>
  <dc:language>en-US</dc:language>
  <cp:lastModifiedBy>rajbabu</cp:lastModifiedBy>
  <dcterms:modified xsi:type="dcterms:W3CDTF">2002-07-09T22:01:13Z</dcterms:modified>
  <cp:revision>11</cp:revision>
  <dc:subject/>
  <dc:title>PowerPoint Presentation</dc:title>
</cp:coreProperties>
</file>